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bomb.wav" ContentType="audio/x-wav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4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jpeg" ContentType="image/jpeg"/>
  <Override PartName="/ppt/media/image28.wmf" ContentType="image/x-wmf"/>
  <Override PartName="/ppt/media/image25.wmf" ContentType="image/x-wmf"/>
  <Override PartName="/ppt/media/image12.wmf" ContentType="image/x-wmf"/>
  <Override PartName="/ppt/media/image49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38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0.wmf" ContentType="image/x-wmf"/>
  <Override PartName="/ppt/media/image7.png" ContentType="image/png"/>
  <Override PartName="/ppt/media/image15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8.jpeg" ContentType="image/jpeg"/>
  <Override PartName="/ppt/media/image41.wmf" ContentType="image/x-wmf"/>
  <Override PartName="/ppt/media/image9.wmf" ContentType="image/x-wmf"/>
  <Override PartName="/ppt/media/image39.wmf" ContentType="image/x-wmf"/>
  <Override PartName="/ppt/media/image4.gif" ContentType="image/gif"/>
  <Override PartName="/ppt/media/image30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wmf"/><Relationship Id="rId1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6.wmf"/><Relationship Id="rId20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7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8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8.wmf"/><Relationship Id="rId2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4.wmf"/><Relationship Id="rId1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3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4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5.wmf"/><Relationship Id="rId2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2.wmf"/><Relationship Id="rId10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143000" y="1725480"/>
            <a:ext cx="6629400" cy="3505320"/>
          </a:xfrm>
          <a:prstGeom prst="rect">
            <a:avLst/>
          </a:prstGeom>
          <a:blipFill rotWithShape="0">
            <a:blip r:embed="rId2">
              <a:alphaModFix amt="13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1828800" y="2201760"/>
            <a:ext cx="5410080" cy="24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A DISCRETE MODEL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of GRAVITY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with CAUSALITY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0" name="" descr=""/>
          <p:cNvPicPr/>
          <p:nvPr/>
        </p:nvPicPr>
        <p:blipFill>
          <a:blip r:embed="rId9"/>
          <a:stretch/>
        </p:blipFill>
        <p:spPr>
          <a:xfrm>
            <a:off x="5181480" y="38088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6094440" y="68112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trecht 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5560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ard  ’t Ho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ueckelberg  L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escara,  July  7-19,  20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838080" y="838080"/>
            <a:ext cx="430200" cy="2133720"/>
            <a:chOff x="838080" y="838080"/>
            <a:chExt cx="430200" cy="2133720"/>
          </a:xfrm>
        </p:grpSpPr>
        <p:sp>
          <p:nvSpPr>
            <p:cNvPr id="191" name=""/>
            <p:cNvSpPr/>
            <p:nvPr/>
          </p:nvSpPr>
          <p:spPr>
            <a:xfrm>
              <a:off x="838080" y="838080"/>
              <a:ext cx="10800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46080" y="1828800"/>
              <a:ext cx="322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376280" y="1066320"/>
            <a:ext cx="1290600" cy="1676520"/>
            <a:chOff x="1376280" y="1066320"/>
            <a:chExt cx="1290600" cy="1676520"/>
          </a:xfrm>
        </p:grpSpPr>
        <p:sp>
          <p:nvSpPr>
            <p:cNvPr id="194" name=""/>
            <p:cNvSpPr/>
            <p:nvPr/>
          </p:nvSpPr>
          <p:spPr>
            <a:xfrm flipV="1">
              <a:off x="1376280" y="1066320"/>
              <a:ext cx="12906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644480" y="1828800"/>
              <a:ext cx="3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791320" y="1142640"/>
            <a:ext cx="2590560" cy="1676520"/>
            <a:chOff x="5791320" y="1142640"/>
            <a:chExt cx="2590560" cy="1676520"/>
          </a:xfrm>
        </p:grpSpPr>
        <p:sp>
          <p:nvSpPr>
            <p:cNvPr id="197" name=""/>
            <p:cNvSpPr/>
            <p:nvPr/>
          </p:nvSpPr>
          <p:spPr>
            <a:xfrm flipV="1">
              <a:off x="5791320" y="1904760"/>
              <a:ext cx="925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716520" y="1142640"/>
              <a:ext cx="370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7764480" y="1980720"/>
              <a:ext cx="1234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764840" y="1294920"/>
              <a:ext cx="493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16520" y="1905120"/>
              <a:ext cx="1048320" cy="759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11800" y="1828800"/>
              <a:ext cx="370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222960" y="1828800"/>
              <a:ext cx="370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988680" y="1555920"/>
            <a:ext cx="423360" cy="729720"/>
            <a:chOff x="6988680" y="1555920"/>
            <a:chExt cx="423360" cy="729720"/>
          </a:xfrm>
        </p:grpSpPr>
        <p:sp>
          <p:nvSpPr>
            <p:cNvPr id="205" name=""/>
            <p:cNvSpPr/>
            <p:nvPr/>
          </p:nvSpPr>
          <p:spPr>
            <a:xfrm flipH="1">
              <a:off x="7009560" y="1600200"/>
              <a:ext cx="402120" cy="68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55" y="5941"/>
                  </a:moveTo>
                  <a:arcTo wR="10800" hR="10800" stAng="-9195715" swAng="18391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55" y="5941"/>
                  </a:moveTo>
                  <a:arcTo wR="10800" hR="10800" stAng="-9195715" swAng="18391865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88680" y="1555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581280" y="914400"/>
            <a:ext cx="1143000" cy="2133360"/>
            <a:chOff x="3581280" y="914400"/>
            <a:chExt cx="1143000" cy="2133360"/>
          </a:xfrm>
        </p:grpSpPr>
        <p:sp>
          <p:nvSpPr>
            <p:cNvPr id="208" name=""/>
            <p:cNvSpPr/>
            <p:nvPr/>
          </p:nvSpPr>
          <p:spPr>
            <a:xfrm flipV="1">
              <a:off x="3581280" y="1904760"/>
              <a:ext cx="5335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114800" y="114264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114440" y="1904760"/>
              <a:ext cx="1522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114800" y="9144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2" name=""/>
          <p:cNvGraphicFramePr/>
          <p:nvPr/>
        </p:nvGraphicFramePr>
        <p:xfrm>
          <a:off x="490680" y="1600200"/>
          <a:ext cx="347400" cy="44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0680" y="1600200"/>
                    <a:ext cx="3474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905120" y="1968480"/>
          <a:ext cx="496800" cy="469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1968480"/>
                    <a:ext cx="4968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477120" y="1143000"/>
          <a:ext cx="347400" cy="446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77120" y="1143000"/>
                    <a:ext cx="3474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7281720" y="1054080"/>
          <a:ext cx="795600" cy="469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281720" y="1054080"/>
                    <a:ext cx="7956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8354880" y="1111320"/>
          <a:ext cx="497160" cy="46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354880" y="1111320"/>
                    <a:ext cx="4971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6477120" y="2349360"/>
          <a:ext cx="795240" cy="470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477120" y="2349360"/>
                    <a:ext cx="795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803240" y="3349800"/>
          <a:ext cx="5359680" cy="612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03240" y="3349800"/>
                    <a:ext cx="53596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754920" y="4756320"/>
            <a:ext cx="77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 general,  Tr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+ 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can  be  anything.  Only  i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 angle  is  exactly  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can  the  newly  form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  be  a 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 if  the  angle  is  not 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7600" y="34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0280" y="49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88000" y="49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640" y="64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77560" y="6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36120" y="6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093680" y="1501920"/>
            <a:ext cx="573120" cy="2133360"/>
            <a:chOff x="1093680" y="1501920"/>
            <a:chExt cx="573120" cy="2133360"/>
          </a:xfrm>
        </p:grpSpPr>
        <p:sp>
          <p:nvSpPr>
            <p:cNvPr id="234" name=""/>
            <p:cNvSpPr/>
            <p:nvPr/>
          </p:nvSpPr>
          <p:spPr>
            <a:xfrm>
              <a:off x="1093680" y="1501920"/>
              <a:ext cx="14292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36600" y="2492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811160" y="1730520"/>
            <a:ext cx="1721160" cy="1676160"/>
            <a:chOff x="1811160" y="1730520"/>
            <a:chExt cx="1721160" cy="1676160"/>
          </a:xfrm>
        </p:grpSpPr>
        <p:sp>
          <p:nvSpPr>
            <p:cNvPr id="237" name=""/>
            <p:cNvSpPr/>
            <p:nvPr/>
          </p:nvSpPr>
          <p:spPr>
            <a:xfrm flipV="1">
              <a:off x="1811160" y="1730520"/>
              <a:ext cx="172116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169720" y="2492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56880" y="932040"/>
            <a:ext cx="28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app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903920" y="1501560"/>
            <a:ext cx="3249360" cy="2438280"/>
            <a:chOff x="4903920" y="1501560"/>
            <a:chExt cx="3249360" cy="2438280"/>
          </a:xfrm>
        </p:grpSpPr>
        <p:sp>
          <p:nvSpPr>
            <p:cNvPr id="241" name=""/>
            <p:cNvSpPr/>
            <p:nvPr/>
          </p:nvSpPr>
          <p:spPr>
            <a:xfrm flipV="1">
              <a:off x="5818320" y="256860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903920" y="1501560"/>
              <a:ext cx="3249360" cy="2438280"/>
              <a:chOff x="4903920" y="1501560"/>
              <a:chExt cx="3249360" cy="243828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4903920" y="3025800"/>
                <a:ext cx="91440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6199200" y="1730520"/>
                <a:ext cx="38088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flipV="1">
                <a:off x="7646760" y="3330360"/>
                <a:ext cx="22860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7570800" y="2568240"/>
                <a:ext cx="7632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7570800" y="1501560"/>
                <a:ext cx="15228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18320" y="3025800"/>
                <a:ext cx="18288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199200" y="2568600"/>
                <a:ext cx="13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723080" y="2644920"/>
                <a:ext cx="430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5540040" y="2644920"/>
                <a:ext cx="430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795000" y="2195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657840" y="28400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54" name=""/>
          <p:cNvGraphicFramePr/>
          <p:nvPr/>
        </p:nvGraphicFramePr>
        <p:xfrm>
          <a:off x="2313000" y="4165560"/>
          <a:ext cx="4195800" cy="6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13000" y="4165560"/>
                    <a:ext cx="41958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687600" y="5334120"/>
            <a:ext cx="75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 is  a  delicate  exercise  in  mathematical 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  sometime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but  sometime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015240" y="2627280"/>
            <a:ext cx="1593000" cy="484200"/>
            <a:chOff x="6015240" y="2627280"/>
            <a:chExt cx="1593000" cy="484200"/>
          </a:xfrm>
        </p:grpSpPr>
        <p:sp>
          <p:nvSpPr>
            <p:cNvPr id="258" name=""/>
            <p:cNvSpPr/>
            <p:nvPr/>
          </p:nvSpPr>
          <p:spPr>
            <a:xfrm>
              <a:off x="7301160" y="2743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15240" y="2627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2280" y="5029200"/>
            <a:ext cx="2743200" cy="1371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133720" y="380880"/>
            <a:ext cx="3733560" cy="3885840"/>
            <a:chOff x="2133720" y="380880"/>
            <a:chExt cx="3733560" cy="3885840"/>
          </a:xfrm>
        </p:grpSpPr>
        <p:grpSp>
          <p:nvGrpSpPr>
            <p:cNvPr id="262" name=""/>
            <p:cNvGrpSpPr/>
            <p:nvPr/>
          </p:nvGrpSpPr>
          <p:grpSpPr>
            <a:xfrm>
              <a:off x="2133720" y="457200"/>
              <a:ext cx="3733560" cy="3809520"/>
              <a:chOff x="2133720" y="457200"/>
              <a:chExt cx="3733560" cy="3809520"/>
            </a:xfrm>
          </p:grpSpPr>
          <p:sp>
            <p:nvSpPr>
              <p:cNvPr id="263" name=""/>
              <p:cNvSpPr/>
              <p:nvPr/>
            </p:nvSpPr>
            <p:spPr>
              <a:xfrm>
                <a:off x="3048120" y="1676160"/>
                <a:ext cx="1904760" cy="137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2133720" y="457200"/>
                <a:ext cx="91440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4952880" y="457200"/>
                <a:ext cx="91440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2133720" y="3047760"/>
                <a:ext cx="3733560" cy="1218960"/>
                <a:chOff x="2133720" y="3047760"/>
                <a:chExt cx="3733560" cy="1218960"/>
              </a:xfrm>
            </p:grpSpPr>
            <p:sp>
              <p:nvSpPr>
                <p:cNvPr id="267" name=""/>
                <p:cNvSpPr/>
                <p:nvPr/>
              </p:nvSpPr>
              <p:spPr>
                <a:xfrm flipH="1">
                  <a:off x="2133720" y="3047760"/>
                  <a:ext cx="91440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952880" y="3047760"/>
                  <a:ext cx="91440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aphicFrame>
          <p:nvGraphicFramePr>
            <p:cNvPr id="269" name=""/>
            <p:cNvGraphicFramePr/>
            <p:nvPr/>
          </p:nvGraphicFramePr>
          <p:xfrm>
            <a:off x="2514600" y="380880"/>
            <a:ext cx="533520" cy="685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14600" y="380880"/>
                      <a:ext cx="5335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1" name=""/>
            <p:cNvGraphicFramePr/>
            <p:nvPr/>
          </p:nvGraphicFramePr>
          <p:xfrm>
            <a:off x="4933800" y="380880"/>
            <a:ext cx="571680" cy="685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933800" y="380880"/>
                      <a:ext cx="5716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3" name=""/>
            <p:cNvGraphicFramePr/>
            <p:nvPr/>
          </p:nvGraphicFramePr>
          <p:xfrm>
            <a:off x="2590920" y="3505320"/>
            <a:ext cx="571320" cy="685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90920" y="3505320"/>
                      <a:ext cx="5713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"/>
            <p:cNvGraphicFramePr/>
            <p:nvPr/>
          </p:nvGraphicFramePr>
          <p:xfrm>
            <a:off x="4915080" y="3505320"/>
            <a:ext cx="571320" cy="685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915080" y="3505320"/>
                      <a:ext cx="5713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"/>
            <p:cNvGraphicFramePr/>
            <p:nvPr/>
          </p:nvGraphicFramePr>
          <p:xfrm>
            <a:off x="3714840" y="1066680"/>
            <a:ext cx="609480" cy="6858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714840" y="1066680"/>
                      <a:ext cx="6094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"/>
            <p:cNvGraphicFramePr/>
            <p:nvPr/>
          </p:nvGraphicFramePr>
          <p:xfrm>
            <a:off x="4991040" y="1981080"/>
            <a:ext cx="571680" cy="6858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991040" y="1981080"/>
                      <a:ext cx="5716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"/>
            <p:cNvGraphicFramePr/>
            <p:nvPr/>
          </p:nvGraphicFramePr>
          <p:xfrm>
            <a:off x="3733920" y="2362320"/>
            <a:ext cx="571320" cy="6858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733920" y="2362320"/>
                      <a:ext cx="5713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"/>
            <p:cNvGraphicFramePr/>
            <p:nvPr/>
          </p:nvGraphicFramePr>
          <p:xfrm>
            <a:off x="2438280" y="1981080"/>
            <a:ext cx="609840" cy="6858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438280" y="1981080"/>
                      <a:ext cx="6098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85" name=""/>
          <p:cNvGraphicFramePr/>
          <p:nvPr/>
        </p:nvGraphicFramePr>
        <p:xfrm>
          <a:off x="341280" y="5089680"/>
          <a:ext cx="8427960" cy="12348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41280" y="5089680"/>
                    <a:ext cx="84279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700560" y="4572000"/>
            <a:ext cx="326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ation  and  conven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380520" y="228600"/>
            <a:ext cx="2439000" cy="2514600"/>
            <a:chOff x="380520" y="228600"/>
            <a:chExt cx="2439000" cy="2514600"/>
          </a:xfrm>
        </p:grpSpPr>
        <p:grpSp>
          <p:nvGrpSpPr>
            <p:cNvPr id="289" name=""/>
            <p:cNvGrpSpPr/>
            <p:nvPr/>
          </p:nvGrpSpPr>
          <p:grpSpPr>
            <a:xfrm>
              <a:off x="380520" y="425520"/>
              <a:ext cx="2439000" cy="2241000"/>
              <a:chOff x="380520" y="425520"/>
              <a:chExt cx="2439000" cy="2241000"/>
            </a:xfrm>
          </p:grpSpPr>
          <p:sp>
            <p:nvSpPr>
              <p:cNvPr id="290" name=""/>
              <p:cNvSpPr/>
              <p:nvPr/>
            </p:nvSpPr>
            <p:spPr>
              <a:xfrm>
                <a:off x="978120" y="1142640"/>
                <a:ext cx="1244160" cy="806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380520" y="425520"/>
                <a:ext cx="597240" cy="71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2222280" y="425520"/>
                <a:ext cx="597240" cy="71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380520" y="1949400"/>
                <a:ext cx="2439000" cy="717120"/>
                <a:chOff x="380520" y="1949400"/>
                <a:chExt cx="2439000" cy="717120"/>
              </a:xfrm>
            </p:grpSpPr>
            <p:sp>
              <p:nvSpPr>
                <p:cNvPr id="294" name=""/>
                <p:cNvSpPr/>
                <p:nvPr/>
              </p:nvSpPr>
              <p:spPr>
                <a:xfrm flipH="1">
                  <a:off x="380520" y="1949400"/>
                  <a:ext cx="597240" cy="71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222280" y="1949400"/>
                  <a:ext cx="597240" cy="71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aphicFrame>
          <p:nvGraphicFramePr>
            <p:cNvPr id="296" name=""/>
            <p:cNvGraphicFramePr/>
            <p:nvPr/>
          </p:nvGraphicFramePr>
          <p:xfrm>
            <a:off x="630360" y="228600"/>
            <a:ext cx="474480" cy="550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0360" y="228600"/>
                      <a:ext cx="474480" cy="55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8" name=""/>
            <p:cNvGraphicFramePr/>
            <p:nvPr/>
          </p:nvGraphicFramePr>
          <p:xfrm>
            <a:off x="2057400" y="228600"/>
            <a:ext cx="506520" cy="547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057400" y="228600"/>
                      <a:ext cx="50652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0" name=""/>
            <p:cNvGraphicFramePr/>
            <p:nvPr/>
          </p:nvGraphicFramePr>
          <p:xfrm>
            <a:off x="679320" y="2195640"/>
            <a:ext cx="506520" cy="547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79320" y="2195640"/>
                      <a:ext cx="50652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2" name=""/>
            <p:cNvGraphicFramePr/>
            <p:nvPr/>
          </p:nvGraphicFramePr>
          <p:xfrm>
            <a:off x="2057400" y="2195640"/>
            <a:ext cx="506520" cy="547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0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057400" y="2195640"/>
                      <a:ext cx="50652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4" name=""/>
            <p:cNvGraphicFramePr/>
            <p:nvPr/>
          </p:nvGraphicFramePr>
          <p:xfrm>
            <a:off x="1413000" y="631800"/>
            <a:ext cx="541080" cy="5475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0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413000" y="631800"/>
                      <a:ext cx="54108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6" name=""/>
            <p:cNvGraphicFramePr/>
            <p:nvPr/>
          </p:nvGraphicFramePr>
          <p:xfrm>
            <a:off x="2313000" y="1281240"/>
            <a:ext cx="506520" cy="5475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313000" y="1281240"/>
                      <a:ext cx="50652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" name=""/>
            <p:cNvGraphicFramePr/>
            <p:nvPr/>
          </p:nvGraphicFramePr>
          <p:xfrm>
            <a:off x="1425600" y="1433520"/>
            <a:ext cx="506520" cy="547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425600" y="1433520"/>
                      <a:ext cx="50652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0" name=""/>
            <p:cNvGraphicFramePr/>
            <p:nvPr/>
          </p:nvGraphicFramePr>
          <p:xfrm>
            <a:off x="457200" y="1281240"/>
            <a:ext cx="541440" cy="5475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57200" y="1281240"/>
                      <a:ext cx="54144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2" name=""/>
          <p:cNvSpPr/>
          <p:nvPr/>
        </p:nvSpPr>
        <p:spPr>
          <a:xfrm>
            <a:off x="3270240" y="533520"/>
            <a:ext cx="565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 Lorentz  group  elements  have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 of  free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  i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onstraint  for  eac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 the  4  internal  li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53400" y="2225520"/>
            <a:ext cx="534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 have  a  2  dimensional  space 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3280" y="3200400"/>
            <a:ext cx="45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  #1:   write  in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4991040" y="3473280"/>
          <a:ext cx="3340080" cy="1068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991040" y="3473280"/>
                    <a:ext cx="33400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684000" y="4419720"/>
            <a:ext cx="62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(Tr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   are  fou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onstraints  on  the  coefficient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70320" y="5334120"/>
            <a:ext cx="73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Re(Tr(Q))| &lt; 2  gives  a  4 - dimensional  hypercu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39000" y="5830920"/>
            <a:ext cx="7328160" cy="890640"/>
            <a:chOff x="639000" y="5830920"/>
            <a:chExt cx="7328160" cy="890640"/>
          </a:xfrm>
        </p:grpSpPr>
        <p:sp>
          <p:nvSpPr>
            <p:cNvPr id="320" name=""/>
            <p:cNvSpPr/>
            <p:nvPr/>
          </p:nvSpPr>
          <p:spPr>
            <a:xfrm>
              <a:off x="639000" y="5830920"/>
              <a:ext cx="732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wo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quadr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conditions  remain:  Re (det(     ))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m (det(     ))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1" name=""/>
            <p:cNvGraphicFramePr/>
            <p:nvPr/>
          </p:nvGraphicFramePr>
          <p:xfrm>
            <a:off x="6691320" y="5851440"/>
            <a:ext cx="463680" cy="5223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22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6691320" y="5851440"/>
                      <a:ext cx="463680" cy="52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3" name=""/>
            <p:cNvGraphicFramePr/>
            <p:nvPr/>
          </p:nvGraphicFramePr>
          <p:xfrm>
            <a:off x="6694560" y="6199200"/>
            <a:ext cx="463680" cy="5223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324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6694560" y="6199200"/>
                      <a:ext cx="463680" cy="52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 rot="19072800">
            <a:off x="4708440" y="2197080"/>
            <a:ext cx="2178000" cy="41594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90920" y="2819520"/>
            <a:ext cx="380988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20049600">
            <a:off x="3382920" y="2124000"/>
            <a:ext cx="2270160" cy="4138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48320" y="1828800"/>
            <a:ext cx="3352680" cy="3276720"/>
          </a:xfrm>
          <a:prstGeom prst="rect">
            <a:avLst/>
          </a:prstGeom>
          <a:solidFill>
            <a:srgbClr val="7ebe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152280"/>
            <a:ext cx="5105520" cy="510552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3333cc">
                  <a:alpha val="3529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590920" y="1828800"/>
            <a:ext cx="2057400" cy="99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590920" y="5105160"/>
            <a:ext cx="20574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400800" y="182880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400800" y="5105160"/>
            <a:ext cx="16002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2819520"/>
            <a:ext cx="3809880" cy="3733560"/>
          </a:xfrm>
          <a:prstGeom prst="rect">
            <a:avLst/>
          </a:prstGeom>
          <a:solidFill>
            <a:srgbClr val="ccff66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590920" y="1828800"/>
            <a:ext cx="2057400" cy="990720"/>
          </a:xfrm>
          <a:prstGeom prst="line">
            <a:avLst/>
          </a:prstGeom>
          <a:ln w="9360">
            <a:solidFill>
              <a:srgbClr val="459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 rot="10536600">
            <a:off x="764640" y="1189440"/>
            <a:ext cx="4875840" cy="163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573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5737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803880" y="1073880"/>
            <a:ext cx="2443320" cy="326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840" y="1248"/>
                </a:moveTo>
                <a:arcTo wR="10800" hR="10800" stAng="-3730739" swAng="3488940"/>
                <a:lnTo>
                  <a:pt x="10800" y="10800"/>
                </a:lnTo>
                <a:close/>
              </a:path>
              <a:path fill="none" w="21600" h="21600">
                <a:moveTo>
                  <a:pt x="15840" y="1248"/>
                </a:moveTo>
                <a:arcTo wR="10800" hR="10800" stAng="-3730739" swAng="348894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369520" y="263520"/>
            <a:ext cx="2480760" cy="49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54" y="16985"/>
                </a:moveTo>
                <a:arcTo wR="10800" hR="10800" stAng="2096299" swAng="6675380"/>
                <a:lnTo>
                  <a:pt x="10800" y="10800"/>
                </a:lnTo>
                <a:close/>
              </a:path>
              <a:path fill="none" w="21600" h="21600">
                <a:moveTo>
                  <a:pt x="19654" y="16985"/>
                </a:moveTo>
                <a:arcTo wR="10800" hR="10800" stAng="2096299" swAng="6675380"/>
              </a:path>
            </a:pathLst>
          </a:custGeom>
          <a:noFill/>
          <a:ln w="9360">
            <a:solidFill>
              <a:srgbClr val="459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9960" y="76320"/>
            <a:ext cx="785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 is  not  clear  whether  or  when  these  two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atic  curves  have  points  within  our  hypercub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ut  we  can  do  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4680" y="1371600"/>
            <a:ext cx="72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 the  Lorentz  frame  where  string  #1  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 and  in  th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ir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5122800" y="1913040"/>
          <a:ext cx="3554640" cy="113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22800" y="1913040"/>
                    <a:ext cx="355464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457200" y="3124080"/>
          <a:ext cx="653580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124080"/>
                    <a:ext cx="653580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441360" y="3657600"/>
          <a:ext cx="8391600" cy="1095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1360" y="3657600"/>
                    <a:ext cx="83916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7" name=""/>
          <p:cNvGrpSpPr/>
          <p:nvPr/>
        </p:nvGrpSpPr>
        <p:grpSpPr>
          <a:xfrm>
            <a:off x="448560" y="5029200"/>
            <a:ext cx="8390520" cy="1598040"/>
            <a:chOff x="448560" y="5029200"/>
            <a:chExt cx="8390520" cy="1598040"/>
          </a:xfrm>
        </p:grpSpPr>
        <p:grpSp>
          <p:nvGrpSpPr>
            <p:cNvPr id="348" name=""/>
            <p:cNvGrpSpPr/>
            <p:nvPr/>
          </p:nvGrpSpPr>
          <p:grpSpPr>
            <a:xfrm>
              <a:off x="448560" y="5029200"/>
              <a:ext cx="6383520" cy="1598040"/>
              <a:chOff x="448560" y="5029200"/>
              <a:chExt cx="6383520" cy="1598040"/>
            </a:xfrm>
          </p:grpSpPr>
          <p:sp>
            <p:nvSpPr>
              <p:cNvPr id="349" name=""/>
              <p:cNvSpPr/>
              <p:nvPr/>
            </p:nvSpPr>
            <p:spPr>
              <a:xfrm>
                <a:off x="448560" y="5070600"/>
                <a:ext cx="6383520" cy="155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  the  frame                      string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is  static  as  well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e  must  impose: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   becau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s  the  boost  giving  the  velocity  of  the  joint.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50" name=""/>
              <p:cNvGraphicFramePr/>
              <p:nvPr/>
            </p:nvGraphicFramePr>
            <p:xfrm>
              <a:off x="2409840" y="5029200"/>
              <a:ext cx="801720" cy="4809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351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2409840" y="5029200"/>
                        <a:ext cx="801720" cy="48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52" name=""/>
              <p:cNvGraphicFramePr/>
              <p:nvPr/>
            </p:nvGraphicFramePr>
            <p:xfrm>
              <a:off x="4135680" y="5456160"/>
              <a:ext cx="882360" cy="48276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353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4135680" y="5456160"/>
                        <a:ext cx="882360" cy="4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54" name=""/>
            <p:cNvGraphicFramePr/>
            <p:nvPr/>
          </p:nvGraphicFramePr>
          <p:xfrm>
            <a:off x="6324480" y="5359320"/>
            <a:ext cx="2514600" cy="11178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324480" y="5359320"/>
                      <a:ext cx="2514600" cy="111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63480" y="496800"/>
            <a:ext cx="665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,  go  to  the  frame  where  string  #3  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 and  in  the  z  dir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67240" y="1219320"/>
          <a:ext cx="3612960" cy="113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67240" y="1219320"/>
                    <a:ext cx="361296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9" name=""/>
          <p:cNvGrpSpPr/>
          <p:nvPr/>
        </p:nvGrpSpPr>
        <p:grpSpPr>
          <a:xfrm>
            <a:off x="669240" y="2478240"/>
            <a:ext cx="7161840" cy="1484280"/>
            <a:chOff x="669240" y="2478240"/>
            <a:chExt cx="7161840" cy="1484280"/>
          </a:xfrm>
        </p:grpSpPr>
        <p:sp>
          <p:nvSpPr>
            <p:cNvPr id="360" name=""/>
            <p:cNvSpPr/>
            <p:nvPr/>
          </p:nvSpPr>
          <p:spPr>
            <a:xfrm>
              <a:off x="669240" y="2478240"/>
              <a:ext cx="348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re,  one  must  hav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1" name=""/>
            <p:cNvGraphicFramePr/>
            <p:nvPr/>
          </p:nvGraphicFramePr>
          <p:xfrm>
            <a:off x="3273480" y="2867040"/>
            <a:ext cx="4557600" cy="1095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73480" y="2867040"/>
                      <a:ext cx="4557600" cy="10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3" name=""/>
          <p:cNvGrpSpPr/>
          <p:nvPr/>
        </p:nvGrpSpPr>
        <p:grpSpPr>
          <a:xfrm>
            <a:off x="669240" y="4160880"/>
            <a:ext cx="7707600" cy="2321640"/>
            <a:chOff x="669240" y="4160880"/>
            <a:chExt cx="7707600" cy="2321640"/>
          </a:xfrm>
        </p:grpSpPr>
        <p:sp>
          <p:nvSpPr>
            <p:cNvPr id="364" name=""/>
            <p:cNvSpPr/>
            <p:nvPr/>
          </p:nvSpPr>
          <p:spPr>
            <a:xfrm>
              <a:off x="669240" y="4194000"/>
              <a:ext cx="77076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f  one  would  choose          and          ,  then  this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ives   4  new  conditions,  of  which  only  3  are  new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ce  we  knew  already  that  the  determinant  is  re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ould  expec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this  to  fix  the  coeffici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and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wever,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something  els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happens ... 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5" name=""/>
            <p:cNvGraphicFramePr/>
            <p:nvPr/>
          </p:nvGraphicFramePr>
          <p:xfrm>
            <a:off x="3983040" y="4160880"/>
            <a:ext cx="481320" cy="610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6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983040" y="4160880"/>
                      <a:ext cx="481320" cy="61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7" name=""/>
            <p:cNvGraphicFramePr/>
            <p:nvPr/>
          </p:nvGraphicFramePr>
          <p:xfrm>
            <a:off x="5278680" y="4162320"/>
            <a:ext cx="514440" cy="611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78680" y="4162320"/>
                      <a:ext cx="514440" cy="61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9" name=""/>
          <p:cNvGrpSpPr/>
          <p:nvPr/>
        </p:nvGrpSpPr>
        <p:grpSpPr>
          <a:xfrm>
            <a:off x="762120" y="1676520"/>
            <a:ext cx="2437920" cy="2514600"/>
            <a:chOff x="762120" y="1676520"/>
            <a:chExt cx="2437920" cy="2514600"/>
          </a:xfrm>
        </p:grpSpPr>
        <p:grpSp>
          <p:nvGrpSpPr>
            <p:cNvPr id="370" name=""/>
            <p:cNvGrpSpPr/>
            <p:nvPr/>
          </p:nvGrpSpPr>
          <p:grpSpPr>
            <a:xfrm>
              <a:off x="762120" y="1873440"/>
              <a:ext cx="2437920" cy="2241000"/>
              <a:chOff x="762120" y="1873440"/>
              <a:chExt cx="2437920" cy="2241000"/>
            </a:xfrm>
          </p:grpSpPr>
          <p:sp>
            <p:nvSpPr>
              <p:cNvPr id="371" name=""/>
              <p:cNvSpPr/>
              <p:nvPr/>
            </p:nvSpPr>
            <p:spPr>
              <a:xfrm>
                <a:off x="1359000" y="2590560"/>
                <a:ext cx="1243800" cy="806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62120" y="1873440"/>
                <a:ext cx="596880" cy="71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603160" y="1873440"/>
                <a:ext cx="596880" cy="71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762120" y="3397320"/>
                <a:ext cx="2437920" cy="717120"/>
                <a:chOff x="762120" y="3397320"/>
                <a:chExt cx="2437920" cy="717120"/>
              </a:xfrm>
            </p:grpSpPr>
            <p:sp>
              <p:nvSpPr>
                <p:cNvPr id="375" name=""/>
                <p:cNvSpPr/>
                <p:nvPr/>
              </p:nvSpPr>
              <p:spPr>
                <a:xfrm flipH="1">
                  <a:off x="762120" y="3397320"/>
                  <a:ext cx="596880" cy="71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603160" y="3397320"/>
                  <a:ext cx="596880" cy="71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aphicFrame>
          <p:nvGraphicFramePr>
            <p:cNvPr id="377" name=""/>
            <p:cNvGraphicFramePr/>
            <p:nvPr/>
          </p:nvGraphicFramePr>
          <p:xfrm>
            <a:off x="1011240" y="1676520"/>
            <a:ext cx="474120" cy="5508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7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011240" y="1676520"/>
                      <a:ext cx="474120" cy="55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9" name=""/>
            <p:cNvGraphicFramePr/>
            <p:nvPr/>
          </p:nvGraphicFramePr>
          <p:xfrm>
            <a:off x="2438280" y="1676520"/>
            <a:ext cx="506160" cy="5475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438280" y="1676520"/>
                      <a:ext cx="50616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"/>
            <p:cNvGraphicFramePr/>
            <p:nvPr/>
          </p:nvGraphicFramePr>
          <p:xfrm>
            <a:off x="1060200" y="3643560"/>
            <a:ext cx="506160" cy="547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38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060200" y="3643560"/>
                      <a:ext cx="50616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3" name=""/>
            <p:cNvGraphicFramePr/>
            <p:nvPr/>
          </p:nvGraphicFramePr>
          <p:xfrm>
            <a:off x="2438280" y="3643560"/>
            <a:ext cx="506160" cy="5475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438280" y="3643560"/>
                      <a:ext cx="50616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5" name=""/>
            <p:cNvGraphicFramePr/>
            <p:nvPr/>
          </p:nvGraphicFramePr>
          <p:xfrm>
            <a:off x="1793880" y="2079720"/>
            <a:ext cx="540720" cy="5475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86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793880" y="2079720"/>
                      <a:ext cx="54072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7" name=""/>
            <p:cNvGraphicFramePr/>
            <p:nvPr/>
          </p:nvGraphicFramePr>
          <p:xfrm>
            <a:off x="2693880" y="2729160"/>
            <a:ext cx="506160" cy="5475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88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2693880" y="2729160"/>
                      <a:ext cx="50616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9" name=""/>
            <p:cNvGraphicFramePr/>
            <p:nvPr/>
          </p:nvGraphicFramePr>
          <p:xfrm>
            <a:off x="1806480" y="2881440"/>
            <a:ext cx="506160" cy="5475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390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1806480" y="2881440"/>
                      <a:ext cx="50616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1" name=""/>
            <p:cNvGraphicFramePr/>
            <p:nvPr/>
          </p:nvGraphicFramePr>
          <p:xfrm>
            <a:off x="838080" y="2729160"/>
            <a:ext cx="541080" cy="54756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392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838080" y="2729160"/>
                      <a:ext cx="54108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3280" y="762120"/>
            <a:ext cx="789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 found  that  for  all  initial  string 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 are  four  coefficients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depending 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 the  external  string  holonomies,  such 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124080" y="2209680"/>
          <a:ext cx="2229120" cy="109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2209680"/>
                    <a:ext cx="222912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6" name=""/>
          <p:cNvGrpSpPr/>
          <p:nvPr/>
        </p:nvGrpSpPr>
        <p:grpSpPr>
          <a:xfrm>
            <a:off x="758520" y="3429000"/>
            <a:ext cx="7270200" cy="856800"/>
            <a:chOff x="758520" y="3429000"/>
            <a:chExt cx="7270200" cy="856800"/>
          </a:xfrm>
        </p:grpSpPr>
        <p:sp>
          <p:nvSpPr>
            <p:cNvPr id="397" name=""/>
            <p:cNvSpPr/>
            <p:nvPr/>
          </p:nvSpPr>
          <p:spPr>
            <a:xfrm>
              <a:off x="758520" y="3460320"/>
              <a:ext cx="727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  one  cannot  choose          freely !       Instead,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 coefficients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 ...  are  still  underdetermin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8" name=""/>
            <p:cNvGraphicFramePr/>
            <p:nvPr/>
          </p:nvGraphicFramePr>
          <p:xfrm>
            <a:off x="4378320" y="3429000"/>
            <a:ext cx="468360" cy="599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78320" y="3429000"/>
                      <a:ext cx="468360" cy="59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00" name=""/>
          <p:cNvGrpSpPr/>
          <p:nvPr/>
        </p:nvGrpSpPr>
        <p:grpSpPr>
          <a:xfrm>
            <a:off x="754200" y="4432320"/>
            <a:ext cx="7985160" cy="852480"/>
            <a:chOff x="754200" y="4432320"/>
            <a:chExt cx="7985160" cy="852480"/>
          </a:xfrm>
        </p:grpSpPr>
        <p:sp>
          <p:nvSpPr>
            <p:cNvPr id="401" name=""/>
            <p:cNvSpPr/>
            <p:nvPr/>
          </p:nvSpPr>
          <p:spPr>
            <a:xfrm>
              <a:off x="754200" y="4459320"/>
              <a:ext cx="798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 This  leaves  us  the  option  to  choose            inste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 finds  (from  the  symmetry  of  the  system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2" name=""/>
            <p:cNvGraphicFramePr/>
            <p:nvPr/>
          </p:nvGraphicFramePr>
          <p:xfrm>
            <a:off x="6831000" y="4432320"/>
            <a:ext cx="484200" cy="581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831000" y="4432320"/>
                      <a:ext cx="484200" cy="5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04" name=""/>
          <p:cNvGraphicFramePr/>
          <p:nvPr/>
        </p:nvGraphicFramePr>
        <p:xfrm>
          <a:off x="3241800" y="5454720"/>
          <a:ext cx="2260440" cy="109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41800" y="5454720"/>
                    <a:ext cx="226044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821880" y="609480"/>
            <a:ext cx="769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and  only  if  all  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  ar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the  strings 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 joints  between  the strings  ar  all  moving  wit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luminal  velocities.  This  is  necessary  fo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 of  the  scheme. 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124080" y="2209680"/>
          <a:ext cx="2229120" cy="109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2209680"/>
                    <a:ext cx="222912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"/>
          <p:cNvSpPr/>
          <p:nvPr/>
        </p:nvSpPr>
        <p:spPr>
          <a:xfrm>
            <a:off x="971640" y="3581280"/>
            <a:ext cx="703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 must  demand  that  this  is  consist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 the  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 be  excluded.  But  we  found  that  thi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l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pp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f  strings  move fas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646280" y="4505400"/>
          <a:ext cx="6003720" cy="484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4505400"/>
                    <a:ext cx="60037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429920" y="533520"/>
            <a:ext cx="50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 those  cases,  one  might  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00800" y="2398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257800" y="1103400"/>
            <a:ext cx="3048120" cy="3124080"/>
            <a:chOff x="5257800" y="1103400"/>
            <a:chExt cx="3048120" cy="3124080"/>
          </a:xfrm>
        </p:grpSpPr>
        <p:sp>
          <p:nvSpPr>
            <p:cNvPr id="415" name=""/>
            <p:cNvSpPr/>
            <p:nvPr/>
          </p:nvSpPr>
          <p:spPr>
            <a:xfrm>
              <a:off x="7875720" y="28558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486040" y="28558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57800" y="1484280"/>
              <a:ext cx="1447920" cy="2286000"/>
            </a:xfrm>
            <a:custGeom>
              <a:avLst/>
              <a:gdLst/>
              <a:ahLst/>
              <a:rect l="l" t="t" r="r" b="b"/>
              <a:pathLst>
                <a:path w="912" h="1440">
                  <a:moveTo>
                    <a:pt x="0" y="1440"/>
                  </a:moveTo>
                  <a:lnTo>
                    <a:pt x="384" y="1152"/>
                  </a:lnTo>
                  <a:lnTo>
                    <a:pt x="576" y="816"/>
                  </a:lnTo>
                  <a:lnTo>
                    <a:pt x="720" y="576"/>
                  </a:lnTo>
                  <a:lnTo>
                    <a:pt x="816" y="336"/>
                  </a:lnTo>
                  <a:lnTo>
                    <a:pt x="9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43800" y="1103400"/>
              <a:ext cx="380880" cy="3124080"/>
            </a:xfrm>
            <a:custGeom>
              <a:avLst/>
              <a:gdLst/>
              <a:ahLst/>
              <a:rect l="l" t="t" r="r" b="b"/>
              <a:pathLst>
                <a:path w="240" h="1968">
                  <a:moveTo>
                    <a:pt x="240" y="1968"/>
                  </a:moveTo>
                  <a:lnTo>
                    <a:pt x="48" y="1536"/>
                  </a:lnTo>
                  <a:lnTo>
                    <a:pt x="0" y="1104"/>
                  </a:lnTo>
                  <a:lnTo>
                    <a:pt x="48" y="816"/>
                  </a:lnTo>
                  <a:lnTo>
                    <a:pt x="48" y="576"/>
                  </a:ln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867280" y="3313080"/>
            <a:ext cx="1752840" cy="480960"/>
            <a:chOff x="5867280" y="3313080"/>
            <a:chExt cx="1752840" cy="480960"/>
          </a:xfrm>
        </p:grpSpPr>
        <p:sp>
          <p:nvSpPr>
            <p:cNvPr id="420" name=""/>
            <p:cNvSpPr/>
            <p:nvPr/>
          </p:nvSpPr>
          <p:spPr>
            <a:xfrm>
              <a:off x="5867280" y="3313080"/>
              <a:ext cx="1752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91680" y="3425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6172200" y="2779560"/>
            <a:ext cx="1371600" cy="368280"/>
            <a:chOff x="6172200" y="2779560"/>
            <a:chExt cx="1371600" cy="368280"/>
          </a:xfrm>
        </p:grpSpPr>
        <p:sp>
          <p:nvSpPr>
            <p:cNvPr id="423" name=""/>
            <p:cNvSpPr/>
            <p:nvPr/>
          </p:nvSpPr>
          <p:spPr>
            <a:xfrm>
              <a:off x="6172200" y="2779560"/>
              <a:ext cx="1371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83840" y="277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6553080" y="1636560"/>
            <a:ext cx="1067040" cy="381240"/>
            <a:chOff x="6553080" y="1636560"/>
            <a:chExt cx="1067040" cy="381240"/>
          </a:xfrm>
        </p:grpSpPr>
        <p:sp>
          <p:nvSpPr>
            <p:cNvPr id="426" name=""/>
            <p:cNvSpPr/>
            <p:nvPr/>
          </p:nvSpPr>
          <p:spPr>
            <a:xfrm>
              <a:off x="6553080" y="20178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36120" y="1636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117440" y="4532400"/>
            <a:ext cx="7198560" cy="1922760"/>
            <a:chOff x="1117440" y="4532400"/>
            <a:chExt cx="7198560" cy="1922760"/>
          </a:xfrm>
        </p:grpSpPr>
        <p:sp>
          <p:nvSpPr>
            <p:cNvPr id="429" name=""/>
            <p:cNvSpPr/>
            <p:nvPr/>
          </p:nvSpPr>
          <p:spPr>
            <a:xfrm>
              <a:off x="1117440" y="4532400"/>
              <a:ext cx="7198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ere  we  expect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e  parameter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 were  unable  to  verify  wether  such  solu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ways  ex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0" name=""/>
            <p:cNvGraphicFramePr/>
            <p:nvPr/>
          </p:nvGraphicFramePr>
          <p:xfrm>
            <a:off x="3968640" y="4592520"/>
            <a:ext cx="3880080" cy="454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68640" y="4592520"/>
                      <a:ext cx="3880080" cy="45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32" name=""/>
          <p:cNvGrpSpPr/>
          <p:nvPr/>
        </p:nvGrpSpPr>
        <p:grpSpPr>
          <a:xfrm>
            <a:off x="1093680" y="1501920"/>
            <a:ext cx="573120" cy="2133360"/>
            <a:chOff x="1093680" y="1501920"/>
            <a:chExt cx="573120" cy="2133360"/>
          </a:xfrm>
        </p:grpSpPr>
        <p:sp>
          <p:nvSpPr>
            <p:cNvPr id="433" name=""/>
            <p:cNvSpPr/>
            <p:nvPr/>
          </p:nvSpPr>
          <p:spPr>
            <a:xfrm>
              <a:off x="1093680" y="1501920"/>
              <a:ext cx="14292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36600" y="2492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811160" y="1730520"/>
            <a:ext cx="1721160" cy="1676160"/>
            <a:chOff x="1811160" y="1730520"/>
            <a:chExt cx="1721160" cy="1676160"/>
          </a:xfrm>
        </p:grpSpPr>
        <p:sp>
          <p:nvSpPr>
            <p:cNvPr id="436" name=""/>
            <p:cNvSpPr/>
            <p:nvPr/>
          </p:nvSpPr>
          <p:spPr>
            <a:xfrm flipV="1">
              <a:off x="1811160" y="1730520"/>
              <a:ext cx="172116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69720" y="2492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6640" y="762120"/>
            <a:ext cx="31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gravitating  particle  i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+ 1  dimens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26400" y="1660680"/>
            <a:ext cx="275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moving  particle  i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+ 1  dimens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09480" y="1697040"/>
            <a:ext cx="3352320" cy="3484080"/>
            <a:chOff x="609480" y="1697040"/>
            <a:chExt cx="3352320" cy="3484080"/>
          </a:xfrm>
        </p:grpSpPr>
        <p:grpSp>
          <p:nvGrpSpPr>
            <p:cNvPr id="46" name=""/>
            <p:cNvGrpSpPr/>
            <p:nvPr/>
          </p:nvGrpSpPr>
          <p:grpSpPr>
            <a:xfrm>
              <a:off x="609480" y="1981080"/>
              <a:ext cx="3352320" cy="3200040"/>
              <a:chOff x="609480" y="1981080"/>
              <a:chExt cx="3352320" cy="3200040"/>
            </a:xfrm>
          </p:grpSpPr>
          <p:sp>
            <p:nvSpPr>
              <p:cNvPr id="47" name=""/>
              <p:cNvSpPr/>
              <p:nvPr/>
            </p:nvSpPr>
            <p:spPr>
              <a:xfrm flipH="1">
                <a:off x="609480" y="1981080"/>
                <a:ext cx="3352320" cy="3200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97165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9716541"/>
                  </a:path>
                </a:pathLst>
              </a:custGeom>
              <a:solidFill>
                <a:srgbClr val="e3e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33360" y="3413160"/>
                <a:ext cx="336600" cy="336240"/>
              </a:xfrm>
              <a:prstGeom prst="ellipse">
                <a:avLst/>
              </a:prstGeom>
              <a:gradFill rotWithShape="0">
                <a:gsLst>
                  <a:gs pos="0">
                    <a:srgbClr val="a7f7d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2099880" y="1697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92320" y="1947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413240" y="2358720"/>
            <a:ext cx="4005000" cy="4109040"/>
            <a:chOff x="4413240" y="2358720"/>
            <a:chExt cx="4005000" cy="4109040"/>
          </a:xfrm>
        </p:grpSpPr>
        <p:sp>
          <p:nvSpPr>
            <p:cNvPr id="52" name=""/>
            <p:cNvSpPr/>
            <p:nvPr/>
          </p:nvSpPr>
          <p:spPr>
            <a:xfrm flipH="1" rot="4432800">
              <a:off x="4739040" y="2813040"/>
              <a:ext cx="3352320" cy="320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325" y="299"/>
                  </a:moveTo>
                  <a:arcTo wR="10800" hR="10800" stAng="-4588692" swAng="179127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325" y="299"/>
                  </a:moveTo>
                  <a:arcTo wR="10800" hR="10800" stAng="-4588692" swAng="17912748"/>
                </a:path>
              </a:pathLst>
            </a:custGeom>
            <a:solidFill>
              <a:srgbClr val="e3e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4432200">
              <a:off x="7633800" y="3338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4432200">
              <a:off x="7637040" y="5020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06840" y="4240080"/>
              <a:ext cx="244440" cy="336600"/>
            </a:xfrm>
            <a:prstGeom prst="ellipse">
              <a:avLst/>
            </a:prstGeom>
            <a:gradFill rotWithShape="0">
              <a:gsLst>
                <a:gs pos="0">
                  <a:srgbClr val="a7f7d3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5211720" y="441180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201840" y="17208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5764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18280" y="50767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98120" y="338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181480" y="3719520"/>
          <a:ext cx="1067040" cy="54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3719520"/>
                    <a:ext cx="106704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267080" y="5486400"/>
          <a:ext cx="1360440" cy="100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67080" y="5486400"/>
                    <a:ext cx="136044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"/>
                            </p:stCondLst>
                            <p:childTnLst>
                              <p:par>
                                <p:cTn id="13" nodeType="after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4560" y="685800"/>
            <a:ext cx="9006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 that  solutions  always  exist,  we 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 two  strings  collide,  new  string  segments 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en  a  string  segment  shrinks  to  zero  leng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similar  rule  will give  newly  formed  string  se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he  choice  of  a  solution  out  of  a  2-  or 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al  manyfold,  constitutes 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ter  equations  of  mo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 there  are  no  independent 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 of  freedom.  “Gravitons”  are  composed 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it  ha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 been  check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ther  the  string 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 always  be  chosen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is  is  prob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e  case.  hence  there  may  be  negative 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07640" y="733320"/>
            <a:ext cx="816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 model  cannot  be  quantized  in  the 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h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 because  the  matter - strings  tend  to  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continuous  spectrum  of  string  consta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 because  there  is  no  time  reversal  (or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 because  it  appears  that  strings  break  u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 do  not  often  rejo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61360" y="4390920"/>
            <a:ext cx="868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 there  may  be  interesting  ways 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ive  at  more  interesting  schemes.  For  instan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 limiting  ourselves  to  a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iscrete  sub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 the  Poin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  group:  a  (relativistic)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rystal  gro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3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577960" y="1035000"/>
            <a:ext cx="37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rystalline 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93160" y="234648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❖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 4d  space-time  by  a  discrete,  rectangular  latt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743200" y="3429000"/>
            <a:ext cx="3429000" cy="2286000"/>
            <a:chOff x="2743200" y="3429000"/>
            <a:chExt cx="3429000" cy="2286000"/>
          </a:xfrm>
        </p:grpSpPr>
        <p:grpSp>
          <p:nvGrpSpPr>
            <p:cNvPr id="444" name=""/>
            <p:cNvGrpSpPr/>
            <p:nvPr/>
          </p:nvGrpSpPr>
          <p:grpSpPr>
            <a:xfrm>
              <a:off x="2743200" y="3429000"/>
              <a:ext cx="3429000" cy="2286000"/>
              <a:chOff x="2743200" y="3429000"/>
              <a:chExt cx="3429000" cy="2286000"/>
            </a:xfrm>
          </p:grpSpPr>
          <p:sp>
            <p:nvSpPr>
              <p:cNvPr id="445" name=""/>
              <p:cNvSpPr/>
              <p:nvPr/>
            </p:nvSpPr>
            <p:spPr>
              <a:xfrm>
                <a:off x="2743200" y="3429000"/>
                <a:ext cx="3429000" cy="228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648320" y="3429000"/>
                <a:ext cx="144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29200" y="3429000"/>
                <a:ext cx="144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410080" y="3429000"/>
                <a:ext cx="180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791320" y="3429000"/>
                <a:ext cx="144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124080" y="3429000"/>
                <a:ext cx="180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505320" y="3429000"/>
                <a:ext cx="144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886200" y="3429000"/>
                <a:ext cx="144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67080" y="3429000"/>
                <a:ext cx="180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2743200" y="45720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43200" y="41911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43200" y="38098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43200" y="53341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743200" y="49528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130760" y="1219320"/>
            <a:ext cx="26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❖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defect  lines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209680" y="2057400"/>
            <a:ext cx="4876560" cy="3657600"/>
            <a:chOff x="2209680" y="2057400"/>
            <a:chExt cx="4876560" cy="3657600"/>
          </a:xfrm>
        </p:grpSpPr>
        <p:sp>
          <p:nvSpPr>
            <p:cNvPr id="461" name=""/>
            <p:cNvSpPr/>
            <p:nvPr/>
          </p:nvSpPr>
          <p:spPr>
            <a:xfrm flipH="1">
              <a:off x="4647960" y="2666880"/>
              <a:ext cx="243828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48320" y="2286000"/>
              <a:ext cx="1523880" cy="1905120"/>
            </a:xfrm>
            <a:prstGeom prst="rect">
              <a:avLst/>
            </a:prstGeom>
            <a:solidFill>
              <a:srgbClr val="bbe0e3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43200" y="4191120"/>
              <a:ext cx="3429000" cy="152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48320" y="4191120"/>
              <a:ext cx="14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5029200" y="2057400"/>
              <a:ext cx="763560" cy="3657240"/>
              <a:chOff x="5029200" y="2057400"/>
              <a:chExt cx="763560" cy="3657240"/>
            </a:xfrm>
          </p:grpSpPr>
          <p:sp>
            <p:nvSpPr>
              <p:cNvPr id="466" name=""/>
              <p:cNvSpPr/>
              <p:nvPr/>
            </p:nvSpPr>
            <p:spPr>
              <a:xfrm>
                <a:off x="5029200" y="2057400"/>
                <a:ext cx="1440" cy="36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0080" y="2057400"/>
                <a:ext cx="1800" cy="36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2057400"/>
                <a:ext cx="1440" cy="36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3124080" y="4191120"/>
              <a:ext cx="18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05320" y="4191120"/>
              <a:ext cx="14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86200" y="4191120"/>
              <a:ext cx="14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67080" y="4191120"/>
              <a:ext cx="18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43200" y="41911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648320" y="3809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2590920" y="4572000"/>
              <a:ext cx="3580920" cy="762120"/>
              <a:chOff x="2590920" y="4572000"/>
              <a:chExt cx="3580920" cy="762120"/>
            </a:xfrm>
          </p:grpSpPr>
          <p:sp>
            <p:nvSpPr>
              <p:cNvPr id="476" name=""/>
              <p:cNvSpPr/>
              <p:nvPr/>
            </p:nvSpPr>
            <p:spPr>
              <a:xfrm>
                <a:off x="2590920" y="4572000"/>
                <a:ext cx="358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590920" y="5334120"/>
                <a:ext cx="358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590920" y="4952880"/>
                <a:ext cx="358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4648320" y="34290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48320" y="30481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48320" y="2666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0" y="4114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2209680" y="4191120"/>
              <a:ext cx="24386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 flipH="1">
            <a:off x="2897640" y="2514960"/>
            <a:ext cx="3497760" cy="335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42" y="72"/>
                </a:moveTo>
                <a:arcTo wR="10800" hR="10800" stAng="-5003883" swAng="4568462"/>
                <a:lnTo>
                  <a:pt x="10800" y="10800"/>
                </a:lnTo>
                <a:close/>
              </a:path>
              <a:path fill="none" w="21600" h="21600">
                <a:moveTo>
                  <a:pt x="12042" y="72"/>
                </a:moveTo>
                <a:arcTo wR="10800" hR="10800" stAng="-5003883" swAng="4568462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63760" y="394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373280" y="1905120"/>
            <a:ext cx="4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446920" y="27795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127160" y="1066680"/>
            <a:ext cx="512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❖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ulate  how  the  defect  lines  evol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40080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257800" y="1752480"/>
            <a:ext cx="3048120" cy="3124080"/>
            <a:chOff x="5257800" y="1752480"/>
            <a:chExt cx="3048120" cy="3124080"/>
          </a:xfrm>
        </p:grpSpPr>
        <p:sp>
          <p:nvSpPr>
            <p:cNvPr id="491" name=""/>
            <p:cNvSpPr/>
            <p:nvPr/>
          </p:nvSpPr>
          <p:spPr>
            <a:xfrm>
              <a:off x="7875720" y="350496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5486040" y="350496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57800" y="2133360"/>
              <a:ext cx="1447920" cy="2286000"/>
            </a:xfrm>
            <a:custGeom>
              <a:avLst/>
              <a:gdLst/>
              <a:ahLst/>
              <a:rect l="l" t="t" r="r" b="b"/>
              <a:pathLst>
                <a:path w="912" h="1440">
                  <a:moveTo>
                    <a:pt x="0" y="1440"/>
                  </a:moveTo>
                  <a:lnTo>
                    <a:pt x="384" y="1152"/>
                  </a:lnTo>
                  <a:lnTo>
                    <a:pt x="576" y="816"/>
                  </a:lnTo>
                  <a:lnTo>
                    <a:pt x="720" y="576"/>
                  </a:lnTo>
                  <a:lnTo>
                    <a:pt x="816" y="336"/>
                  </a:lnTo>
                  <a:lnTo>
                    <a:pt x="9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43800" y="1752480"/>
              <a:ext cx="380880" cy="3124080"/>
            </a:xfrm>
            <a:custGeom>
              <a:avLst/>
              <a:gdLst/>
              <a:ahLst/>
              <a:rect l="l" t="t" r="r" b="b"/>
              <a:pathLst>
                <a:path w="240" h="1968">
                  <a:moveTo>
                    <a:pt x="240" y="1968"/>
                  </a:moveTo>
                  <a:lnTo>
                    <a:pt x="48" y="1536"/>
                  </a:lnTo>
                  <a:lnTo>
                    <a:pt x="0" y="1104"/>
                  </a:lnTo>
                  <a:lnTo>
                    <a:pt x="48" y="816"/>
                  </a:lnTo>
                  <a:lnTo>
                    <a:pt x="48" y="576"/>
                  </a:ln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867280" y="3962520"/>
            <a:ext cx="1752840" cy="480600"/>
            <a:chOff x="5867280" y="3962520"/>
            <a:chExt cx="1752840" cy="480600"/>
          </a:xfrm>
        </p:grpSpPr>
        <p:sp>
          <p:nvSpPr>
            <p:cNvPr id="496" name=""/>
            <p:cNvSpPr/>
            <p:nvPr/>
          </p:nvSpPr>
          <p:spPr>
            <a:xfrm>
              <a:off x="5867280" y="3962520"/>
              <a:ext cx="175284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691680" y="4074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6172200" y="3429000"/>
            <a:ext cx="1371600" cy="368280"/>
            <a:chOff x="6172200" y="3429000"/>
            <a:chExt cx="1371600" cy="368280"/>
          </a:xfrm>
        </p:grpSpPr>
        <p:sp>
          <p:nvSpPr>
            <p:cNvPr id="499" name=""/>
            <p:cNvSpPr/>
            <p:nvPr/>
          </p:nvSpPr>
          <p:spPr>
            <a:xfrm>
              <a:off x="6172200" y="3429000"/>
              <a:ext cx="1371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783840" y="342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6553080" y="2286000"/>
            <a:ext cx="1067040" cy="380880"/>
            <a:chOff x="6553080" y="2286000"/>
            <a:chExt cx="1067040" cy="380880"/>
          </a:xfrm>
        </p:grpSpPr>
        <p:sp>
          <p:nvSpPr>
            <p:cNvPr id="502" name=""/>
            <p:cNvSpPr/>
            <p:nvPr/>
          </p:nvSpPr>
          <p:spPr>
            <a:xfrm>
              <a:off x="6553080" y="26668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36120" y="2286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093680" y="2151000"/>
            <a:ext cx="573120" cy="2133360"/>
            <a:chOff x="1093680" y="2151000"/>
            <a:chExt cx="573120" cy="2133360"/>
          </a:xfrm>
        </p:grpSpPr>
        <p:sp>
          <p:nvSpPr>
            <p:cNvPr id="505" name=""/>
            <p:cNvSpPr/>
            <p:nvPr/>
          </p:nvSpPr>
          <p:spPr>
            <a:xfrm>
              <a:off x="1093680" y="2151000"/>
              <a:ext cx="14292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36600" y="314136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811160" y="2379600"/>
            <a:ext cx="1721160" cy="1676160"/>
            <a:chOff x="1811160" y="2379600"/>
            <a:chExt cx="1721160" cy="1676160"/>
          </a:xfrm>
        </p:grpSpPr>
        <p:sp>
          <p:nvSpPr>
            <p:cNvPr id="508" name=""/>
            <p:cNvSpPr/>
            <p:nvPr/>
          </p:nvSpPr>
          <p:spPr>
            <a:xfrm flipV="1">
              <a:off x="1811160" y="2379600"/>
              <a:ext cx="172116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2169720" y="314136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211760" y="5089680"/>
            <a:ext cx="677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ides  defect  angles,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gles  will  probably 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v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403640" y="1447920"/>
            <a:ext cx="17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❖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ze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23800" y="142884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ntize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05800" y="2678040"/>
            <a:ext cx="641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 the  basis  of  a  Hilbert  space  as  spanned 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ological  states / equivalence  classes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07960" y="3613320"/>
            <a:ext cx="62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onalize  the  Hamiltonian  (evolution  operator) 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 the  energy  eigen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404720" y="4549680"/>
            <a:ext cx="637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and  do  the  renormalization  group  trans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obtain  and  effective  field  theory  with  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09040" y="5486400"/>
            <a:ext cx="57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 this  point,  this  theory  is  still  at  its  infa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1905120" y="2419200"/>
            <a:ext cx="541008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 END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3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many-particle  universe  in  2+1  dimens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 now  be  constructed  by  tesselatio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uszkiewicz,  G.’t H,  Deser,  Jackiw,  Kad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85800" y="2133720"/>
            <a:ext cx="5410080" cy="4343400"/>
            <a:chOff x="685800" y="2133720"/>
            <a:chExt cx="5410080" cy="4343400"/>
          </a:xfrm>
        </p:grpSpPr>
        <p:sp>
          <p:nvSpPr>
            <p:cNvPr id="67" name=""/>
            <p:cNvSpPr/>
            <p:nvPr/>
          </p:nvSpPr>
          <p:spPr>
            <a:xfrm>
              <a:off x="685800" y="2133720"/>
              <a:ext cx="5410080" cy="4343400"/>
            </a:xfrm>
            <a:custGeom>
              <a:avLst/>
              <a:gdLst/>
              <a:ahLst/>
              <a:rect l="l" t="t" r="r" b="b"/>
              <a:pathLst>
                <a:path w="3408" h="2736">
                  <a:moveTo>
                    <a:pt x="624" y="720"/>
                  </a:moveTo>
                  <a:lnTo>
                    <a:pt x="336" y="96"/>
                  </a:lnTo>
                  <a:lnTo>
                    <a:pt x="1584" y="0"/>
                  </a:lnTo>
                  <a:lnTo>
                    <a:pt x="1488" y="768"/>
                  </a:lnTo>
                  <a:lnTo>
                    <a:pt x="2112" y="336"/>
                  </a:lnTo>
                  <a:lnTo>
                    <a:pt x="3408" y="1728"/>
                  </a:lnTo>
                  <a:lnTo>
                    <a:pt x="2448" y="1680"/>
                  </a:lnTo>
                  <a:lnTo>
                    <a:pt x="3312" y="2016"/>
                  </a:lnTo>
                  <a:lnTo>
                    <a:pt x="1824" y="2736"/>
                  </a:lnTo>
                  <a:lnTo>
                    <a:pt x="480" y="2016"/>
                  </a:lnTo>
                  <a:lnTo>
                    <a:pt x="1152" y="1536"/>
                  </a:lnTo>
                  <a:lnTo>
                    <a:pt x="288" y="1680"/>
                  </a:lnTo>
                  <a:lnTo>
                    <a:pt x="0" y="576"/>
                  </a:lnTo>
                  <a:lnTo>
                    <a:pt x="624" y="720"/>
                  </a:lnTo>
                  <a:close/>
                </a:path>
              </a:pathLst>
            </a:custGeom>
            <a:solidFill>
              <a:srgbClr val="e3e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68160" y="3168720"/>
              <a:ext cx="183960" cy="184320"/>
            </a:xfrm>
            <a:prstGeom prst="ellipse">
              <a:avLst/>
            </a:prstGeom>
            <a:gradFill rotWithShape="0">
              <a:gsLst>
                <a:gs pos="0">
                  <a:srgbClr val="a7f7d3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71440" y="3276720"/>
              <a:ext cx="183960" cy="184320"/>
            </a:xfrm>
            <a:prstGeom prst="ellipse">
              <a:avLst/>
            </a:prstGeom>
            <a:gradFill rotWithShape="0">
              <a:gsLst>
                <a:gs pos="0">
                  <a:srgbClr val="a7f7d3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06240" y="4496040"/>
              <a:ext cx="183960" cy="184320"/>
            </a:xfrm>
            <a:prstGeom prst="ellipse">
              <a:avLst/>
            </a:prstGeom>
            <a:gradFill rotWithShape="0">
              <a:gsLst>
                <a:gs pos="0">
                  <a:srgbClr val="a7f7d3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1640" y="4724640"/>
              <a:ext cx="183960" cy="184320"/>
            </a:xfrm>
            <a:prstGeom prst="ellipse">
              <a:avLst/>
            </a:prstGeom>
            <a:gradFill rotWithShape="0">
              <a:gsLst>
                <a:gs pos="0">
                  <a:srgbClr val="a7f7d3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559480" y="2286000"/>
            <a:ext cx="2416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 is  no 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vature;  the 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icl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s, 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in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8680" y="942840"/>
            <a:ext cx="77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+ 1  dimensional  cosmology  is  finite  and  inter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905120" y="2438280"/>
            <a:ext cx="4876560" cy="3810240"/>
            <a:chOff x="1905120" y="2438280"/>
            <a:chExt cx="4876560" cy="3810240"/>
          </a:xfrm>
        </p:grpSpPr>
        <p:sp>
          <p:nvSpPr>
            <p:cNvPr id="75" name=""/>
            <p:cNvSpPr/>
            <p:nvPr/>
          </p:nvSpPr>
          <p:spPr>
            <a:xfrm>
              <a:off x="1905120" y="2438280"/>
              <a:ext cx="4876560" cy="3810240"/>
            </a:xfrm>
            <a:custGeom>
              <a:avLst/>
              <a:gdLst/>
              <a:ahLst/>
              <a:rect l="l" t="t" r="r" b="b"/>
              <a:pathLst>
                <a:path w="3072" h="2400">
                  <a:moveTo>
                    <a:pt x="0" y="2400"/>
                  </a:moveTo>
                  <a:lnTo>
                    <a:pt x="144" y="1584"/>
                  </a:lnTo>
                  <a:lnTo>
                    <a:pt x="624" y="672"/>
                  </a:lnTo>
                  <a:lnTo>
                    <a:pt x="1680" y="288"/>
                  </a:lnTo>
                  <a:lnTo>
                    <a:pt x="3072" y="0"/>
                  </a:lnTo>
                  <a:lnTo>
                    <a:pt x="2304" y="1008"/>
                  </a:lnTo>
                  <a:lnTo>
                    <a:pt x="1344" y="1728"/>
                  </a:lnTo>
                  <a:lnTo>
                    <a:pt x="624" y="2064"/>
                  </a:lnTo>
                  <a:lnTo>
                    <a:pt x="432" y="2256"/>
                  </a:lnTo>
                  <a:lnTo>
                    <a:pt x="0" y="2400"/>
                  </a:lnTo>
                  <a:close/>
                </a:path>
              </a:pathLst>
            </a:custGeom>
            <a:solidFill>
              <a:srgbClr val="e3e8b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5120" y="2438280"/>
              <a:ext cx="4876560" cy="3810240"/>
            </a:xfrm>
            <a:custGeom>
              <a:avLst/>
              <a:gdLst/>
              <a:ahLst/>
              <a:rect l="l" t="t" r="r" b="b"/>
              <a:pathLst>
                <a:path w="3072" h="2400">
                  <a:moveTo>
                    <a:pt x="0" y="2400"/>
                  </a:moveTo>
                  <a:lnTo>
                    <a:pt x="672" y="1200"/>
                  </a:lnTo>
                  <a:lnTo>
                    <a:pt x="1584" y="912"/>
                  </a:lnTo>
                  <a:lnTo>
                    <a:pt x="2160" y="336"/>
                  </a:lnTo>
                  <a:lnTo>
                    <a:pt x="3072" y="0"/>
                  </a:lnTo>
                  <a:lnTo>
                    <a:pt x="1968" y="768"/>
                  </a:lnTo>
                  <a:lnTo>
                    <a:pt x="1056" y="768"/>
                  </a:lnTo>
                  <a:lnTo>
                    <a:pt x="528" y="1824"/>
                  </a:lnTo>
                  <a:lnTo>
                    <a:pt x="0" y="2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05120" y="2438280"/>
              <a:ext cx="4876560" cy="3810240"/>
            </a:xfrm>
            <a:custGeom>
              <a:avLst/>
              <a:gdLst/>
              <a:ahLst/>
              <a:rect l="l" t="t" r="r" b="b"/>
              <a:pathLst>
                <a:path w="3072" h="2400">
                  <a:moveTo>
                    <a:pt x="0" y="2400"/>
                  </a:moveTo>
                  <a:lnTo>
                    <a:pt x="1248" y="1392"/>
                  </a:lnTo>
                  <a:lnTo>
                    <a:pt x="1632" y="528"/>
                  </a:lnTo>
                  <a:lnTo>
                    <a:pt x="2544" y="528"/>
                  </a:lnTo>
                  <a:lnTo>
                    <a:pt x="30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 rot="1911600">
            <a:off x="1647360" y="5981760"/>
            <a:ext cx="662040" cy="479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 rot="2609400">
            <a:off x="6408360" y="2241720"/>
            <a:ext cx="662040" cy="479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196000" y="62085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70760" y="23623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5520" y="16398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antization  is diffic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5760" y="609480"/>
            <a:ext cx="810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 to  generalize  this  to  3 +1  (or  more)  dimension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23760" y="1828800"/>
            <a:ext cx="7000920" cy="1447920"/>
            <a:chOff x="923760" y="1828800"/>
            <a:chExt cx="7000920" cy="1447920"/>
          </a:xfrm>
        </p:grpSpPr>
        <p:sp>
          <p:nvSpPr>
            <p:cNvPr id="85" name=""/>
            <p:cNvSpPr/>
            <p:nvPr/>
          </p:nvSpPr>
          <p:spPr>
            <a:xfrm>
              <a:off x="923760" y="2629080"/>
              <a:ext cx="1447920" cy="9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5400000">
              <a:off x="3438360" y="723600"/>
              <a:ext cx="1447920" cy="3657600"/>
            </a:xfrm>
            <a:prstGeom prst="can">
              <a:avLst>
                <a:gd name="adj" fmla="val 17666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e7f2c5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43480" y="1828800"/>
              <a:ext cx="679320" cy="1447920"/>
            </a:xfrm>
            <a:prstGeom prst="ellipse">
              <a:avLst/>
            </a:prstGeom>
            <a:solidFill>
              <a:srgbClr val="5e9a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27400" y="2082960"/>
              <a:ext cx="3396960" cy="546120"/>
            </a:xfrm>
            <a:custGeom>
              <a:avLst/>
              <a:gdLst/>
              <a:ahLst/>
              <a:rect l="l" t="t" r="r" b="b"/>
              <a:pathLst>
                <a:path w="2140" h="344">
                  <a:moveTo>
                    <a:pt x="340" y="240"/>
                  </a:moveTo>
                  <a:lnTo>
                    <a:pt x="60" y="0"/>
                  </a:lnTo>
                  <a:lnTo>
                    <a:pt x="1948" y="8"/>
                  </a:lnTo>
                  <a:lnTo>
                    <a:pt x="2140" y="344"/>
                  </a:lnTo>
                  <a:lnTo>
                    <a:pt x="1900" y="248"/>
                  </a:lnTo>
                  <a:lnTo>
                    <a:pt x="0" y="24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6584400">
              <a:off x="2404800" y="2084040"/>
              <a:ext cx="406440" cy="571680"/>
            </a:xfrm>
            <a:prstGeom prst="triangle">
              <a:avLst>
                <a:gd name="adj" fmla="val 50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15000" y="2619360"/>
              <a:ext cx="22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4120" y="26384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447920" y="3733920"/>
            <a:ext cx="59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ght  strings  are  linelike  grav.  de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537240" y="2671920"/>
          <a:ext cx="1022400" cy="528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37240" y="2671920"/>
                    <a:ext cx="102240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" name=""/>
          <p:cNvGrpSpPr/>
          <p:nvPr/>
        </p:nvGrpSpPr>
        <p:grpSpPr>
          <a:xfrm>
            <a:off x="914400" y="4120200"/>
            <a:ext cx="7010280" cy="2070000"/>
            <a:chOff x="914400" y="4120200"/>
            <a:chExt cx="7010280" cy="2070000"/>
          </a:xfrm>
        </p:grpSpPr>
        <p:sp>
          <p:nvSpPr>
            <p:cNvPr id="96" name=""/>
            <p:cNvSpPr/>
            <p:nvPr/>
          </p:nvSpPr>
          <p:spPr>
            <a:xfrm>
              <a:off x="914400" y="5524560"/>
              <a:ext cx="1447920" cy="9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5400000">
              <a:off x="3467160" y="3619440"/>
              <a:ext cx="1447920" cy="3657600"/>
            </a:xfrm>
            <a:prstGeom prst="can">
              <a:avLst>
                <a:gd name="adj" fmla="val 1683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e7f2c5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07200" y="4724280"/>
              <a:ext cx="609480" cy="1447920"/>
            </a:xfrm>
            <a:prstGeom prst="ellipse">
              <a:avLst/>
            </a:prstGeom>
            <a:solidFill>
              <a:srgbClr val="5e9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10080" y="5486400"/>
              <a:ext cx="2514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52520" y="5200560"/>
              <a:ext cx="3310200" cy="968400"/>
            </a:xfrm>
            <a:custGeom>
              <a:avLst/>
              <a:gdLst/>
              <a:ahLst/>
              <a:rect l="l" t="t" r="r" b="b"/>
              <a:pathLst>
                <a:path w="2085" h="610">
                  <a:moveTo>
                    <a:pt x="0" y="3"/>
                  </a:moveTo>
                  <a:cubicBezTo>
                    <a:pt x="207" y="1"/>
                    <a:pt x="157" y="2"/>
                    <a:pt x="434" y="0"/>
                  </a:cubicBezTo>
                  <a:lnTo>
                    <a:pt x="1869" y="2"/>
                  </a:lnTo>
                  <a:lnTo>
                    <a:pt x="1881" y="176"/>
                  </a:lnTo>
                  <a:lnTo>
                    <a:pt x="1917" y="342"/>
                  </a:lnTo>
                  <a:lnTo>
                    <a:pt x="1988" y="514"/>
                  </a:lnTo>
                  <a:lnTo>
                    <a:pt x="2029" y="578"/>
                  </a:lnTo>
                  <a:lnTo>
                    <a:pt x="2085" y="610"/>
                  </a:lnTo>
                  <a:lnTo>
                    <a:pt x="236" y="607"/>
                  </a:lnTo>
                  <a:lnTo>
                    <a:pt x="189" y="600"/>
                  </a:lnTo>
                  <a:lnTo>
                    <a:pt x="143" y="562"/>
                  </a:lnTo>
                  <a:lnTo>
                    <a:pt x="96" y="492"/>
                  </a:lnTo>
                  <a:lnTo>
                    <a:pt x="53" y="390"/>
                  </a:lnTo>
                  <a:lnTo>
                    <a:pt x="32" y="298"/>
                  </a:lnTo>
                  <a:lnTo>
                    <a:pt x="5" y="169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eaf4cd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247480" y="4120200"/>
              <a:ext cx="732960" cy="204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56" y="9"/>
                  </a:moveTo>
                  <a:arcTo wR="10800" hR="10800" stAng="-5541521" swAng="53355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56" y="9"/>
                  </a:moveTo>
                  <a:arcTo wR="10800" hR="10800" stAng="-5541521" swAng="533553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 rot="5233200">
              <a:off x="4696920" y="4845600"/>
              <a:ext cx="1857600" cy="79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88" y="24"/>
                  </a:moveTo>
                  <a:arcTo wR="10800" hR="10800" stAng="-5626852" swAng="5785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88" y="24"/>
                  </a:moveTo>
                  <a:arcTo wR="10800" hR="10800" stAng="-5626852" swAng="578594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1080" y="52038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02080" y="571500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91280" y="5688000"/>
              <a:ext cx="423720" cy="484200"/>
            </a:xfrm>
            <a:custGeom>
              <a:avLst/>
              <a:gdLst/>
              <a:ahLst/>
              <a:rect l="l" t="t" r="r" b="b"/>
              <a:pathLst>
                <a:path w="267" h="305">
                  <a:moveTo>
                    <a:pt x="267" y="305"/>
                  </a:moveTo>
                  <a:cubicBezTo>
                    <a:pt x="257" y="304"/>
                    <a:pt x="227" y="303"/>
                    <a:pt x="206" y="296"/>
                  </a:cubicBezTo>
                  <a:cubicBezTo>
                    <a:pt x="185" y="289"/>
                    <a:pt x="162" y="277"/>
                    <a:pt x="143" y="262"/>
                  </a:cubicBezTo>
                  <a:cubicBezTo>
                    <a:pt x="124" y="247"/>
                    <a:pt x="106" y="223"/>
                    <a:pt x="92" y="203"/>
                  </a:cubicBezTo>
                  <a:cubicBezTo>
                    <a:pt x="78" y="183"/>
                    <a:pt x="66" y="160"/>
                    <a:pt x="56" y="139"/>
                  </a:cubicBezTo>
                  <a:cubicBezTo>
                    <a:pt x="46" y="118"/>
                    <a:pt x="36" y="88"/>
                    <a:pt x="32" y="79"/>
                  </a:cubicBezTo>
                  <a:cubicBezTo>
                    <a:pt x="28" y="70"/>
                    <a:pt x="32" y="90"/>
                    <a:pt x="30" y="85"/>
                  </a:cubicBezTo>
                  <a:cubicBezTo>
                    <a:pt x="28" y="80"/>
                    <a:pt x="21" y="57"/>
                    <a:pt x="18" y="47"/>
                  </a:cubicBezTo>
                  <a:cubicBezTo>
                    <a:pt x="15" y="37"/>
                    <a:pt x="0" y="27"/>
                    <a:pt x="11" y="22"/>
                  </a:cubicBezTo>
                  <a:cubicBezTo>
                    <a:pt x="22" y="17"/>
                    <a:pt x="52" y="20"/>
                    <a:pt x="87" y="19"/>
                  </a:cubicBezTo>
                  <a:cubicBezTo>
                    <a:pt x="122" y="18"/>
                    <a:pt x="200" y="0"/>
                    <a:pt x="222" y="16"/>
                  </a:cubicBezTo>
                  <a:cubicBezTo>
                    <a:pt x="244" y="32"/>
                    <a:pt x="212" y="97"/>
                    <a:pt x="219" y="113"/>
                  </a:cubicBezTo>
                  <a:cubicBezTo>
                    <a:pt x="226" y="129"/>
                    <a:pt x="263" y="121"/>
                    <a:pt x="267" y="113"/>
                  </a:cubicBezTo>
                </a:path>
              </a:pathLst>
            </a:custGeom>
            <a:solidFill>
              <a:srgbClr val="5e9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6" name=""/>
          <p:cNvGraphicFramePr/>
          <p:nvPr/>
        </p:nvGraphicFramePr>
        <p:xfrm>
          <a:off x="6537240" y="5595840"/>
          <a:ext cx="1024200" cy="528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37240" y="5595840"/>
                    <a:ext cx="102420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883120" y="380880"/>
            <a:ext cx="1295640" cy="4419720"/>
          </a:xfrm>
          <a:prstGeom prst="can">
            <a:avLst>
              <a:gd name="adj" fmla="val 5745"/>
            </a:avLst>
          </a:prstGeom>
          <a:gradFill rotWithShape="0">
            <a:gsLst>
              <a:gs pos="0">
                <a:srgbClr val="fefefe">
                  <a:alpha val="43137"/>
                </a:srgbClr>
              </a:gs>
              <a:gs pos="100000">
                <a:srgbClr val="adea16">
                  <a:alpha val="32156"/>
                </a:srgbClr>
              </a:gs>
            </a:gsLst>
            <a:lin ang="10800000"/>
          </a:gradFill>
          <a:ln w="3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95920" y="1536840"/>
            <a:ext cx="1638360" cy="1596960"/>
          </a:xfrm>
          <a:prstGeom prst="ellipse">
            <a:avLst/>
          </a:prstGeom>
          <a:gradFill rotWithShape="0">
            <a:gsLst>
              <a:gs pos="0">
                <a:srgbClr val="f4e0cd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419360" y="1790640"/>
            <a:ext cx="4191120" cy="1622520"/>
            <a:chOff x="4419360" y="1790640"/>
            <a:chExt cx="4191120" cy="1622520"/>
          </a:xfrm>
        </p:grpSpPr>
        <p:sp>
          <p:nvSpPr>
            <p:cNvPr id="111" name=""/>
            <p:cNvSpPr/>
            <p:nvPr/>
          </p:nvSpPr>
          <p:spPr>
            <a:xfrm>
              <a:off x="4419720" y="2651040"/>
              <a:ext cx="4190760" cy="76212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e0a66c"/>
                </a:gs>
                <a:gs pos="100000">
                  <a:srgbClr val="cc66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0800000">
              <a:off x="4419360" y="1790280"/>
              <a:ext cx="4190760" cy="1185840"/>
            </a:xfrm>
            <a:custGeom>
              <a:avLst/>
              <a:gdLst>
                <a:gd name="textAreaLeft" fmla="*/ 1167840 w 4190760"/>
                <a:gd name="textAreaRight" fmla="*/ 3022920 w 4190760"/>
                <a:gd name="textAreaTop" fmla="*/ 330480 h 1185840"/>
                <a:gd name="textAreaBottom" fmla="*/ 85536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915" y="21600"/>
                  </a:lnTo>
                  <a:lnTo>
                    <a:pt x="768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e0a66c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725760" y="76212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 deficit  ang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663880" y="1536840"/>
            <a:ext cx="1698120" cy="1679400"/>
            <a:chOff x="5663880" y="1536840"/>
            <a:chExt cx="1698120" cy="1679400"/>
          </a:xfrm>
        </p:grpSpPr>
        <p:grpSp>
          <p:nvGrpSpPr>
            <p:cNvPr id="115" name=""/>
            <p:cNvGrpSpPr/>
            <p:nvPr/>
          </p:nvGrpSpPr>
          <p:grpSpPr>
            <a:xfrm>
              <a:off x="5864400" y="1536840"/>
              <a:ext cx="1295280" cy="459000"/>
              <a:chOff x="5864400" y="1536840"/>
              <a:chExt cx="1295280" cy="459000"/>
            </a:xfrm>
          </p:grpSpPr>
          <p:sp>
            <p:nvSpPr>
              <p:cNvPr id="116" name=""/>
              <p:cNvSpPr/>
              <p:nvPr/>
            </p:nvSpPr>
            <p:spPr>
              <a:xfrm>
                <a:off x="5872320" y="1536840"/>
                <a:ext cx="1281240" cy="325080"/>
              </a:xfrm>
              <a:custGeom>
                <a:avLst/>
                <a:gdLst/>
                <a:ahLst/>
                <a:rect l="l" t="t" r="r" b="b"/>
                <a:pathLst>
                  <a:path w="807" h="205">
                    <a:moveTo>
                      <a:pt x="0" y="181"/>
                    </a:moveTo>
                    <a:lnTo>
                      <a:pt x="27" y="150"/>
                    </a:lnTo>
                    <a:lnTo>
                      <a:pt x="102" y="85"/>
                    </a:lnTo>
                    <a:lnTo>
                      <a:pt x="191" y="45"/>
                    </a:lnTo>
                    <a:lnTo>
                      <a:pt x="287" y="9"/>
                    </a:lnTo>
                    <a:lnTo>
                      <a:pt x="431" y="0"/>
                    </a:lnTo>
                    <a:lnTo>
                      <a:pt x="539" y="18"/>
                    </a:lnTo>
                    <a:lnTo>
                      <a:pt x="636" y="54"/>
                    </a:lnTo>
                    <a:lnTo>
                      <a:pt x="723" y="108"/>
                    </a:lnTo>
                    <a:lnTo>
                      <a:pt x="791" y="163"/>
                    </a:lnTo>
                    <a:lnTo>
                      <a:pt x="807" y="189"/>
                    </a:lnTo>
                    <a:lnTo>
                      <a:pt x="405" y="205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5864400" y="1694160"/>
                <a:ext cx="1295280" cy="30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5" y="13134"/>
                    </a:moveTo>
                    <a:arcTo wR="10800" hR="10800" stAng="10051155" swAng="119261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5" y="13134"/>
                    </a:moveTo>
                    <a:arcTo wR="10800" hR="10800" stAng="10051155" swAng="11926117"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5663880" y="1539720"/>
              <a:ext cx="1698120" cy="167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92" y="3781"/>
                  </a:moveTo>
                  <a:arcTo wR="10800" hR="10800" stAng="-8367730" swAng="5962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2592" y="3781"/>
                  </a:moveTo>
                  <a:arcTo wR="10800" hR="10800" stAng="-8367730" swAng="596238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861840" y="1768320"/>
          <a:ext cx="3024360" cy="280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1840" y="1768320"/>
                    <a:ext cx="302436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6524640" y="1536840"/>
            <a:ext cx="635040" cy="920160"/>
            <a:chOff x="6524640" y="1536840"/>
            <a:chExt cx="635040" cy="920160"/>
          </a:xfrm>
        </p:grpSpPr>
        <p:sp>
          <p:nvSpPr>
            <p:cNvPr id="122" name=""/>
            <p:cNvSpPr/>
            <p:nvPr/>
          </p:nvSpPr>
          <p:spPr>
            <a:xfrm>
              <a:off x="6527520" y="153684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6524640" y="1860480"/>
              <a:ext cx="635040" cy="5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18600" y="1219320"/>
            <a:ext cx="1612080" cy="1575720"/>
            <a:chOff x="5718600" y="1219320"/>
            <a:chExt cx="1612080" cy="1575720"/>
          </a:xfrm>
        </p:grpSpPr>
        <p:sp>
          <p:nvSpPr>
            <p:cNvPr id="125" name=""/>
            <p:cNvSpPr/>
            <p:nvPr/>
          </p:nvSpPr>
          <p:spPr>
            <a:xfrm>
              <a:off x="5718600" y="1433880"/>
              <a:ext cx="1612080" cy="136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4562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456224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6858000" y="1219320"/>
            <a:ext cx="296640" cy="327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58000" y="1219320"/>
                      <a:ext cx="296640" cy="32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" name=""/>
          <p:cNvGrpSpPr/>
          <p:nvPr/>
        </p:nvGrpSpPr>
        <p:grpSpPr>
          <a:xfrm>
            <a:off x="732240" y="5899320"/>
            <a:ext cx="7116480" cy="501480"/>
            <a:chOff x="732240" y="5899320"/>
            <a:chExt cx="7116480" cy="501480"/>
          </a:xfrm>
        </p:grpSpPr>
        <p:sp>
          <p:nvSpPr>
            <p:cNvPr id="129" name=""/>
            <p:cNvSpPr/>
            <p:nvPr/>
          </p:nvSpPr>
          <p:spPr>
            <a:xfrm>
              <a:off x="732240" y="5932440"/>
              <a:ext cx="241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cit  angle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3211560" y="5899320"/>
            <a:ext cx="4637160" cy="501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211560" y="5899320"/>
                      <a:ext cx="4637160" cy="50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2" name=""/>
          <p:cNvGrpSpPr/>
          <p:nvPr/>
        </p:nvGrpSpPr>
        <p:grpSpPr>
          <a:xfrm>
            <a:off x="1899000" y="5151600"/>
            <a:ext cx="4152240" cy="486720"/>
            <a:chOff x="1899000" y="5151600"/>
            <a:chExt cx="4152240" cy="486720"/>
          </a:xfrm>
        </p:grpSpPr>
        <p:sp>
          <p:nvSpPr>
            <p:cNvPr id="133" name=""/>
            <p:cNvSpPr/>
            <p:nvPr/>
          </p:nvSpPr>
          <p:spPr>
            <a:xfrm>
              <a:off x="1899000" y="5151600"/>
              <a:ext cx="415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I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n  units  such  that                        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4" name=""/>
            <p:cNvGraphicFramePr/>
            <p:nvPr/>
          </p:nvGraphicFramePr>
          <p:xfrm>
            <a:off x="4336920" y="5190840"/>
            <a:ext cx="1523520" cy="447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336920" y="5190840"/>
                      <a:ext cx="152352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6" name=""/>
          <p:cNvGraphicFramePr/>
          <p:nvPr/>
        </p:nvGraphicFramePr>
        <p:xfrm>
          <a:off x="2590920" y="1955880"/>
          <a:ext cx="914400" cy="198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590920" y="19558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8280" y="457200"/>
            <a:ext cx="487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static  universe  would  conta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large  number  of  such 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9080" y="5502240"/>
            <a:ext cx="51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 what  happens  when  we 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  mov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05120" y="1600200"/>
            <a:ext cx="198108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752480"/>
            <a:ext cx="76197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914400" y="1828800"/>
            <a:ext cx="586728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62120" y="2666520"/>
            <a:ext cx="754380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1523880"/>
            <a:ext cx="2514600" cy="358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1295280"/>
            <a:ext cx="289584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142640" y="1599840"/>
            <a:ext cx="15228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53352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 might  have  thou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1371600"/>
            <a:ext cx="1522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981080" y="159984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23623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362320" y="23623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438280" y="3733920"/>
            <a:ext cx="3200400" cy="1675800"/>
            <a:chOff x="2438280" y="3733920"/>
            <a:chExt cx="3200400" cy="1675800"/>
          </a:xfrm>
        </p:grpSpPr>
        <p:sp>
          <p:nvSpPr>
            <p:cNvPr id="153" name=""/>
            <p:cNvSpPr/>
            <p:nvPr/>
          </p:nvSpPr>
          <p:spPr>
            <a:xfrm flipV="1">
              <a:off x="2438280" y="4495680"/>
              <a:ext cx="11430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581280" y="3733920"/>
              <a:ext cx="457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4876560" y="4571640"/>
              <a:ext cx="152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876560" y="3885840"/>
              <a:ext cx="6098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81280" y="4495680"/>
              <a:ext cx="129528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81480" y="44193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971800" y="44193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638680" y="1219320"/>
            <a:ext cx="2132640" cy="1980720"/>
            <a:chOff x="5638680" y="1219320"/>
            <a:chExt cx="2132640" cy="1980720"/>
          </a:xfrm>
        </p:grpSpPr>
        <p:sp>
          <p:nvSpPr>
            <p:cNvPr id="161" name=""/>
            <p:cNvSpPr/>
            <p:nvPr/>
          </p:nvSpPr>
          <p:spPr>
            <a:xfrm flipH="1">
              <a:off x="5638680" y="1219320"/>
              <a:ext cx="2132640" cy="198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1" y="6550"/>
                  </a:moveTo>
                  <a:arcTo wR="10800" hR="10800" stAng="-9409601" swAng="1889256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1" y="6550"/>
                  </a:moveTo>
                  <a:arcTo wR="10800" hR="10800" stAng="-9409601" swAng="18892567"/>
                </a:path>
              </a:pathLst>
            </a:custGeom>
            <a:solidFill>
              <a:srgbClr val="e3e8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10320" y="2133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248520" y="685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62920" y="685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92960" y="9144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44480" y="579132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 this  cannot  be  righ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8686400">
            <a:off x="3851280" y="359928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 string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1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 rot="21596400">
            <a:off x="1459080" y="2289240"/>
            <a:ext cx="1143000" cy="77760"/>
          </a:xfrm>
          <a:custGeom>
            <a:avLst/>
            <a:gdLst/>
            <a:ahLst/>
            <a:rect l="l" t="t" r="r" b="b"/>
            <a:pathLst>
              <a:path w="3792" h="520">
                <a:moveTo>
                  <a:pt x="0" y="280"/>
                </a:moveTo>
                <a:cubicBezTo>
                  <a:pt x="36" y="140"/>
                  <a:pt x="72" y="0"/>
                  <a:pt x="144" y="40"/>
                </a:cubicBezTo>
                <a:cubicBezTo>
                  <a:pt x="216" y="80"/>
                  <a:pt x="336" y="520"/>
                  <a:pt x="432" y="520"/>
                </a:cubicBezTo>
                <a:cubicBezTo>
                  <a:pt x="528" y="520"/>
                  <a:pt x="624" y="40"/>
                  <a:pt x="720" y="40"/>
                </a:cubicBezTo>
                <a:cubicBezTo>
                  <a:pt x="816" y="40"/>
                  <a:pt x="912" y="520"/>
                  <a:pt x="1008" y="520"/>
                </a:cubicBezTo>
                <a:cubicBezTo>
                  <a:pt x="1104" y="520"/>
                  <a:pt x="1200" y="40"/>
                  <a:pt x="1296" y="40"/>
                </a:cubicBezTo>
                <a:cubicBezTo>
                  <a:pt x="1392" y="40"/>
                  <a:pt x="1488" y="520"/>
                  <a:pt x="1584" y="520"/>
                </a:cubicBezTo>
                <a:cubicBezTo>
                  <a:pt x="1680" y="520"/>
                  <a:pt x="1776" y="40"/>
                  <a:pt x="1872" y="40"/>
                </a:cubicBezTo>
                <a:cubicBezTo>
                  <a:pt x="1968" y="40"/>
                  <a:pt x="2064" y="520"/>
                  <a:pt x="2160" y="520"/>
                </a:cubicBezTo>
                <a:cubicBezTo>
                  <a:pt x="2256" y="520"/>
                  <a:pt x="2352" y="40"/>
                  <a:pt x="2448" y="40"/>
                </a:cubicBezTo>
                <a:cubicBezTo>
                  <a:pt x="2544" y="40"/>
                  <a:pt x="2640" y="520"/>
                  <a:pt x="2736" y="520"/>
                </a:cubicBezTo>
                <a:cubicBezTo>
                  <a:pt x="2832" y="520"/>
                  <a:pt x="2928" y="40"/>
                  <a:pt x="3024" y="40"/>
                </a:cubicBezTo>
                <a:cubicBezTo>
                  <a:pt x="3120" y="40"/>
                  <a:pt x="3216" y="520"/>
                  <a:pt x="3312" y="520"/>
                </a:cubicBezTo>
                <a:cubicBezTo>
                  <a:pt x="3408" y="520"/>
                  <a:pt x="3520" y="80"/>
                  <a:pt x="3600" y="40"/>
                </a:cubicBezTo>
                <a:cubicBezTo>
                  <a:pt x="3680" y="0"/>
                  <a:pt x="3760" y="240"/>
                  <a:pt x="3792" y="28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80720" y="433440"/>
            <a:ext cx="56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onomies  on  curves  around 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 member  of  Poin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grou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entz  trf.  plus 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870840" y="1841400"/>
            <a:ext cx="106668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5" y="4792"/>
                </a:moveTo>
                <a:arcTo wR="10800" hR="10800" stAng="-8771999" swAng="17935393"/>
                <a:lnTo>
                  <a:pt x="10800" y="10800"/>
                </a:lnTo>
                <a:close/>
              </a:path>
              <a:path fill="none" w="21600" h="21600">
                <a:moveTo>
                  <a:pt x="1825" y="4792"/>
                </a:moveTo>
                <a:arcTo wR="10800" hR="10800" stAng="-8771999" swAng="17935393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14360" y="2254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59440" y="1460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14600" y="1612800"/>
            <a:ext cx="594000" cy="685800"/>
          </a:xfrm>
          <a:custGeom>
            <a:avLst/>
            <a:gdLst/>
            <a:ahLst/>
            <a:rect l="l" t="t" r="r" b="b"/>
            <a:pathLst>
              <a:path w="374" h="485">
                <a:moveTo>
                  <a:pt x="341" y="0"/>
                </a:moveTo>
                <a:cubicBezTo>
                  <a:pt x="291" y="25"/>
                  <a:pt x="76" y="98"/>
                  <a:pt x="43" y="149"/>
                </a:cubicBezTo>
                <a:cubicBezTo>
                  <a:pt x="10" y="200"/>
                  <a:pt x="144" y="256"/>
                  <a:pt x="143" y="308"/>
                </a:cubicBezTo>
                <a:cubicBezTo>
                  <a:pt x="142" y="360"/>
                  <a:pt x="0" y="435"/>
                  <a:pt x="38" y="460"/>
                </a:cubicBezTo>
                <a:cubicBezTo>
                  <a:pt x="76" y="485"/>
                  <a:pt x="234" y="476"/>
                  <a:pt x="374" y="4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202280" y="2052720"/>
          <a:ext cx="2927160" cy="4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02280" y="2052720"/>
                    <a:ext cx="29271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1386360" y="3024360"/>
            <a:ext cx="6941520" cy="1484280"/>
            <a:chOff x="1386360" y="3024360"/>
            <a:chExt cx="6941520" cy="1484280"/>
          </a:xfrm>
        </p:grpSpPr>
        <p:sp>
          <p:nvSpPr>
            <p:cNvPr id="177" name=""/>
            <p:cNvSpPr/>
            <p:nvPr/>
          </p:nvSpPr>
          <p:spPr>
            <a:xfrm>
              <a:off x="1386360" y="3024360"/>
              <a:ext cx="3996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atic  string: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ure  rota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Lorentz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boos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ing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8" name=""/>
            <p:cNvGraphicFramePr/>
            <p:nvPr/>
          </p:nvGraphicFramePr>
          <p:xfrm>
            <a:off x="5519880" y="3060720"/>
            <a:ext cx="2808000" cy="468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519880" y="3060720"/>
                      <a:ext cx="280800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0" name=""/>
            <p:cNvGraphicFramePr/>
            <p:nvPr/>
          </p:nvGraphicFramePr>
          <p:xfrm>
            <a:off x="3994200" y="3449520"/>
            <a:ext cx="1989000" cy="527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994200" y="3449520"/>
                      <a:ext cx="1989000" cy="5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2" name=""/>
            <p:cNvGraphicFramePr/>
            <p:nvPr/>
          </p:nvGraphicFramePr>
          <p:xfrm>
            <a:off x="3935520" y="3981600"/>
            <a:ext cx="2076480" cy="527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935520" y="3981600"/>
                      <a:ext cx="2076480" cy="5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4" name=""/>
          <p:cNvGraphicFramePr/>
          <p:nvPr/>
        </p:nvGraphicFramePr>
        <p:xfrm>
          <a:off x="1405080" y="4521240"/>
          <a:ext cx="4267080" cy="673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05080" y="4521240"/>
                    <a:ext cx="42670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538440" y="5727600"/>
          <a:ext cx="4335480" cy="673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38440" y="5727600"/>
                    <a:ext cx="4335480" cy="6732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837000" y="5194440"/>
            <a:ext cx="643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 strings  must  have  holonomies  that  a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strain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3978360"/>
            <a:ext cx="502920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10:45:36Z</dcterms:created>
  <dc:creator>Gerard 't Hooft</dc:creator>
  <dc:description/>
  <dc:language>en-US</dc:language>
  <cp:lastModifiedBy>Gerard 't Hooft</cp:lastModifiedBy>
  <dcterms:modified xsi:type="dcterms:W3CDTF">2008-07-17T10:45:36Z</dcterms:modified>
  <cp:revision>19</cp:revision>
  <dc:subject/>
  <dc:title>Slide 1</dc:title>
</cp:coreProperties>
</file>