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3.wmf" ContentType="image/x-wmf"/>
  <Override PartName="/ppt/media/image52.wmf" ContentType="image/x-wmf"/>
  <Override PartName="/ppt/media/image49.png" ContentType="image/png"/>
  <Override PartName="/ppt/media/image48.png" ContentType="image/png"/>
  <Override PartName="/ppt/media/image45.jpeg" ContentType="image/jpeg"/>
  <Override PartName="/ppt/media/image46.png" ContentType="image/png"/>
  <Override PartName="/ppt/media/image44.png" ContentType="image/png"/>
  <Override PartName="/ppt/media/image43.jpeg" ContentType="image/jpeg"/>
  <Override PartName="/ppt/media/image39.png" ContentType="image/png"/>
  <Override PartName="/ppt/media/image61.wmf" ContentType="image/x-wmf"/>
  <Override PartName="/ppt/media/image40.wmf" ContentType="image/x-wmf"/>
  <Override PartName="/ppt/media/image42.jpeg" ContentType="image/jpeg"/>
  <Override PartName="/ppt/media/image6.png" ContentType="image/png"/>
  <Override PartName="/ppt/media/image3.gif" ContentType="image/gif"/>
  <Override PartName="/ppt/media/image34.jpeg" ContentType="image/jpeg"/>
  <Override PartName="/ppt/media/image31.wmf" ContentType="image/x-wmf"/>
  <Override PartName="/ppt/media/image74.png" ContentType="image/png"/>
  <Override PartName="/ppt/media/image33.jpeg" ContentType="image/jpeg"/>
  <Override PartName="/ppt/media/image30.wmf" ContentType="image/x-wmf"/>
  <Override PartName="/ppt/media/image73.png" ContentType="image/png"/>
  <Override PartName="/ppt/media/image29.wmf" ContentType="image/x-wmf"/>
  <Override PartName="/ppt/media/image94.wmf" ContentType="image/x-wmf"/>
  <Override PartName="/ppt/media/image13.wmf" ContentType="image/x-wmf"/>
  <Override PartName="/ppt/media/image51.jpeg" ContentType="image/jpeg"/>
  <Override PartName="/ppt/media/whoosh.wav" ContentType="audio/x-wav"/>
  <Override PartName="/ppt/media/image12.wmf" ContentType="image/x-wmf"/>
  <Override PartName="/ppt/media/image55.png" ContentType="image/png"/>
  <Override PartName="/ppt/media/image7.wmf" ContentType="image/x-wmf"/>
  <Override PartName="/ppt/media/image19.wmf" ContentType="image/x-wmf"/>
  <Override PartName="/ppt/media/image84.wmf" ContentType="image/x-wmf"/>
  <Override PartName="/ppt/media/image10.wmf" ContentType="image/x-wmf"/>
  <Override PartName="/ppt/media/image107.wmf" ContentType="image/x-wmf"/>
  <Override PartName="/ppt/media/image38.wmf" ContentType="image/x-wmf"/>
  <Override PartName="/ppt/media/image32.jpeg" ContentType="image/jpeg"/>
  <Override PartName="/ppt/media/image8.wmf" ContentType="image/x-wmf"/>
  <Override PartName="/ppt/media/image85.wmf" ContentType="image/x-wmf"/>
  <Override PartName="/ppt/media/image4.jpeg" ContentType="image/jpeg"/>
  <Override PartName="/ppt/media/image105.wmf" ContentType="image/x-wmf"/>
  <Override PartName="/ppt/media/image22.gif" ContentType="image/gif"/>
  <Override PartName="/ppt/media/image25.png" ContentType="image/png"/>
  <Override PartName="/ppt/media/image90.png" ContentType="image/png"/>
  <Override PartName="/ppt/media/image14.wmf" ContentType="image/x-wmf"/>
  <Override PartName="/ppt/media/image57.png" ContentType="image/png"/>
  <Override PartName="/ppt/media/image9.wmf" ContentType="image/x-wmf"/>
  <Override PartName="/ppt/media/image86.wmf" ContentType="image/x-wmf"/>
  <Override PartName="/ppt/media/image26.jpeg" ContentType="image/jpeg"/>
  <Override PartName="/ppt/media/explode.wav" ContentType="audio/x-wav"/>
  <Override PartName="/ppt/media/image50.png" ContentType="image/png"/>
  <Override PartName="/ppt/media/image104.wmf" ContentType="image/x-wmf"/>
  <Override PartName="/ppt/media/image5.jpeg" ContentType="image/jpeg"/>
  <Override PartName="/ppt/media/image64.png" ContentType="image/png"/>
  <Override PartName="/ppt/media/image66.wmf" ContentType="image/x-wmf"/>
  <Override PartName="/ppt/media/image67.png" ContentType="image/png"/>
  <Override PartName="/ppt/media/image68.png" ContentType="image/png"/>
  <Override PartName="/ppt/media/image70.jpeg" ContentType="image/jpeg"/>
  <Override PartName="/ppt/media/image75.wmf" ContentType="image/x-wmf"/>
  <Override PartName="/ppt/media/image69.png" ContentType="image/png"/>
  <Override PartName="/ppt/media/image71.png" ContentType="image/png"/>
  <Override PartName="/ppt/media/image21.jpeg" ContentType="image/jpeg"/>
  <Override PartName="/ppt/media/image76.wmf" ContentType="image/x-wmf"/>
  <Override PartName="/ppt/media/image77.wmf" ContentType="image/x-wmf"/>
  <Override PartName="/ppt/media/image106.wmf" ContentType="image/x-wmf"/>
  <Override PartName="/ppt/media/image62.wmf" ContentType="image/x-wmf"/>
  <Override PartName="/ppt/media/image65.wmf" ContentType="image/x-wmf"/>
  <Override PartName="/ppt/media/image72.png" ContentType="image/png"/>
  <Override PartName="/ppt/media/glass.wav" ContentType="audio/x-wav"/>
  <Override PartName="/ppt/media/image102.png" ContentType="image/png"/>
  <Override PartName="/ppt/media/image56.wmf" ContentType="image/x-wmf"/>
  <Override PartName="/ppt/media/image100.wmf" ContentType="image/x-wmf"/>
  <Override PartName="/ppt/media/image28.wmf" ContentType="image/x-wmf"/>
  <Override PartName="/ppt/media/image93.wmf" ContentType="image/x-wmf"/>
  <Override PartName="/ppt/media/image87.png" ContentType="image/png"/>
  <Override PartName="/ppt/media/image63.png" ContentType="image/png"/>
  <Override PartName="/ppt/media/image103.wmf" ContentType="image/x-wmf"/>
  <Override PartName="/ppt/media/image96.wmf" ContentType="image/x-wmf"/>
  <Override PartName="/ppt/media/image98.png" ContentType="image/png"/>
  <Override PartName="/ppt/media/image59.wmf" ContentType="image/x-wmf"/>
  <Override PartName="/ppt/media/image97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95.wmf" ContentType="image/x-wmf"/>
  <Override PartName="/ppt/media/image89.png" ContentType="image/png"/>
  <Override PartName="/ppt/media/image82.wmf" ContentType="image/x-wmf"/>
  <Override PartName="/ppt/media/image101.wmf" ContentType="image/x-wmf"/>
  <Override PartName="/ppt/media/image41.jpeg" ContentType="image/jpeg"/>
  <Override PartName="/ppt/media/image79.wmf" ContentType="image/x-wmf"/>
  <Override PartName="/ppt/media/image27.wmf" ContentType="image/x-wmf"/>
  <Override PartName="/ppt/media/image37.jpeg" ContentType="image/jpeg"/>
  <Override PartName="/ppt/media/image20.png" ContentType="image/png"/>
  <Override PartName="/ppt/media/image88.wmf" ContentType="image/x-wmf"/>
  <Override PartName="/ppt/media/image18.wmf" ContentType="image/x-wmf"/>
  <Override PartName="/ppt/media/image83.wmf" ContentType="image/x-wmf"/>
  <Override PartName="/ppt/media/image36.jpeg" ContentType="image/jpeg"/>
  <Override PartName="/ppt/media/image78.wmf" ContentType="image/x-wmf"/>
  <Override PartName="/ppt/media/image17.png" ContentType="image/png"/>
  <Override PartName="/ppt/media/image24.gif" ContentType="image/gif"/>
  <Override PartName="/ppt/media/image92.png" ContentType="image/png"/>
  <Override PartName="/ppt/media/image16.wmf" ContentType="image/x-wmf"/>
  <Override PartName="/ppt/media/image81.wmf" ContentType="image/x-wmf"/>
  <Override PartName="/ppt/media/image15.wmf" ContentType="image/x-wmf"/>
  <Override PartName="/ppt/media/image80.wmf" ContentType="image/x-wmf"/>
  <Override PartName="/ppt/media/image58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3.gif" ContentType="image/gif"/>
  <Override PartName="/ppt/media/image91.png" ContentType="image/png"/>
  <Override PartName="/ppt/media/image11.wmf" ContentType="image/x-wmf"/>
  <Override PartName="/ppt/media/image54.png" ContentType="image/png"/>
  <Override PartName="/ppt/media/image10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43.jpeg"/><Relationship Id="rId4" Type="http://schemas.openxmlformats.org/officeDocument/2006/relationships/image" Target="../media/image55.png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0.wmf"/><Relationship Id="rId9" Type="http://schemas.openxmlformats.org/officeDocument/2006/relationships/image" Target="../media/image57.png"/><Relationship Id="rId10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6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slide" Target="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image" Target="../media/image47.png"/><Relationship Id="rId4" Type="http://schemas.openxmlformats.org/officeDocument/2006/relationships/image" Target="../media/image49.png"/><Relationship Id="rId5" Type="http://schemas.openxmlformats.org/officeDocument/2006/relationships/image" Target="../media/image72.png"/><Relationship Id="rId6" Type="http://schemas.openxmlformats.org/officeDocument/2006/relationships/image" Target="../media/image47.png"/><Relationship Id="rId7" Type="http://schemas.openxmlformats.org/officeDocument/2006/relationships/image" Target="../media/image49.png"/><Relationship Id="rId8" Type="http://schemas.openxmlformats.org/officeDocument/2006/relationships/image" Target="../media/image46.png"/><Relationship Id="rId9" Type="http://schemas.openxmlformats.org/officeDocument/2006/relationships/image" Target="../media/image48.png"/><Relationship Id="rId10" Type="http://schemas.openxmlformats.org/officeDocument/2006/relationships/image" Target="../media/image72.png"/><Relationship Id="rId11" Type="http://schemas.openxmlformats.org/officeDocument/2006/relationships/image" Target="../media/image47.png"/><Relationship Id="rId12" Type="http://schemas.openxmlformats.org/officeDocument/2006/relationships/image" Target="../media/image49.png"/><Relationship Id="rId13" Type="http://schemas.openxmlformats.org/officeDocument/2006/relationships/image" Target="../media/image46.png"/><Relationship Id="rId14" Type="http://schemas.openxmlformats.org/officeDocument/2006/relationships/image" Target="../media/image48.png"/><Relationship Id="rId15" Type="http://schemas.openxmlformats.org/officeDocument/2006/relationships/image" Target="../media/image72.png"/><Relationship Id="rId16" Type="http://schemas.openxmlformats.org/officeDocument/2006/relationships/image" Target="../media/image47.png"/><Relationship Id="rId17" Type="http://schemas.openxmlformats.org/officeDocument/2006/relationships/image" Target="../media/image49.png"/><Relationship Id="rId18" Type="http://schemas.openxmlformats.org/officeDocument/2006/relationships/image" Target="../media/image46.png"/><Relationship Id="rId19" Type="http://schemas.openxmlformats.org/officeDocument/2006/relationships/image" Target="../media/image48.png"/><Relationship Id="rId20" Type="http://schemas.openxmlformats.org/officeDocument/2006/relationships/image" Target="../media/image46.png"/><Relationship Id="rId21" Type="http://schemas.openxmlformats.org/officeDocument/2006/relationships/image" Target="../media/image48.png"/><Relationship Id="rId22" Type="http://schemas.openxmlformats.org/officeDocument/2006/relationships/image" Target="../media/image47.png"/><Relationship Id="rId23" Type="http://schemas.openxmlformats.org/officeDocument/2006/relationships/image" Target="../media/image49.png"/><Relationship Id="rId24" Type="http://schemas.openxmlformats.org/officeDocument/2006/relationships/image" Target="../media/image47.png"/><Relationship Id="rId25" Type="http://schemas.openxmlformats.org/officeDocument/2006/relationships/image" Target="../media/image72.png"/><Relationship Id="rId26" Type="http://schemas.openxmlformats.org/officeDocument/2006/relationships/image" Target="../media/image47.png"/><Relationship Id="rId27" Type="http://schemas.openxmlformats.org/officeDocument/2006/relationships/image" Target="../media/image46.png"/><Relationship Id="rId28" Type="http://schemas.openxmlformats.org/officeDocument/2006/relationships/image" Target="../media/image48.png"/><Relationship Id="rId29" Type="http://schemas.openxmlformats.org/officeDocument/2006/relationships/image" Target="../media/image72.png"/><Relationship Id="rId30" Type="http://schemas.openxmlformats.org/officeDocument/2006/relationships/image" Target="../media/image47.png"/><Relationship Id="rId31" Type="http://schemas.openxmlformats.org/officeDocument/2006/relationships/image" Target="../media/image49.png"/><Relationship Id="rId32" Type="http://schemas.openxmlformats.org/officeDocument/2006/relationships/image" Target="../media/image72.png"/><Relationship Id="rId33" Type="http://schemas.openxmlformats.org/officeDocument/2006/relationships/image" Target="../media/image47.png"/><Relationship Id="rId34" Type="http://schemas.openxmlformats.org/officeDocument/2006/relationships/image" Target="../media/image49.png"/><Relationship Id="rId35" Type="http://schemas.openxmlformats.org/officeDocument/2006/relationships/image" Target="../media/image72.png"/><Relationship Id="rId36" Type="http://schemas.openxmlformats.org/officeDocument/2006/relationships/image" Target="../media/image49.png"/><Relationship Id="rId37" Type="http://schemas.openxmlformats.org/officeDocument/2006/relationships/image" Target="../media/image46.png"/><Relationship Id="rId38" Type="http://schemas.openxmlformats.org/officeDocument/2006/relationships/image" Target="../media/image48.png"/><Relationship Id="rId39" Type="http://schemas.openxmlformats.org/officeDocument/2006/relationships/image" Target="../media/image49.png"/><Relationship Id="rId40" Type="http://schemas.openxmlformats.org/officeDocument/2006/relationships/image" Target="../media/image47.png"/><Relationship Id="rId4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4.wmf"/><Relationship Id="rId19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9.wmf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2.wmf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6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8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89.png"/><Relationship Id="rId5" Type="http://schemas.openxmlformats.org/officeDocument/2006/relationships/image" Target="../media/image90.png"/><Relationship Id="rId6" Type="http://schemas.openxmlformats.org/officeDocument/2006/relationships/image" Target="../media/image89.png"/><Relationship Id="rId7" Type="http://schemas.openxmlformats.org/officeDocument/2006/relationships/image" Target="../media/image90.png"/><Relationship Id="rId8" Type="http://schemas.openxmlformats.org/officeDocument/2006/relationships/image" Target="../media/image89.png"/><Relationship Id="rId9" Type="http://schemas.openxmlformats.org/officeDocument/2006/relationships/image" Target="../media/image90.png"/><Relationship Id="rId10" Type="http://schemas.openxmlformats.org/officeDocument/2006/relationships/image" Target="../media/image89.png"/><Relationship Id="rId11" Type="http://schemas.openxmlformats.org/officeDocument/2006/relationships/image" Target="../media/image90.png"/><Relationship Id="rId12" Type="http://schemas.openxmlformats.org/officeDocument/2006/relationships/image" Target="../media/image89.png"/><Relationship Id="rId13" Type="http://schemas.openxmlformats.org/officeDocument/2006/relationships/image" Target="../media/image90.png"/><Relationship Id="rId14" Type="http://schemas.openxmlformats.org/officeDocument/2006/relationships/image" Target="../media/image89.png"/><Relationship Id="rId15" Type="http://schemas.openxmlformats.org/officeDocument/2006/relationships/image" Target="../media/image90.png"/><Relationship Id="rId16" Type="http://schemas.openxmlformats.org/officeDocument/2006/relationships/image" Target="../media/image89.png"/><Relationship Id="rId17" Type="http://schemas.openxmlformats.org/officeDocument/2006/relationships/image" Target="../media/image90.png"/><Relationship Id="rId18" Type="http://schemas.openxmlformats.org/officeDocument/2006/relationships/image" Target="../media/image89.png"/><Relationship Id="rId19" Type="http://schemas.openxmlformats.org/officeDocument/2006/relationships/image" Target="../media/image90.png"/><Relationship Id="rId20" Type="http://schemas.openxmlformats.org/officeDocument/2006/relationships/image" Target="../media/image89.png"/><Relationship Id="rId21" Type="http://schemas.openxmlformats.org/officeDocument/2006/relationships/image" Target="../media/image90.png"/><Relationship Id="rId22" Type="http://schemas.openxmlformats.org/officeDocument/2006/relationships/image" Target="../media/image89.png"/><Relationship Id="rId23" Type="http://schemas.openxmlformats.org/officeDocument/2006/relationships/image" Target="../media/image90.png"/><Relationship Id="rId24" Type="http://schemas.openxmlformats.org/officeDocument/2006/relationships/image" Target="../media/image89.png"/><Relationship Id="rId25" Type="http://schemas.openxmlformats.org/officeDocument/2006/relationships/image" Target="../media/image90.png"/><Relationship Id="rId26" Type="http://schemas.openxmlformats.org/officeDocument/2006/relationships/image" Target="../media/image89.png"/><Relationship Id="rId27" Type="http://schemas.openxmlformats.org/officeDocument/2006/relationships/image" Target="../media/image90.png"/><Relationship Id="rId28" Type="http://schemas.openxmlformats.org/officeDocument/2006/relationships/image" Target="../media/image89.png"/><Relationship Id="rId29" Type="http://schemas.openxmlformats.org/officeDocument/2006/relationships/image" Target="../media/image90.png"/><Relationship Id="rId30" Type="http://schemas.openxmlformats.org/officeDocument/2006/relationships/image" Target="../media/image89.png"/><Relationship Id="rId31" Type="http://schemas.openxmlformats.org/officeDocument/2006/relationships/image" Target="../media/image90.png"/><Relationship Id="rId32" Type="http://schemas.openxmlformats.org/officeDocument/2006/relationships/image" Target="../media/image89.png"/><Relationship Id="rId33" Type="http://schemas.openxmlformats.org/officeDocument/2006/relationships/image" Target="../media/image90.png"/><Relationship Id="rId34" Type="http://schemas.openxmlformats.org/officeDocument/2006/relationships/image" Target="../media/image89.png"/><Relationship Id="rId35" Type="http://schemas.openxmlformats.org/officeDocument/2006/relationships/image" Target="../media/image90.png"/><Relationship Id="rId36" Type="http://schemas.openxmlformats.org/officeDocument/2006/relationships/image" Target="../media/image91.png"/><Relationship Id="rId37" Type="http://schemas.openxmlformats.org/officeDocument/2006/relationships/image" Target="../media/image92.png"/><Relationship Id="rId38" Type="http://schemas.openxmlformats.org/officeDocument/2006/relationships/image" Target="../media/image89.png"/><Relationship Id="rId39" Type="http://schemas.openxmlformats.org/officeDocument/2006/relationships/image" Target="../media/image90.png"/><Relationship Id="rId40" Type="http://schemas.openxmlformats.org/officeDocument/2006/relationships/image" Target="../media/image89.png"/><Relationship Id="rId41" Type="http://schemas.openxmlformats.org/officeDocument/2006/relationships/image" Target="../media/image90.png"/><Relationship Id="rId42" Type="http://schemas.openxmlformats.org/officeDocument/2006/relationships/image" Target="../media/image91.png"/><Relationship Id="rId43" Type="http://schemas.openxmlformats.org/officeDocument/2006/relationships/image" Target="../media/image92.png"/><Relationship Id="rId44" Type="http://schemas.openxmlformats.org/officeDocument/2006/relationships/image" Target="../media/image89.png"/><Relationship Id="rId45" Type="http://schemas.openxmlformats.org/officeDocument/2006/relationships/image" Target="../media/image90.png"/><Relationship Id="rId46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5.wmf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6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7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8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0.wmf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1.wmf"/><Relationship Id="rId4" Type="http://schemas.openxmlformats.org/officeDocument/2006/relationships/image" Target="../media/image10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4.wmf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image" Target="../media/image1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wmf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slide" Target="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8.wmf"/><Relationship Id="rId8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image" Target="../media/image47.png"/><Relationship Id="rId4" Type="http://schemas.openxmlformats.org/officeDocument/2006/relationships/image" Target="../media/image49.png"/><Relationship Id="rId5" Type="http://schemas.openxmlformats.org/officeDocument/2006/relationships/image" Target="../media/image72.png"/><Relationship Id="rId6" Type="http://schemas.openxmlformats.org/officeDocument/2006/relationships/image" Target="../media/image47.png"/><Relationship Id="rId7" Type="http://schemas.openxmlformats.org/officeDocument/2006/relationships/image" Target="../media/image49.png"/><Relationship Id="rId8" Type="http://schemas.openxmlformats.org/officeDocument/2006/relationships/image" Target="../media/image46.png"/><Relationship Id="rId9" Type="http://schemas.openxmlformats.org/officeDocument/2006/relationships/image" Target="../media/image48.png"/><Relationship Id="rId10" Type="http://schemas.openxmlformats.org/officeDocument/2006/relationships/image" Target="../media/image72.png"/><Relationship Id="rId11" Type="http://schemas.openxmlformats.org/officeDocument/2006/relationships/image" Target="../media/image47.png"/><Relationship Id="rId12" Type="http://schemas.openxmlformats.org/officeDocument/2006/relationships/image" Target="../media/image49.png"/><Relationship Id="rId13" Type="http://schemas.openxmlformats.org/officeDocument/2006/relationships/image" Target="../media/image46.png"/><Relationship Id="rId14" Type="http://schemas.openxmlformats.org/officeDocument/2006/relationships/image" Target="../media/image48.png"/><Relationship Id="rId15" Type="http://schemas.openxmlformats.org/officeDocument/2006/relationships/image" Target="../media/image72.png"/><Relationship Id="rId16" Type="http://schemas.openxmlformats.org/officeDocument/2006/relationships/image" Target="../media/image47.png"/><Relationship Id="rId17" Type="http://schemas.openxmlformats.org/officeDocument/2006/relationships/image" Target="../media/image49.png"/><Relationship Id="rId18" Type="http://schemas.openxmlformats.org/officeDocument/2006/relationships/image" Target="../media/image46.png"/><Relationship Id="rId19" Type="http://schemas.openxmlformats.org/officeDocument/2006/relationships/image" Target="../media/image48.png"/><Relationship Id="rId20" Type="http://schemas.openxmlformats.org/officeDocument/2006/relationships/image" Target="../media/image46.png"/><Relationship Id="rId21" Type="http://schemas.openxmlformats.org/officeDocument/2006/relationships/image" Target="../media/image48.png"/><Relationship Id="rId22" Type="http://schemas.openxmlformats.org/officeDocument/2006/relationships/image" Target="../media/image47.png"/><Relationship Id="rId23" Type="http://schemas.openxmlformats.org/officeDocument/2006/relationships/image" Target="../media/image49.png"/><Relationship Id="rId24" Type="http://schemas.openxmlformats.org/officeDocument/2006/relationships/image" Target="../media/image47.png"/><Relationship Id="rId25" Type="http://schemas.openxmlformats.org/officeDocument/2006/relationships/image" Target="../media/image72.png"/><Relationship Id="rId26" Type="http://schemas.openxmlformats.org/officeDocument/2006/relationships/image" Target="../media/image47.png"/><Relationship Id="rId27" Type="http://schemas.openxmlformats.org/officeDocument/2006/relationships/image" Target="../media/image46.png"/><Relationship Id="rId28" Type="http://schemas.openxmlformats.org/officeDocument/2006/relationships/image" Target="../media/image48.png"/><Relationship Id="rId29" Type="http://schemas.openxmlformats.org/officeDocument/2006/relationships/image" Target="../media/image72.png"/><Relationship Id="rId30" Type="http://schemas.openxmlformats.org/officeDocument/2006/relationships/image" Target="../media/image47.png"/><Relationship Id="rId31" Type="http://schemas.openxmlformats.org/officeDocument/2006/relationships/image" Target="../media/image49.png"/><Relationship Id="rId32" Type="http://schemas.openxmlformats.org/officeDocument/2006/relationships/image" Target="../media/image72.png"/><Relationship Id="rId33" Type="http://schemas.openxmlformats.org/officeDocument/2006/relationships/image" Target="../media/image47.png"/><Relationship Id="rId34" Type="http://schemas.openxmlformats.org/officeDocument/2006/relationships/image" Target="../media/image49.png"/><Relationship Id="rId35" Type="http://schemas.openxmlformats.org/officeDocument/2006/relationships/image" Target="../media/image72.png"/><Relationship Id="rId36" Type="http://schemas.openxmlformats.org/officeDocument/2006/relationships/image" Target="../media/image49.png"/><Relationship Id="rId37" Type="http://schemas.openxmlformats.org/officeDocument/2006/relationships/image" Target="../media/image46.png"/><Relationship Id="rId38" Type="http://schemas.openxmlformats.org/officeDocument/2006/relationships/image" Target="../media/image48.png"/><Relationship Id="rId39" Type="http://schemas.openxmlformats.org/officeDocument/2006/relationships/image" Target="../media/image49.png"/><Relationship Id="rId40" Type="http://schemas.openxmlformats.org/officeDocument/2006/relationships/image" Target="../media/image47.png"/><Relationship Id="rId4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395280" y="3141720"/>
            <a:ext cx="8064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306"/>
                <a:gd name="adj2" fmla="val -1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99"/>
                    </a:gs>
                    <a:gs pos="100000">
                      <a:srgbClr val="ff3300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mentary Particl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99"/>
                  </a:gs>
                  <a:gs pos="100000">
                    <a:srgbClr val="ff3300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99"/>
                    </a:gs>
                    <a:gs pos="100000">
                      <a:srgbClr val="ff3300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hysic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99"/>
                  </a:gs>
                  <a:gs pos="100000">
                    <a:srgbClr val="ff3300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1727280" y="1774800"/>
            <a:ext cx="5400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BLACK  HO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0" name=""/>
          <p:cNvSpPr/>
          <p:nvPr/>
        </p:nvSpPr>
        <p:spPr>
          <a:xfrm>
            <a:off x="3188160" y="5278320"/>
            <a:ext cx="290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erard  ’t Ho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Unicode MS"/>
              </a:rPr>
              <a:t>Stueckelberg  L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Unicode MS"/>
              </a:rPr>
              <a:t>Pescara,  July  7-19,  2008</a:t>
            </a:r>
            <a:r>
              <a:rPr b="0" lang="en-US" sz="1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4"/>
          <a:stretch/>
        </p:blipFill>
        <p:spPr>
          <a:xfrm>
            <a:off x="5359320" y="255600"/>
            <a:ext cx="1013040" cy="101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51120" y="569880"/>
            <a:ext cx="19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trecht 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560" y="2549520"/>
            <a:ext cx="8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90400" y="2133720"/>
            <a:ext cx="6301080" cy="1312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cc9900"/>
                </a:solidFill>
                <a:latin typeface="Arial Unicode MS"/>
              </a:rPr>
              <a:t>Planck  Uni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124080" y="228600"/>
                <a:ext cx="50738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ℏ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4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kg 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sec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224" name=""/>
          <p:cNvGraphicFramePr/>
          <p:nvPr/>
        </p:nvGraphicFramePr>
        <p:xfrm>
          <a:off x="3733920" y="914400"/>
          <a:ext cx="4368600" cy="53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914400"/>
                    <a:ext cx="43686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636560" y="3495600"/>
          <a:ext cx="5781960" cy="282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6560" y="3495600"/>
                    <a:ext cx="5781960" cy="28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708360" y="1557360"/>
          <a:ext cx="4392720" cy="49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08360" y="1557360"/>
                    <a:ext cx="439272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Unicode MS"/>
              </a:rPr>
              <a:t>The  Black  Hole</a:t>
            </a:r>
            <a:endParaRPr b="0" lang="en-US" sz="6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1" name=""/>
          <p:cNvSpPr/>
          <p:nvPr/>
        </p:nvSpPr>
        <p:spPr>
          <a:xfrm>
            <a:off x="2361240" y="1400040"/>
            <a:ext cx="58820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lectromagnetism:  like  charges  rep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pposite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arges  attract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nd  to  neutraliz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93640" y="2911320"/>
            <a:ext cx="4906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ravity:  like  masses  attr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sses  tend  to  accumulat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5840" y="303120"/>
            <a:ext cx="9144000" cy="6832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5840" y="303120"/>
            <a:ext cx="9144000" cy="68328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15840" y="303120"/>
            <a:ext cx="9144000" cy="6832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15840" y="303120"/>
            <a:ext cx="9144000" cy="68328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31680" y="330120"/>
            <a:ext cx="9144000" cy="6832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7920" y="295200"/>
            <a:ext cx="9144000" cy="683280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3187800" y="2317680"/>
            <a:ext cx="3732120" cy="3064320"/>
            <a:chOff x="3187800" y="2317680"/>
            <a:chExt cx="3732120" cy="3064320"/>
          </a:xfrm>
        </p:grpSpPr>
        <p:sp>
          <p:nvSpPr>
            <p:cNvPr id="240" name=""/>
            <p:cNvSpPr/>
            <p:nvPr/>
          </p:nvSpPr>
          <p:spPr>
            <a:xfrm>
              <a:off x="3187800" y="2317680"/>
              <a:ext cx="2819160" cy="2819520"/>
            </a:xfrm>
            <a:prstGeom prst="ellipse">
              <a:avLst/>
            </a:prstGeom>
            <a:noFill/>
            <a:ln w="28440">
              <a:solidFill>
                <a:srgbClr val="ff41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61480" y="4800600"/>
              <a:ext cx="1558440" cy="581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4158"/>
                  </a:solidFill>
                  <a:latin typeface="Arial Unicode MS"/>
                </a:rPr>
                <a:t>horiz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33"/>
                </a:solidFill>
                <a:latin typeface="Arial Unicode MS"/>
              </a:rPr>
              <a:t>Where  is  the  gravitational  field  strongest?</a:t>
            </a:r>
            <a:r>
              <a:rPr b="0" i="1" lang="en-US" sz="3200" spc="-1" strike="noStrike">
                <a:solidFill>
                  <a:srgbClr val="99ff33"/>
                </a:solidFill>
                <a:latin typeface="Arial Unicode MS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3399ff"/>
                </a:solidFill>
                <a:latin typeface="Arial Unicode MS"/>
              </a:rPr>
              <a:t>The  formation  of  a  Black  Hol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3" name=""/>
          <p:cNvSpPr/>
          <p:nvPr/>
        </p:nvSpPr>
        <p:spPr>
          <a:xfrm>
            <a:off x="3214800" y="2347920"/>
            <a:ext cx="2757240" cy="274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24320" y="2943360"/>
            <a:ext cx="244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Unicode MS"/>
              </a:rPr>
              <a:t>even  light  cannot  escape  from  within  this  region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10360" y="601560"/>
            <a:ext cx="2361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Black  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200"/>
                            </p:stCondLst>
                            <p:childTnLst>
                              <p:par>
                                <p:cTn id="3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96240" y="237960"/>
            <a:ext cx="7751880" cy="459720"/>
          </a:xfrm>
          <a:prstGeom prst="rect">
            <a:avLst/>
          </a:prstGeom>
          <a:solidFill>
            <a:srgbClr val="ffcc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 Schwarzschild  Solution  to  Einstein’s 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28600" y="836640"/>
          <a:ext cx="866448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>
                    <a:alphaModFix amt="40000"/>
                  </a:blip>
                  <a:stretch/>
                </p:blipFill>
                <p:spPr>
                  <a:xfrm>
                    <a:off x="228600" y="836640"/>
                    <a:ext cx="866448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611280" y="1968480"/>
            <a:ext cx="3801960" cy="47005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793040" y="2133720"/>
            <a:ext cx="353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arl  Schwarzs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19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Über  das  Gravitationsf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ines  Massenpunktes  n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r  Einsteinschen  Theori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673600" y="4768920"/>
          <a:ext cx="2336760" cy="185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73600" y="4768920"/>
                    <a:ext cx="2336760" cy="18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3780000" y="620640"/>
            <a:ext cx="1728720" cy="1440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716360" y="2060640"/>
            <a:ext cx="2419560" cy="3730680"/>
            <a:chOff x="4716360" y="2060640"/>
            <a:chExt cx="2419560" cy="3730680"/>
          </a:xfrm>
        </p:grpSpPr>
        <p:sp>
          <p:nvSpPr>
            <p:cNvPr id="255" name=""/>
            <p:cNvSpPr/>
            <p:nvPr/>
          </p:nvSpPr>
          <p:spPr>
            <a:xfrm>
              <a:off x="5407200" y="4494240"/>
              <a:ext cx="1728720" cy="12970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16360" y="2060640"/>
              <a:ext cx="1079640" cy="252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300720" y="5589720"/>
            <a:ext cx="43200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96240" y="237960"/>
            <a:ext cx="7751880" cy="459720"/>
          </a:xfrm>
          <a:prstGeom prst="rect">
            <a:avLst/>
          </a:prstGeom>
          <a:solidFill>
            <a:srgbClr val="ffcc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 Schwarzschild  Solution  to  Einstein’s 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28600" y="836640"/>
          <a:ext cx="866448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>
                    <a:alphaModFix amt="40000"/>
                  </a:blip>
                  <a:stretch/>
                </p:blipFill>
                <p:spPr>
                  <a:xfrm>
                    <a:off x="228600" y="836640"/>
                    <a:ext cx="866448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611280" y="1968480"/>
            <a:ext cx="3801960" cy="47005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492360" y="692280"/>
            <a:ext cx="2303640" cy="1439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93040" y="2133720"/>
            <a:ext cx="353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arl  Schwarzs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19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Über  das  Gravitationsf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ines  Massenpunktes  n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r  Einsteinschen  Theori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025E-006 L -0.2283 0.00023 E">
                                      <p:cBhvr>
                                        <p:cTn id="37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825480" y="711360"/>
            <a:ext cx="7556400" cy="56131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838080" y="711360"/>
            <a:ext cx="7556760" cy="56131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04920" y="1066680"/>
            <a:ext cx="2438280" cy="609840"/>
          </a:xfrm>
          <a:prstGeom prst="wedgeRoundRectCallout">
            <a:avLst>
              <a:gd name="adj1" fmla="val 38412"/>
              <a:gd name="adj2" fmla="val 11484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Univers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77120" y="4572000"/>
            <a:ext cx="2438280" cy="609480"/>
          </a:xfrm>
          <a:prstGeom prst="wedgeRoundRectCallout">
            <a:avLst>
              <a:gd name="adj1" fmla="val -84115"/>
              <a:gd name="adj2" fmla="val 22398"/>
              <a:gd name="adj3" fmla="val 16667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Univers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2682720"/>
            <a:ext cx="4886280" cy="3870360"/>
            <a:chOff x="304920" y="2682720"/>
            <a:chExt cx="4886280" cy="3870360"/>
          </a:xfrm>
        </p:grpSpPr>
        <p:sp>
          <p:nvSpPr>
            <p:cNvPr id="269" name=""/>
            <p:cNvSpPr/>
            <p:nvPr/>
          </p:nvSpPr>
          <p:spPr>
            <a:xfrm>
              <a:off x="4095720" y="2682720"/>
              <a:ext cx="1095480" cy="6066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4920" y="4572000"/>
              <a:ext cx="2438280" cy="1981080"/>
            </a:xfrm>
            <a:prstGeom prst="wedgeRoundRectCallout">
              <a:avLst>
                <a:gd name="adj1" fmla="val 109634"/>
                <a:gd name="adj2" fmla="val -123958"/>
                <a:gd name="adj3" fmla="val 16667"/>
              </a:avLst>
            </a:prstGeom>
            <a:solidFill>
              <a:srgbClr val="ffffff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“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Time”  stands  still  at  the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 Unicode MS"/>
                </a:rPr>
                <a:t>horiz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343240" y="5546880"/>
            <a:ext cx="5895360" cy="990360"/>
            <a:chOff x="2343240" y="5546880"/>
            <a:chExt cx="5895360" cy="990360"/>
          </a:xfrm>
        </p:grpSpPr>
        <p:sp>
          <p:nvSpPr>
            <p:cNvPr id="272" name=""/>
            <p:cNvSpPr/>
            <p:nvPr/>
          </p:nvSpPr>
          <p:spPr>
            <a:xfrm>
              <a:off x="2466720" y="5575320"/>
              <a:ext cx="5771880" cy="947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 Unicode MS"/>
                </a:rPr>
                <a:t>So,  one  cannot  travel  from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 Unicode MS"/>
                </a:rPr>
                <a:t>one  universe  to  the  oth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43240" y="5546880"/>
              <a:ext cx="380880" cy="99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859280" y="404640"/>
            <a:ext cx="2438280" cy="609840"/>
          </a:xfrm>
          <a:prstGeom prst="wedgeRoundRectCallout">
            <a:avLst>
              <a:gd name="adj1" fmla="val -51495"/>
              <a:gd name="adj2" fmla="val 373439"/>
              <a:gd name="adj3" fmla="val 16667"/>
            </a:avLst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lack  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99240" y="981000"/>
            <a:ext cx="25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r  wormh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-5550840" y="614520"/>
            <a:ext cx="7572600" cy="546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93" y="3780"/>
                </a:moveTo>
                <a:arcTo wR="10800" hR="10800" stAng="-8367315" swAng="5952361"/>
                <a:lnTo>
                  <a:pt x="10800" y="10800"/>
                </a:lnTo>
                <a:close/>
              </a:path>
              <a:path fill="none" w="21600" h="21600">
                <a:moveTo>
                  <a:pt x="2593" y="3780"/>
                </a:moveTo>
                <a:arcTo wR="10800" hR="10800" stAng="-8367315" swAng="5952361"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900000" y="2492280"/>
            <a:ext cx="936720" cy="15242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572000" y="27000"/>
            <a:ext cx="4572000" cy="6831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718200" y="690840"/>
            <a:ext cx="7571160" cy="546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8" y="6465"/>
                </a:moveTo>
                <a:arcTo wR="10800" hR="10800" stAng="-9380075" swAng="8137088"/>
                <a:lnTo>
                  <a:pt x="10800" y="10800"/>
                </a:lnTo>
                <a:close/>
              </a:path>
              <a:path fill="none" w="21600" h="21600">
                <a:moveTo>
                  <a:pt x="908" y="6465"/>
                </a:moveTo>
                <a:arcTo wR="10800" hR="10800" stAng="-9380075" swAng="8137088"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0"/>
            <a:ext cx="107964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45000" y="0"/>
            <a:ext cx="0" cy="6858000"/>
          </a:xfrm>
          <a:prstGeom prst="line">
            <a:avLst/>
          </a:prstGeom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4859280" y="2565360"/>
            <a:ext cx="936720" cy="15238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46120" y="189000"/>
            <a:ext cx="348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s  seen  by  di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bserv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43640" y="260280"/>
            <a:ext cx="2524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xperie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y  astro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ut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himself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760" y="5084640"/>
            <a:ext cx="863604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hey  experience  </a:t>
            </a:r>
            <a:r>
              <a:rPr b="0" i="1" lang="en-US" sz="2400" spc="-1" strike="noStrike">
                <a:solidFill>
                  <a:srgbClr val="ff0000"/>
                </a:solidFill>
                <a:latin typeface="Arial Unicode MS"/>
              </a:rPr>
              <a:t>time</a:t>
            </a: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 differently.  Mathematics  tells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hat,  consequently,  they  experience  </a:t>
            </a:r>
            <a:r>
              <a:rPr b="0" i="1" lang="en-US" sz="2400" spc="-1" strike="noStrike">
                <a:solidFill>
                  <a:srgbClr val="ff0000"/>
                </a:solidFill>
                <a:latin typeface="Arial Unicode MS"/>
              </a:rPr>
              <a:t>particles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  differentl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s 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22360" y="1268280"/>
            <a:ext cx="26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ime  stands  st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t  the  hori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440840" y="3537000"/>
            <a:ext cx="163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his 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52280" y="22320"/>
            <a:ext cx="8744040" cy="68119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4920" y="-2700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Stephen  Hawking’s  great  discovery: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3" name=""/>
          <p:cNvSpPr/>
          <p:nvPr/>
        </p:nvSpPr>
        <p:spPr>
          <a:xfrm>
            <a:off x="2413080" y="914400"/>
            <a:ext cx="42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the  radiating  black  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403280" y="0"/>
            <a:ext cx="7740720" cy="6858000"/>
            <a:chOff x="1403280" y="0"/>
            <a:chExt cx="7740720" cy="6858000"/>
          </a:xfrm>
        </p:grpSpPr>
        <p:pic>
          <p:nvPicPr>
            <p:cNvPr id="295" name="" descr=""/>
            <p:cNvPicPr/>
            <p:nvPr/>
          </p:nvPicPr>
          <p:blipFill>
            <a:blip r:embed="rId2"/>
            <a:stretch/>
          </p:blipFill>
          <p:spPr>
            <a:xfrm>
              <a:off x="8640720" y="0"/>
              <a:ext cx="50328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3"/>
            <a:stretch/>
          </p:blipFill>
          <p:spPr>
            <a:xfrm>
              <a:off x="1403280" y="6345360"/>
              <a:ext cx="503280" cy="51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7" name=""/>
          <p:cNvGrpSpPr/>
          <p:nvPr/>
        </p:nvGrpSpPr>
        <p:grpSpPr>
          <a:xfrm>
            <a:off x="0" y="404640"/>
            <a:ext cx="8388360" cy="6453360"/>
            <a:chOff x="0" y="404640"/>
            <a:chExt cx="8388360" cy="6453360"/>
          </a:xfrm>
        </p:grpSpPr>
        <p:pic>
          <p:nvPicPr>
            <p:cNvPr id="298" name="" descr=""/>
            <p:cNvPicPr/>
            <p:nvPr/>
          </p:nvPicPr>
          <p:blipFill>
            <a:blip r:embed="rId4"/>
            <a:stretch/>
          </p:blipFill>
          <p:spPr>
            <a:xfrm>
              <a:off x="7885080" y="6345360"/>
              <a:ext cx="50328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5"/>
            <a:stretch/>
          </p:blipFill>
          <p:spPr>
            <a:xfrm>
              <a:off x="0" y="404640"/>
              <a:ext cx="503280" cy="51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/>
          <p:cNvSpPr/>
          <p:nvPr/>
        </p:nvSpPr>
        <p:spPr>
          <a:xfrm>
            <a:off x="3203640" y="2205000"/>
            <a:ext cx="2751120" cy="277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1801800" y="1425600"/>
            <a:ext cx="7343640" cy="46990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2971800" y="1889280"/>
            <a:ext cx="3581280" cy="350496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1809720" y="1425600"/>
            <a:ext cx="7331040" cy="4694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7491600" y="4221000"/>
            <a:ext cx="129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57640" y="789120"/>
            <a:ext cx="1643040" cy="609480"/>
          </a:xfrm>
          <a:prstGeom prst="borderCallout1">
            <a:avLst>
              <a:gd name="adj1" fmla="val 18750"/>
              <a:gd name="adj2" fmla="val -8333"/>
              <a:gd name="adj3" fmla="val 153125"/>
              <a:gd name="adj4" fmla="val -6115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horiz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523920" y="204156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Region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26720" y="297180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 Unicode MS"/>
              </a:rPr>
              <a:t>Region 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809640" y="252360"/>
          <a:ext cx="2817720" cy="118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5">
                    <a:alphaModFix amt="50000"/>
                  </a:blip>
                  <a:stretch/>
                </p:blipFill>
                <p:spPr>
                  <a:xfrm>
                    <a:off x="809640" y="252360"/>
                    <a:ext cx="28177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780000" y="3645000"/>
            <a:ext cx="792000" cy="576000"/>
          </a:xfrm>
          <a:prstGeom prst="rect">
            <a:avLst/>
          </a:prstGeom>
          <a:solidFill>
            <a:srgbClr val="c8f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67640" y="3500280"/>
            <a:ext cx="647640" cy="649440"/>
          </a:xfrm>
          <a:prstGeom prst="rect">
            <a:avLst/>
          </a:prstGeom>
          <a:solidFill>
            <a:srgbClr val="c8fa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007880" y="3825720"/>
            <a:ext cx="2577960" cy="1191240"/>
          </a:xfrm>
          <a:prstGeom prst="rect">
            <a:avLst/>
          </a:prstGeom>
          <a:solidFill>
            <a:srgbClr val="00cc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side:  partic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n  hav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egative 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125480" y="2817720"/>
            <a:ext cx="2075040" cy="1191240"/>
          </a:xfrm>
          <a:prstGeom prst="rect">
            <a:avLst/>
          </a:prstGeom>
          <a:solidFill>
            <a:srgbClr val="00cc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utsid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rticle  ca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9900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6" dur="1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154764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" y="139716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11280" y="-12600"/>
            <a:ext cx="7632720" cy="6881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7680" y="3581280"/>
            <a:ext cx="10447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LH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Arial"/>
              </a:rPr>
              <a:t>L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Arial"/>
              </a:rPr>
              <a:t>Had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Arial"/>
              </a:rPr>
              <a:t>Coll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2000" y="61531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58000" y="61945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0509 C 0.0632 0.00393 0.09636 -0.00162 0.14966 -0.01295 C 0.20295 -0.02428 0.28039 -0.037 0.32431 -0.07262 C 0.36823 -0.10823 0.40174 -0.18409 0.41337 -0.22641 C 0.425 -0.26873 0.40677 -0.29764 0.39445 -0.32701 C 0.38212 -0.35638 0.36736 -0.37905 0.33924 -0.40263 C 0.31111 -0.42622 0.2724 -0.45236 0.22587 -0.46831 C 0.17934 -0.48427 0.12032 -0.49838 0.06025 -0.49861 C 0.00052 -0.49884 -0.07343 -0.49607 -0.13385 -0.47016 C -0.19427 -0.44426 -0.27239 -0.3913 -0.3026 -0.34297 C -0.33281 -0.29463 -0.34618 -0.23196 -0.31475 -0.18039 C -0.28333 -0.12881 -0.1934 -0.06105 -0.11441 -0.03284 C -0.03541 -0.00462 0.07761 0.00532 0.15973 -0.01087 C 0.24184 -0.02706 0.33802 -0.07817 0.37813 -0.1302 C 0.41823 -0.18224 0.43091 -0.26411 0.40052 -0.32308 C 0.37014 -0.38205 0.27813 -0.45791 0.19566 -0.4845 C 0.11285 -0.5111 -0.01718 -0.49861 -0.09427 -0.48242 C -0.17118 -0.466 -0.22621 -0.42738 -0.26632 -0.38783 C -0.30642 -0.34829 -0.34635 -0.29903 -0.33541 -0.2456 C -0.32448 -0.19218 -0.25694 -0.10731 -0.20017 -0.0673 C -0.1434 -0.02729 -0.05347 -0.01411 0.00486 -0.00509 Z"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87 -0.01297 C 0.04601 -0.00602 -0.01788 -0.0081 -0.07777 -0.0213 C -0.13767 -0.03449 -0.20833 -0.05556 -0.25451 -0.0926 C -0.30069 -0.12963 -0.34548 -0.19607 -0.3552 -0.24352 C -0.36493 -0.29097 -0.32604 -0.34838 -0.31267 -0.37709 C -0.2993 -0.40579 -0.29357 -0.40162 -0.27447 -0.41574 C -0.25538 -0.42986 -0.24357 -0.44653 -0.19774 -0.46135 C -0.15191 -0.47616 -0.06458 -0.50185 0.00035 -0.5044 C 0.06528 -0.50695 0.14306 -0.49005 0.19219 -0.47685 C 0.24132 -0.46366 0.26684 -0.44584 0.2948 -0.42454 C 0.32275 -0.40324 0.34428 -0.37199 0.35973 -0.34954 C 0.37518 -0.32709 0.38403 -0.31204 0.38803 -0.28912 C 0.39202 -0.26621 0.39271 -0.24213 0.38386 -0.2125 C 0.375 -0.18287 0.36875 -0.14236 0.33473 -0.11135 C 0.3007 -0.08033 0.25226 -0.04097 0.17987 -0.02685 C 0.10747 -0.01273 -0.01788 -0.00695 -0.09947 -0.02685 C -0.18107 -0.04676 -0.26822 -0.09792 -0.30972 -0.1463 C -0.35121 -0.19468 -0.35902 -0.26898 -0.34861 -0.3176 C -0.33819 -0.36621 -0.28142 -0.41111 -0.24774 -0.43797 C -0.21406 -0.46482 -0.17517 -0.46922 -0.14687 -0.47917 C -0.11857 -0.48912 -0.12395 -0.49491 -0.07777 -0.49792 C -0.03159 -0.50093 0.07726 -0.50301 0.12969 -0.49676 C 0.18212 -0.49051 0.20417 -0.47616 0.23646 -0.46019 C 0.26875 -0.44422 0.29862 -0.42685 0.32309 -0.40116 C 0.34757 -0.37547 0.3724 -0.33334 0.38386 -0.30579 C 0.39532 -0.27824 0.39323 -0.25834 0.39132 -0.23565 C 0.38941 -0.21297 0.39184 -0.19792 0.37223 -0.16898 C 0.35261 -0.14005 0.31858 -0.08843 0.27396 -0.0625 C 0.22934 -0.03658 0.14011 -0.02315 0.10487 -0.01297 Z">
                                      <p:cBhvr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1801800" y="1425600"/>
            <a:ext cx="7343640" cy="4699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971800" y="1889280"/>
            <a:ext cx="3581280" cy="350496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1809720" y="1425600"/>
            <a:ext cx="7331040" cy="46940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907360" y="409896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 Unicode MS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 Unicode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86880" y="4098960"/>
            <a:ext cx="129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57640" y="789120"/>
            <a:ext cx="1643040" cy="609480"/>
          </a:xfrm>
          <a:prstGeom prst="borderCallout1">
            <a:avLst>
              <a:gd name="adj1" fmla="val 18750"/>
              <a:gd name="adj2" fmla="val -8333"/>
              <a:gd name="adj3" fmla="val 153125"/>
              <a:gd name="adj4" fmla="val -6115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horiz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523920" y="204156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Region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26720" y="265104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 Unicode MS"/>
              </a:rPr>
              <a:t>Region 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826920" y="252360"/>
          <a:ext cx="2781360" cy="118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5">
                    <a:alphaModFix amt="50000"/>
                  </a:blip>
                  <a:stretch/>
                </p:blipFill>
                <p:spPr>
                  <a:xfrm>
                    <a:off x="826920" y="252360"/>
                    <a:ext cx="27813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3780000" y="3645000"/>
            <a:ext cx="792000" cy="576000"/>
          </a:xfrm>
          <a:prstGeom prst="rect">
            <a:avLst/>
          </a:prstGeom>
          <a:solidFill>
            <a:srgbClr val="c8f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67640" y="3500280"/>
            <a:ext cx="647640" cy="649440"/>
          </a:xfrm>
          <a:prstGeom prst="rect">
            <a:avLst/>
          </a:prstGeom>
          <a:solidFill>
            <a:srgbClr val="c8fa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65440" y="3860640"/>
            <a:ext cx="232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s  p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nnot  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2894040"/>
            <a:ext cx="19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s  p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sc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68706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4920" y="0"/>
            <a:ext cx="910908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87840" y="2733840"/>
            <a:ext cx="72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ile  emitting  particles,  the  black  hole  lo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nergy,  hence  mass ...  they  become  smal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005120" y="3646440"/>
            <a:ext cx="754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ighter  (smaller)  black  holes  emit  more  intens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adiation  than  heavier  (larger) 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022400" y="4551480"/>
            <a:ext cx="74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 emission  becomes  more  and  more  inten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nd  ends  with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32000" y="4149720"/>
            <a:ext cx="6624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3635280" y="476280"/>
            <a:ext cx="19447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5600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cmd type="call" cmd="togglePause">
                                      <p:cBhvr>
                                        <p:cTn id="520" dur="1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2349360"/>
            <a:ext cx="9144000" cy="3167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809880" y="3124080"/>
            <a:ext cx="1371600" cy="1523880"/>
            <a:chOff x="3809880" y="3124080"/>
            <a:chExt cx="1371600" cy="1523880"/>
          </a:xfrm>
        </p:grpSpPr>
        <p:grpSp>
          <p:nvGrpSpPr>
            <p:cNvPr id="337" name=""/>
            <p:cNvGrpSpPr/>
            <p:nvPr/>
          </p:nvGrpSpPr>
          <p:grpSpPr>
            <a:xfrm>
              <a:off x="3809880" y="3124080"/>
              <a:ext cx="1371600" cy="1523880"/>
              <a:chOff x="3809880" y="3124080"/>
              <a:chExt cx="1371600" cy="1523880"/>
            </a:xfrm>
          </p:grpSpPr>
          <p:sp>
            <p:nvSpPr>
              <p:cNvPr id="338" name=""/>
              <p:cNvSpPr/>
              <p:nvPr/>
            </p:nvSpPr>
            <p:spPr>
              <a:xfrm>
                <a:off x="3809880" y="3311280"/>
                <a:ext cx="1371600" cy="13366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"/>
              <p:cNvGrpSpPr/>
              <p:nvPr/>
            </p:nvGrpSpPr>
            <p:grpSpPr>
              <a:xfrm>
                <a:off x="3990240" y="3475440"/>
                <a:ext cx="1010520" cy="1005120"/>
                <a:chOff x="3990240" y="3475440"/>
                <a:chExt cx="1010520" cy="1005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990240" y="3475440"/>
                  <a:ext cx="1010520" cy="1005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528440" y="3952800"/>
                  <a:ext cx="72000" cy="281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4290840" y="3124080"/>
                <a:ext cx="433080" cy="210960"/>
              </a:xfrm>
              <a:prstGeom prst="ellipse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4015800" y="3452400"/>
              <a:ext cx="1054800" cy="1116000"/>
              <a:chOff x="4015800" y="3452400"/>
              <a:chExt cx="1054800" cy="1116000"/>
            </a:xfrm>
          </p:grpSpPr>
          <p:sp>
            <p:nvSpPr>
              <p:cNvPr id="344" name=""/>
              <p:cNvSpPr/>
              <p:nvPr/>
            </p:nvSpPr>
            <p:spPr>
              <a:xfrm>
                <a:off x="4264560" y="3452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Microsoft Sans Serif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65000" y="41086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Microsoft Sans Serif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16000" y="3778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Microsoft Sans Serif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015800" y="3790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Microsoft Sans Serif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4387320" y="3967920"/>
                <a:ext cx="144000" cy="421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609480" y="3124080"/>
            <a:ext cx="1371600" cy="1523880"/>
            <a:chOff x="609480" y="3124080"/>
            <a:chExt cx="1371600" cy="1523880"/>
          </a:xfrm>
        </p:grpSpPr>
        <p:grpSp>
          <p:nvGrpSpPr>
            <p:cNvPr id="350" name=""/>
            <p:cNvGrpSpPr/>
            <p:nvPr/>
          </p:nvGrpSpPr>
          <p:grpSpPr>
            <a:xfrm>
              <a:off x="609480" y="3124080"/>
              <a:ext cx="1371600" cy="1523880"/>
              <a:chOff x="609480" y="3124080"/>
              <a:chExt cx="1371600" cy="15238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9480" y="3311280"/>
                <a:ext cx="1371600" cy="13366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789840" y="3475440"/>
                <a:ext cx="1010520" cy="1005120"/>
                <a:chOff x="789840" y="3475440"/>
                <a:chExt cx="1010520" cy="10051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789840" y="3475440"/>
                  <a:ext cx="1010520" cy="1005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328040" y="3952800"/>
                  <a:ext cx="72000" cy="281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>
                <a:off x="1090440" y="3124080"/>
                <a:ext cx="433080" cy="210960"/>
              </a:xfrm>
              <a:prstGeom prst="ellipse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815400" y="3452400"/>
              <a:ext cx="1054800" cy="1116000"/>
              <a:chOff x="815400" y="3452400"/>
              <a:chExt cx="1054800" cy="1116000"/>
            </a:xfrm>
          </p:grpSpPr>
          <p:sp>
            <p:nvSpPr>
              <p:cNvPr id="357" name=""/>
              <p:cNvSpPr/>
              <p:nvPr/>
            </p:nvSpPr>
            <p:spPr>
              <a:xfrm>
                <a:off x="1064160" y="3452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Microsoft Sans Serif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164600" y="41086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Microsoft Sans Serif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15600" y="3778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Microsoft Sans Serif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15400" y="3790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Microsoft Sans Serif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1186920" y="3967920"/>
                <a:ext cx="144000" cy="421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62" name=""/>
          <p:cNvGraphicFramePr/>
          <p:nvPr/>
        </p:nvGraphicFramePr>
        <p:xfrm>
          <a:off x="4378320" y="5470560"/>
          <a:ext cx="1152360" cy="79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78320" y="5470560"/>
                    <a:ext cx="11523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536040" y="5592600"/>
            <a:ext cx="36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lack  hole  plus 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3352680" y="27432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7696080" y="4113360"/>
            <a:ext cx="685800" cy="6588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6"/>
          <a:stretch/>
        </p:blipFill>
        <p:spPr>
          <a:xfrm>
            <a:off x="7238880" y="3046320"/>
            <a:ext cx="6001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68" name=""/>
          <p:cNvGrpSpPr/>
          <p:nvPr/>
        </p:nvGrpSpPr>
        <p:grpSpPr>
          <a:xfrm>
            <a:off x="3181320" y="2604960"/>
            <a:ext cx="5512320" cy="3566880"/>
            <a:chOff x="3181320" y="2604960"/>
            <a:chExt cx="5512320" cy="3566880"/>
          </a:xfrm>
        </p:grpSpPr>
        <p:graphicFrame>
          <p:nvGraphicFramePr>
            <p:cNvPr id="369" name=""/>
            <p:cNvGraphicFramePr/>
            <p:nvPr/>
          </p:nvGraphicFramePr>
          <p:xfrm>
            <a:off x="4608720" y="5484600"/>
            <a:ext cx="996840" cy="687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7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08720" y="5484600"/>
                      <a:ext cx="99684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1" name=""/>
            <p:cNvSpPr/>
            <p:nvPr/>
          </p:nvSpPr>
          <p:spPr>
            <a:xfrm>
              <a:off x="5722560" y="5606640"/>
              <a:ext cx="297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icrosoft Sans Serif"/>
                </a:rPr>
                <a:t>Heavier  black  ho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" descr=""/>
            <p:cNvPicPr/>
            <p:nvPr/>
          </p:nvPicPr>
          <p:blipFill>
            <a:blip r:embed="rId9"/>
            <a:stretch/>
          </p:blipFill>
          <p:spPr>
            <a:xfrm>
              <a:off x="3181320" y="2604960"/>
              <a:ext cx="2700360" cy="27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"/>
          <p:cNvSpPr/>
          <p:nvPr/>
        </p:nvSpPr>
        <p:spPr>
          <a:xfrm>
            <a:off x="991080" y="1393920"/>
            <a:ext cx="716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icrosoft Sans Serif"/>
              </a:rPr>
              <a:t>compare  Hawking’s  particle  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Microsoft Sans Serif"/>
              </a:rPr>
              <a:t>emission</a:t>
            </a:r>
            <a:r>
              <a:rPr b="0" lang="en-US" sz="2400" spc="-1" strike="noStrike">
                <a:solidFill>
                  <a:srgbClr val="660066"/>
                </a:solidFill>
                <a:latin typeface="Microsoft Sans Serif"/>
              </a:rPr>
              <a:t>  proces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icrosoft Sans Serif"/>
              </a:rPr>
              <a:t>with  the  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Microsoft Sans Serif"/>
              </a:rPr>
              <a:t>absorption</a:t>
            </a:r>
            <a:r>
              <a:rPr b="0" lang="en-US" sz="2400" spc="-1" strike="noStrike">
                <a:solidFill>
                  <a:srgbClr val="660066"/>
                </a:solidFill>
                <a:latin typeface="Microsoft Sans Serif"/>
              </a:rPr>
              <a:t> 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04760" y="5091120"/>
            <a:ext cx="41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00"/>
                </a:solidFill>
                <a:latin typeface="Microsoft Sans Serif"/>
                <a:ea typeface="Arial Unicode MS"/>
              </a:rPr>
              <a:t>→</a:t>
            </a:r>
            <a:r>
              <a:rPr b="0" lang="en-US" sz="6600" spc="-1" strike="noStrike">
                <a:solidFill>
                  <a:srgbClr val="000000"/>
                </a:solidFill>
                <a:latin typeface="Microsoft Sans Serif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  <a:ea typeface="Arial Unicode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Heavier  black  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91440" y="487440"/>
            <a:ext cx="35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In  a  black  ho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31280" y="909720"/>
            <a:ext cx="841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f  the  heavier  black  hole  could  exist  in  muc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ore  quantum  states  than  the  lighter  one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 absorption  process  would  be  favored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1280" y="2703600"/>
            <a:ext cx="841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f  the  heavier  black  hole  could  exist  in  muc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ewer  quantum  states  than  the  lighter  one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 emission  process  would  be  favored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5520" y="4503600"/>
            <a:ext cx="805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mparing  the  probabilities  of  these 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rocesses,  gives  us  the  number  of  qua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ates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228600" y="2089080"/>
          <a:ext cx="8720280" cy="154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089080"/>
                    <a:ext cx="872028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 rot="952200">
            <a:off x="-2413080" y="5229000"/>
            <a:ext cx="2232000" cy="1079280"/>
          </a:xfrm>
          <a:prstGeom prst="wedgeRoundRectCallout">
            <a:avLst>
              <a:gd name="adj1" fmla="val 23837"/>
              <a:gd name="adj2" fmla="val -147291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of  th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 Unicode MS"/>
              </a:rPr>
              <a:t>final</a:t>
            </a: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 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21348000">
            <a:off x="-3147480" y="5640480"/>
            <a:ext cx="3147840" cy="1217520"/>
          </a:xfrm>
          <a:prstGeom prst="wedgeRoundRectCallout">
            <a:avLst>
              <a:gd name="adj1" fmla="val -2398"/>
              <a:gd name="adj2" fmla="val -133064"/>
              <a:gd name="adj3" fmla="val 16667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ime  reversal  symmetry  (PCT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 Unicode MS"/>
              </a:rPr>
              <a:t>forwards  and  backwards  in  time:   the  s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7136 0.30278 L 0.38854 -0.15903 E">
                                      <p:cBhvr>
                                        <p:cTn id="588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0.11019 L 0.75608 -0.1206 E">
                                      <p:cBhvr>
                                        <p:cTn id="592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4004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539640" y="1935000"/>
          <a:ext cx="2494080" cy="18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935000"/>
                    <a:ext cx="249408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389160" y="730080"/>
            <a:ext cx="83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 Unicode MS"/>
              </a:rPr>
              <a:t>The  black  hole  as  an  information  processing 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3844800" y="1476360"/>
            <a:ext cx="5048280" cy="50482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260640" y="4149720"/>
            <a:ext cx="31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Unicode MS"/>
              </a:rPr>
              <a:t>The  constant  o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Unicode MS"/>
              </a:rPr>
              <a:t>integration:  a  f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ccffff"/>
                </a:solidFill>
                <a:latin typeface="Arial Unicode MS"/>
              </a:rPr>
              <a:t>bits”  on  the  sid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56000" y="5373720"/>
            <a:ext cx="1295280" cy="1152360"/>
            <a:chOff x="2556000" y="5373720"/>
            <a:chExt cx="1295280" cy="1152360"/>
          </a:xfrm>
        </p:grpSpPr>
        <p:sp>
          <p:nvSpPr>
            <p:cNvPr id="390" name=""/>
            <p:cNvSpPr/>
            <p:nvPr/>
          </p:nvSpPr>
          <p:spPr>
            <a:xfrm>
              <a:off x="2556000" y="5373720"/>
              <a:ext cx="1295280" cy="11523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43280" y="5445000"/>
              <a:ext cx="503280" cy="431280"/>
            </a:xfrm>
            <a:prstGeom prst="rect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03640" y="5949720"/>
              <a:ext cx="503280" cy="431640"/>
            </a:xfrm>
            <a:prstGeom prst="rect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2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8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6320" y="76320"/>
            <a:ext cx="8915400" cy="67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04720" y="2643120"/>
            <a:ext cx="8028000" cy="4214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899640" y="1166760"/>
            <a:ext cx="35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Unicode MS"/>
              </a:rPr>
              <a:t>Are  black  holes  j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Arial Unicode MS"/>
              </a:rPr>
              <a:t>elementary  particles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31160" y="4983120"/>
            <a:ext cx="164232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Unicode MS"/>
              </a:rPr>
              <a:t>Black 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Arial Unicode MS"/>
              </a:rPr>
              <a:t>partic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6240" y="2781360"/>
            <a:ext cx="166356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9900"/>
                </a:solidFill>
                <a:latin typeface="Arial Unicode MS"/>
              </a:rPr>
              <a:t>Impl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9900"/>
                </a:solidFill>
                <a:latin typeface="Arial Unicode MS"/>
              </a:rPr>
              <a:t>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36720" y="2781360"/>
            <a:ext cx="28112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33cc"/>
                </a:solidFill>
                <a:latin typeface="Arial Unicode MS"/>
              </a:rPr>
              <a:t>Hawking 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85760" y="1166760"/>
            <a:ext cx="376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Unicode MS"/>
              </a:rPr>
              <a:t>Are elementary 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 Unicode MS"/>
              </a:rPr>
              <a:t>just  “black  holes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04480" y="577800"/>
            <a:ext cx="69350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ropy  =  ln ( 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# states )  =  ¼ (area  of  horiz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46200" y="523800"/>
            <a:ext cx="8202960" cy="1252080"/>
          </a:xfrm>
          <a:prstGeom prst="rect">
            <a:avLst/>
          </a:prstGeom>
          <a:solidFill>
            <a:srgbClr val="ffffc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ogma:  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We  should  be  able  to  derive  all 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of  these  states  simply  by  applying  General  Rel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o  the  black  hole  horizon  ...   </a:t>
            </a:r>
            <a:r>
              <a:rPr b="0" lang="en-US" sz="2400" spc="-1" strike="noStrike">
                <a:solidFill>
                  <a:srgbClr val="33cc33"/>
                </a:solidFill>
                <a:latin typeface="Arial Unicode MS"/>
              </a:rPr>
              <a:t>[ isn’t  it ?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89120" y="2228760"/>
            <a:ext cx="6013080" cy="459720"/>
          </a:xfrm>
          <a:prstGeom prst="rect">
            <a:avLst/>
          </a:prstGeom>
          <a:solidFill>
            <a:srgbClr val="ffffc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hat  does  </a:t>
            </a:r>
            <a:r>
              <a:rPr b="1" i="1" lang="en-US" sz="2400" spc="-1" strike="noStrike">
                <a:solidFill>
                  <a:srgbClr val="ff0000"/>
                </a:solidFill>
                <a:latin typeface="Arial Unicode MS"/>
              </a:rPr>
              <a:t>NOT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  seem  to  be  the  case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9000" y="3116160"/>
            <a:ext cx="7887960" cy="825480"/>
          </a:xfrm>
          <a:prstGeom prst="rect">
            <a:avLst/>
          </a:prstGeom>
          <a:solidFill>
            <a:srgbClr val="ffffc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For  starters:  </a:t>
            </a: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every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  initial  state  that  forms  a  blac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hole  generates  the  </a:t>
            </a: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same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  thermal  final 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080" y="4262400"/>
            <a:ext cx="798372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But  should  a  pure  quantum  initial  state  not  ev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into  a  pure  final  st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6880" y="5343480"/>
            <a:ext cx="8053560" cy="825480"/>
          </a:xfrm>
          <a:prstGeom prst="rect">
            <a:avLst/>
          </a:prstGeom>
          <a:solidFill>
            <a:srgbClr val="ffffc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he  calculation  of  the  Hawking  effect  suggests 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pure  states  evolve  into  </a:t>
            </a: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mixed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  state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rId2" action="ppaction://hlinksldjump"/>
          </p:cNvPr>
          <p:cNvSpPr/>
          <p:nvPr/>
        </p:nvSpPr>
        <p:spPr>
          <a:xfrm>
            <a:off x="8515080" y="616572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26880" y="27000"/>
            <a:ext cx="2913120" cy="5797440"/>
          </a:xfrm>
          <a:custGeom>
            <a:avLst/>
            <a:gdLst/>
            <a:ahLst/>
            <a:rect l="l" t="t" r="r" b="b"/>
            <a:pathLst>
              <a:path w="1835" h="3652">
                <a:moveTo>
                  <a:pt x="1814" y="0"/>
                </a:moveTo>
                <a:cubicBezTo>
                  <a:pt x="1814" y="309"/>
                  <a:pt x="1835" y="1438"/>
                  <a:pt x="1814" y="1849"/>
                </a:cubicBezTo>
                <a:cubicBezTo>
                  <a:pt x="1793" y="2260"/>
                  <a:pt x="1751" y="2272"/>
                  <a:pt x="1685" y="2468"/>
                </a:cubicBezTo>
                <a:cubicBezTo>
                  <a:pt x="1619" y="2664"/>
                  <a:pt x="1526" y="2859"/>
                  <a:pt x="1419" y="3026"/>
                </a:cubicBezTo>
                <a:cubicBezTo>
                  <a:pt x="1312" y="3193"/>
                  <a:pt x="1146" y="3396"/>
                  <a:pt x="1041" y="3473"/>
                </a:cubicBezTo>
                <a:cubicBezTo>
                  <a:pt x="936" y="3550"/>
                  <a:pt x="942" y="3652"/>
                  <a:pt x="791" y="3491"/>
                </a:cubicBezTo>
                <a:cubicBezTo>
                  <a:pt x="640" y="3330"/>
                  <a:pt x="266" y="3088"/>
                  <a:pt x="134" y="2506"/>
                </a:cubicBezTo>
                <a:cubicBezTo>
                  <a:pt x="2" y="1924"/>
                  <a:pt x="28" y="522"/>
                  <a:pt x="0" y="0"/>
                </a:cubicBezTo>
              </a:path>
            </a:pathLst>
          </a:custGeom>
          <a:solidFill>
            <a:srgbClr val="85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417680" y="1706400"/>
            <a:ext cx="3024000" cy="4389480"/>
            <a:chOff x="1417680" y="1706400"/>
            <a:chExt cx="3024000" cy="4389480"/>
          </a:xfrm>
        </p:grpSpPr>
        <p:grpSp>
          <p:nvGrpSpPr>
            <p:cNvPr id="410" name=""/>
            <p:cNvGrpSpPr/>
            <p:nvPr/>
          </p:nvGrpSpPr>
          <p:grpSpPr>
            <a:xfrm>
              <a:off x="1600200" y="1706400"/>
              <a:ext cx="2841480" cy="4389480"/>
              <a:chOff x="1600200" y="1706400"/>
              <a:chExt cx="2841480" cy="4389480"/>
            </a:xfrm>
          </p:grpSpPr>
          <p:sp>
            <p:nvSpPr>
              <p:cNvPr id="411" name=""/>
              <p:cNvSpPr/>
              <p:nvPr/>
            </p:nvSpPr>
            <p:spPr>
              <a:xfrm>
                <a:off x="1600200" y="1706400"/>
                <a:ext cx="2835000" cy="4389480"/>
              </a:xfrm>
              <a:custGeom>
                <a:avLst/>
                <a:gdLst/>
                <a:ahLst/>
                <a:rect l="l" t="t" r="r" b="b"/>
                <a:pathLst>
                  <a:path w="1786" h="2765">
                    <a:moveTo>
                      <a:pt x="0" y="2765"/>
                    </a:moveTo>
                    <a:cubicBezTo>
                      <a:pt x="60" y="2701"/>
                      <a:pt x="246" y="2505"/>
                      <a:pt x="358" y="2381"/>
                    </a:cubicBezTo>
                    <a:cubicBezTo>
                      <a:pt x="470" y="2257"/>
                      <a:pt x="580" y="2169"/>
                      <a:pt x="672" y="2023"/>
                    </a:cubicBezTo>
                    <a:cubicBezTo>
                      <a:pt x="764" y="1877"/>
                      <a:pt x="829" y="1682"/>
                      <a:pt x="909" y="1504"/>
                    </a:cubicBezTo>
                    <a:cubicBezTo>
                      <a:pt x="989" y="1326"/>
                      <a:pt x="1034" y="1163"/>
                      <a:pt x="1152" y="954"/>
                    </a:cubicBezTo>
                    <a:cubicBezTo>
                      <a:pt x="1270" y="745"/>
                      <a:pt x="1513" y="409"/>
                      <a:pt x="1619" y="250"/>
                    </a:cubicBezTo>
                    <a:cubicBezTo>
                      <a:pt x="1725" y="91"/>
                      <a:pt x="1751" y="52"/>
                      <a:pt x="1786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lgDash"/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2" name=""/>
              <p:cNvGrpSpPr/>
              <p:nvPr/>
            </p:nvGrpSpPr>
            <p:grpSpPr>
              <a:xfrm>
                <a:off x="3482280" y="1918080"/>
                <a:ext cx="959400" cy="1080360"/>
                <a:chOff x="3482280" y="1918080"/>
                <a:chExt cx="959400" cy="1080360"/>
              </a:xfrm>
            </p:grpSpPr>
            <p:grpSp>
              <p:nvGrpSpPr>
                <p:cNvPr id="413" name=""/>
                <p:cNvGrpSpPr/>
                <p:nvPr/>
              </p:nvGrpSpPr>
              <p:grpSpPr>
                <a:xfrm>
                  <a:off x="3507840" y="1918080"/>
                  <a:ext cx="933840" cy="1049040"/>
                  <a:chOff x="3507840" y="1918080"/>
                  <a:chExt cx="933840" cy="10490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4007520" y="1918080"/>
                    <a:ext cx="434160" cy="283320"/>
                  </a:xfrm>
                  <a:prstGeom prst="line">
                    <a:avLst/>
                  </a:prstGeom>
                  <a:ln w="76320">
                    <a:solidFill>
                      <a:srgbClr val="b2da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3804840" y="2149920"/>
                    <a:ext cx="506520" cy="330480"/>
                  </a:xfrm>
                  <a:prstGeom prst="line">
                    <a:avLst/>
                  </a:prstGeom>
                  <a:ln w="76320">
                    <a:solidFill>
                      <a:srgbClr val="b2da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3638160" y="2405160"/>
                    <a:ext cx="506520" cy="330480"/>
                  </a:xfrm>
                  <a:prstGeom prst="line">
                    <a:avLst/>
                  </a:prstGeom>
                  <a:ln w="76320">
                    <a:solidFill>
                      <a:srgbClr val="b2da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507840" y="2683800"/>
                    <a:ext cx="434160" cy="283320"/>
                  </a:xfrm>
                  <a:prstGeom prst="line">
                    <a:avLst/>
                  </a:prstGeom>
                  <a:ln w="76320">
                    <a:solidFill>
                      <a:srgbClr val="b2da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888000" y="2022480"/>
                    <a:ext cx="506520" cy="330480"/>
                  </a:xfrm>
                  <a:prstGeom prst="line">
                    <a:avLst/>
                  </a:prstGeom>
                  <a:ln w="76320">
                    <a:solidFill>
                      <a:srgbClr val="b2da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721680" y="2277360"/>
                    <a:ext cx="506520" cy="330480"/>
                  </a:xfrm>
                  <a:prstGeom prst="line">
                    <a:avLst/>
                  </a:prstGeom>
                  <a:ln w="76320">
                    <a:solidFill>
                      <a:srgbClr val="b2da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555000" y="2532960"/>
                    <a:ext cx="506520" cy="330480"/>
                  </a:xfrm>
                  <a:prstGeom prst="line">
                    <a:avLst/>
                  </a:prstGeom>
                  <a:ln w="76320">
                    <a:solidFill>
                      <a:srgbClr val="b2da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3482280" y="1949400"/>
                  <a:ext cx="933840" cy="1049040"/>
                  <a:chOff x="3482280" y="1949400"/>
                  <a:chExt cx="933840" cy="104904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3981960" y="1949400"/>
                    <a:ext cx="434160" cy="282960"/>
                  </a:xfrm>
                  <a:prstGeom prst="line">
                    <a:avLst/>
                  </a:prstGeom>
                  <a:ln w="76320">
                    <a:solidFill>
                      <a:srgbClr val="b2da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779280" y="2180880"/>
                    <a:ext cx="506520" cy="330480"/>
                  </a:xfrm>
                  <a:prstGeom prst="line">
                    <a:avLst/>
                  </a:prstGeom>
                  <a:ln w="76320">
                    <a:solidFill>
                      <a:srgbClr val="b2da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3612600" y="2436480"/>
                    <a:ext cx="506520" cy="330480"/>
                  </a:xfrm>
                  <a:prstGeom prst="line">
                    <a:avLst/>
                  </a:prstGeom>
                  <a:ln w="76320">
                    <a:solidFill>
                      <a:srgbClr val="b2da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482280" y="2715120"/>
                    <a:ext cx="434160" cy="283320"/>
                  </a:xfrm>
                  <a:prstGeom prst="line">
                    <a:avLst/>
                  </a:prstGeom>
                  <a:ln w="76320">
                    <a:solidFill>
                      <a:srgbClr val="b2da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862440" y="2053440"/>
                    <a:ext cx="506520" cy="330480"/>
                  </a:xfrm>
                  <a:prstGeom prst="line">
                    <a:avLst/>
                  </a:prstGeom>
                  <a:ln w="76320">
                    <a:solidFill>
                      <a:srgbClr val="b2da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3696120" y="2308680"/>
                    <a:ext cx="506520" cy="330480"/>
                  </a:xfrm>
                  <a:prstGeom prst="line">
                    <a:avLst/>
                  </a:prstGeom>
                  <a:ln w="76320">
                    <a:solidFill>
                      <a:srgbClr val="b2da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3529440" y="2563920"/>
                    <a:ext cx="506520" cy="330480"/>
                  </a:xfrm>
                  <a:prstGeom prst="line">
                    <a:avLst/>
                  </a:prstGeom>
                  <a:ln w="76320">
                    <a:solidFill>
                      <a:srgbClr val="b2da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3510000" y="1938600"/>
                  <a:ext cx="902880" cy="1028880"/>
                  <a:chOff x="3510000" y="1938600"/>
                  <a:chExt cx="902880" cy="10288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4009680" y="1938600"/>
                    <a:ext cx="403200" cy="262800"/>
                  </a:xfrm>
                  <a:prstGeom prst="line">
                    <a:avLst/>
                  </a:prstGeom>
                  <a:ln w="381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809520" y="2171880"/>
                    <a:ext cx="470520" cy="307080"/>
                  </a:xfrm>
                  <a:prstGeom prst="line">
                    <a:avLst/>
                  </a:prstGeom>
                  <a:ln w="381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643200" y="2427480"/>
                    <a:ext cx="470160" cy="306720"/>
                  </a:xfrm>
                  <a:prstGeom prst="line">
                    <a:avLst/>
                  </a:prstGeom>
                  <a:ln w="381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3510000" y="2704320"/>
                    <a:ext cx="403200" cy="263160"/>
                  </a:xfrm>
                  <a:prstGeom prst="line">
                    <a:avLst/>
                  </a:prstGeom>
                  <a:ln w="381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3892680" y="2044440"/>
                    <a:ext cx="470520" cy="307080"/>
                  </a:xfrm>
                  <a:prstGeom prst="line">
                    <a:avLst/>
                  </a:prstGeom>
                  <a:ln w="381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3726360" y="2299680"/>
                    <a:ext cx="470520" cy="306720"/>
                  </a:xfrm>
                  <a:prstGeom prst="line">
                    <a:avLst/>
                  </a:prstGeom>
                  <a:ln w="381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3559680" y="2554920"/>
                    <a:ext cx="470520" cy="306720"/>
                  </a:xfrm>
                  <a:prstGeom prst="line">
                    <a:avLst/>
                  </a:prstGeom>
                  <a:ln w="381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7" name=""/>
            <p:cNvGrpSpPr/>
            <p:nvPr/>
          </p:nvGrpSpPr>
          <p:grpSpPr>
            <a:xfrm>
              <a:off x="1417680" y="1787400"/>
              <a:ext cx="1524240" cy="4176720"/>
              <a:chOff x="1417680" y="1787400"/>
              <a:chExt cx="1524240" cy="417672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2084040" y="1839240"/>
                <a:ext cx="846720" cy="1046160"/>
                <a:chOff x="2084040" y="1839240"/>
                <a:chExt cx="846720" cy="1046160"/>
              </a:xfrm>
            </p:grpSpPr>
            <p:sp>
              <p:nvSpPr>
                <p:cNvPr id="439" name=""/>
                <p:cNvSpPr/>
                <p:nvPr/>
              </p:nvSpPr>
              <p:spPr>
                <a:xfrm flipV="1">
                  <a:off x="2084040" y="1839240"/>
                  <a:ext cx="473400" cy="211680"/>
                </a:xfrm>
                <a:prstGeom prst="line">
                  <a:avLst/>
                </a:prstGeom>
                <a:ln w="76320">
                  <a:solidFill>
                    <a:srgbClr val="91dd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V="1">
                  <a:off x="2169000" y="2099880"/>
                  <a:ext cx="552240" cy="246960"/>
                </a:xfrm>
                <a:prstGeom prst="line">
                  <a:avLst/>
                </a:prstGeom>
                <a:ln w="76320">
                  <a:solidFill>
                    <a:srgbClr val="91dd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V="1">
                  <a:off x="2293560" y="2378160"/>
                  <a:ext cx="552240" cy="246960"/>
                </a:xfrm>
                <a:prstGeom prst="line">
                  <a:avLst/>
                </a:prstGeom>
                <a:ln w="76320">
                  <a:solidFill>
                    <a:srgbClr val="91dd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flipV="1">
                  <a:off x="2457360" y="2673720"/>
                  <a:ext cx="473400" cy="211680"/>
                </a:xfrm>
                <a:prstGeom prst="line">
                  <a:avLst/>
                </a:prstGeom>
                <a:ln w="76320">
                  <a:solidFill>
                    <a:srgbClr val="91dd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V="1">
                  <a:off x="2107080" y="1960920"/>
                  <a:ext cx="551880" cy="246960"/>
                </a:xfrm>
                <a:prstGeom prst="line">
                  <a:avLst/>
                </a:prstGeom>
                <a:ln w="76320">
                  <a:solidFill>
                    <a:srgbClr val="91dd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2231280" y="2238840"/>
                  <a:ext cx="552240" cy="246960"/>
                </a:xfrm>
                <a:prstGeom prst="line">
                  <a:avLst/>
                </a:prstGeom>
                <a:ln w="76320">
                  <a:solidFill>
                    <a:srgbClr val="91dd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V="1">
                  <a:off x="2355840" y="2517120"/>
                  <a:ext cx="552240" cy="246960"/>
                </a:xfrm>
                <a:prstGeom prst="line">
                  <a:avLst/>
                </a:prstGeom>
                <a:ln w="76320">
                  <a:solidFill>
                    <a:srgbClr val="91dd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1417680" y="1787400"/>
                <a:ext cx="1524240" cy="4176720"/>
                <a:chOff x="1417680" y="1787400"/>
                <a:chExt cx="1524240" cy="4176720"/>
              </a:xfrm>
            </p:grpSpPr>
            <p:grpSp>
              <p:nvGrpSpPr>
                <p:cNvPr id="447" name=""/>
                <p:cNvGrpSpPr/>
                <p:nvPr/>
              </p:nvGrpSpPr>
              <p:grpSpPr>
                <a:xfrm>
                  <a:off x="2095200" y="1877400"/>
                  <a:ext cx="846720" cy="1046160"/>
                  <a:chOff x="2095200" y="1877400"/>
                  <a:chExt cx="846720" cy="104616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flipV="1">
                    <a:off x="2095200" y="1877400"/>
                    <a:ext cx="473400" cy="211680"/>
                  </a:xfrm>
                  <a:prstGeom prst="line">
                    <a:avLst/>
                  </a:prstGeom>
                  <a:ln w="76320">
                    <a:solidFill>
                      <a:srgbClr val="91dd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V="1">
                    <a:off x="2180160" y="2138040"/>
                    <a:ext cx="552240" cy="246960"/>
                  </a:xfrm>
                  <a:prstGeom prst="line">
                    <a:avLst/>
                  </a:prstGeom>
                  <a:ln w="76320">
                    <a:solidFill>
                      <a:srgbClr val="91dd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V="1">
                    <a:off x="2304720" y="2416320"/>
                    <a:ext cx="552240" cy="246960"/>
                  </a:xfrm>
                  <a:prstGeom prst="line">
                    <a:avLst/>
                  </a:prstGeom>
                  <a:ln w="76320">
                    <a:solidFill>
                      <a:srgbClr val="91dd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V="1">
                    <a:off x="2468520" y="2711880"/>
                    <a:ext cx="473400" cy="211680"/>
                  </a:xfrm>
                  <a:prstGeom prst="line">
                    <a:avLst/>
                  </a:prstGeom>
                  <a:ln w="76320">
                    <a:solidFill>
                      <a:srgbClr val="91dd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V="1">
                    <a:off x="2118240" y="1999080"/>
                    <a:ext cx="551880" cy="246960"/>
                  </a:xfrm>
                  <a:prstGeom prst="line">
                    <a:avLst/>
                  </a:prstGeom>
                  <a:ln w="76320">
                    <a:solidFill>
                      <a:srgbClr val="91dd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V="1">
                    <a:off x="2242440" y="2277000"/>
                    <a:ext cx="552240" cy="246960"/>
                  </a:xfrm>
                  <a:prstGeom prst="line">
                    <a:avLst/>
                  </a:prstGeom>
                  <a:ln w="76320">
                    <a:solidFill>
                      <a:srgbClr val="91dd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V="1">
                    <a:off x="2367000" y="2555280"/>
                    <a:ext cx="552240" cy="246960"/>
                  </a:xfrm>
                  <a:prstGeom prst="line">
                    <a:avLst/>
                  </a:prstGeom>
                  <a:ln w="76320">
                    <a:solidFill>
                      <a:srgbClr val="91dd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1417680" y="1787400"/>
                  <a:ext cx="1496880" cy="4176720"/>
                  <a:chOff x="1417680" y="1787400"/>
                  <a:chExt cx="1496880" cy="41767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1417680" y="1787400"/>
                    <a:ext cx="1350720" cy="41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2631">
                        <a:moveTo>
                          <a:pt x="0" y="2631"/>
                        </a:moveTo>
                        <a:cubicBezTo>
                          <a:pt x="86" y="2532"/>
                          <a:pt x="393" y="2209"/>
                          <a:pt x="518" y="2036"/>
                        </a:cubicBezTo>
                        <a:cubicBezTo>
                          <a:pt x="643" y="1863"/>
                          <a:pt x="695" y="1757"/>
                          <a:pt x="749" y="1594"/>
                        </a:cubicBezTo>
                        <a:cubicBezTo>
                          <a:pt x="803" y="1431"/>
                          <a:pt x="839" y="1216"/>
                          <a:pt x="845" y="1056"/>
                        </a:cubicBezTo>
                        <a:cubicBezTo>
                          <a:pt x="851" y="896"/>
                          <a:pt x="817" y="748"/>
                          <a:pt x="787" y="634"/>
                        </a:cubicBezTo>
                        <a:cubicBezTo>
                          <a:pt x="757" y="520"/>
                          <a:pt x="717" y="478"/>
                          <a:pt x="665" y="372"/>
                        </a:cubicBezTo>
                        <a:cubicBezTo>
                          <a:pt x="613" y="266"/>
                          <a:pt x="513" y="78"/>
                          <a:pt x="473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990033"/>
                    </a:solidFill>
                    <a:prstDash val="lgDash"/>
                    <a:round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2101680" y="1864080"/>
                    <a:ext cx="812880" cy="1031040"/>
                    <a:chOff x="2101680" y="1864080"/>
                    <a:chExt cx="812880" cy="103104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flipV="1">
                      <a:off x="2101680" y="1864080"/>
                      <a:ext cx="439560" cy="196560"/>
                    </a:xfrm>
                    <a:prstGeom prst="line">
                      <a:avLst/>
                    </a:prstGeom>
                    <a:ln w="38160">
                      <a:solidFill>
                        <a:srgbClr val="69aa2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flipV="1">
                      <a:off x="2189520" y="2125800"/>
                      <a:ext cx="513000" cy="229320"/>
                    </a:xfrm>
                    <a:prstGeom prst="line">
                      <a:avLst/>
                    </a:prstGeom>
                    <a:ln w="38160">
                      <a:solidFill>
                        <a:srgbClr val="69aa2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flipV="1">
                      <a:off x="2314080" y="2404080"/>
                      <a:ext cx="513000" cy="229680"/>
                    </a:xfrm>
                    <a:prstGeom prst="line">
                      <a:avLst/>
                    </a:prstGeom>
                    <a:ln w="38160">
                      <a:solidFill>
                        <a:srgbClr val="69aa2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flipV="1">
                      <a:off x="2475000" y="2698560"/>
                      <a:ext cx="439560" cy="196560"/>
                    </a:xfrm>
                    <a:prstGeom prst="line">
                      <a:avLst/>
                    </a:prstGeom>
                    <a:ln w="38160">
                      <a:solidFill>
                        <a:srgbClr val="69aa2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flipV="1">
                      <a:off x="2127600" y="1986840"/>
                      <a:ext cx="512640" cy="229320"/>
                    </a:xfrm>
                    <a:prstGeom prst="line">
                      <a:avLst/>
                    </a:prstGeom>
                    <a:ln w="38160">
                      <a:solidFill>
                        <a:srgbClr val="69aa2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flipV="1">
                      <a:off x="2251800" y="2264760"/>
                      <a:ext cx="513000" cy="229320"/>
                    </a:xfrm>
                    <a:prstGeom prst="line">
                      <a:avLst/>
                    </a:prstGeom>
                    <a:ln w="38160">
                      <a:solidFill>
                        <a:srgbClr val="69aa2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flipV="1">
                      <a:off x="2376360" y="2543040"/>
                      <a:ext cx="513000" cy="229680"/>
                    </a:xfrm>
                    <a:prstGeom prst="line">
                      <a:avLst/>
                    </a:prstGeom>
                    <a:ln w="38160">
                      <a:solidFill>
                        <a:srgbClr val="69aa2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65" name=""/>
          <p:cNvSpPr/>
          <p:nvPr/>
        </p:nvSpPr>
        <p:spPr>
          <a:xfrm>
            <a:off x="3200400" y="609480"/>
            <a:ext cx="0" cy="2590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39760" y="99072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Region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80280" y="9907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Region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454120" y="147600"/>
            <a:ext cx="14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Horiz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910800" y="5305680"/>
            <a:ext cx="1323720" cy="1315080"/>
            <a:chOff x="910800" y="5305680"/>
            <a:chExt cx="1323720" cy="1315080"/>
          </a:xfrm>
        </p:grpSpPr>
        <p:grpSp>
          <p:nvGrpSpPr>
            <p:cNvPr id="470" name=""/>
            <p:cNvGrpSpPr/>
            <p:nvPr/>
          </p:nvGrpSpPr>
          <p:grpSpPr>
            <a:xfrm>
              <a:off x="943200" y="5305680"/>
              <a:ext cx="1291320" cy="1291320"/>
              <a:chOff x="943200" y="5305680"/>
              <a:chExt cx="1291320" cy="1291320"/>
            </a:xfrm>
          </p:grpSpPr>
          <p:sp>
            <p:nvSpPr>
              <p:cNvPr id="471" name=""/>
              <p:cNvSpPr/>
              <p:nvPr/>
            </p:nvSpPr>
            <p:spPr>
              <a:xfrm>
                <a:off x="1555560" y="5305680"/>
                <a:ext cx="678960" cy="612720"/>
              </a:xfrm>
              <a:prstGeom prst="line">
                <a:avLst/>
              </a:prstGeom>
              <a:ln w="76320">
                <a:solidFill>
                  <a:srgbClr val="b2da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294920" y="5480640"/>
                <a:ext cx="792000" cy="714960"/>
              </a:xfrm>
              <a:prstGeom prst="line">
                <a:avLst/>
              </a:prstGeom>
              <a:ln w="76320">
                <a:solidFill>
                  <a:srgbClr val="b2da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090440" y="5707080"/>
                <a:ext cx="792360" cy="714960"/>
              </a:xfrm>
              <a:prstGeom prst="line">
                <a:avLst/>
              </a:prstGeom>
              <a:ln w="76320">
                <a:solidFill>
                  <a:srgbClr val="b2da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943200" y="5984280"/>
                <a:ext cx="678600" cy="612720"/>
              </a:xfrm>
              <a:prstGeom prst="line">
                <a:avLst/>
              </a:prstGeom>
              <a:ln w="76320">
                <a:solidFill>
                  <a:srgbClr val="b2da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96800" y="5367600"/>
                <a:ext cx="792360" cy="714960"/>
              </a:xfrm>
              <a:prstGeom prst="line">
                <a:avLst/>
              </a:prstGeom>
              <a:ln w="76320">
                <a:solidFill>
                  <a:srgbClr val="b2da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193040" y="5593680"/>
                <a:ext cx="792000" cy="714960"/>
              </a:xfrm>
              <a:prstGeom prst="line">
                <a:avLst/>
              </a:prstGeom>
              <a:ln w="76320">
                <a:solidFill>
                  <a:srgbClr val="b2da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988560" y="5820120"/>
                <a:ext cx="792000" cy="714960"/>
              </a:xfrm>
              <a:prstGeom prst="line">
                <a:avLst/>
              </a:prstGeom>
              <a:ln w="76320">
                <a:solidFill>
                  <a:srgbClr val="b2da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910800" y="5329800"/>
              <a:ext cx="1291320" cy="1290960"/>
              <a:chOff x="910800" y="5329800"/>
              <a:chExt cx="1291320" cy="1290960"/>
            </a:xfrm>
          </p:grpSpPr>
          <p:sp>
            <p:nvSpPr>
              <p:cNvPr id="479" name=""/>
              <p:cNvSpPr/>
              <p:nvPr/>
            </p:nvSpPr>
            <p:spPr>
              <a:xfrm>
                <a:off x="1523160" y="5329800"/>
                <a:ext cx="678960" cy="612720"/>
              </a:xfrm>
              <a:prstGeom prst="line">
                <a:avLst/>
              </a:prstGeom>
              <a:ln w="76320">
                <a:solidFill>
                  <a:srgbClr val="b2da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262520" y="5504760"/>
                <a:ext cx="792000" cy="714960"/>
              </a:xfrm>
              <a:prstGeom prst="line">
                <a:avLst/>
              </a:prstGeom>
              <a:ln w="76320">
                <a:solidFill>
                  <a:srgbClr val="b2da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058040" y="5730840"/>
                <a:ext cx="792360" cy="714960"/>
              </a:xfrm>
              <a:prstGeom prst="line">
                <a:avLst/>
              </a:prstGeom>
              <a:ln w="76320">
                <a:solidFill>
                  <a:srgbClr val="b2da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910800" y="6008400"/>
                <a:ext cx="678600" cy="612360"/>
              </a:xfrm>
              <a:prstGeom prst="line">
                <a:avLst/>
              </a:prstGeom>
              <a:ln w="76320">
                <a:solidFill>
                  <a:srgbClr val="b2da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64400" y="5391720"/>
                <a:ext cx="792360" cy="714960"/>
              </a:xfrm>
              <a:prstGeom prst="line">
                <a:avLst/>
              </a:prstGeom>
              <a:ln w="76320">
                <a:solidFill>
                  <a:srgbClr val="b2da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160640" y="5617800"/>
                <a:ext cx="792000" cy="714960"/>
              </a:xfrm>
              <a:prstGeom prst="line">
                <a:avLst/>
              </a:prstGeom>
              <a:ln w="76320">
                <a:solidFill>
                  <a:srgbClr val="b2da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56160" y="5843880"/>
                <a:ext cx="792000" cy="714960"/>
              </a:xfrm>
              <a:prstGeom prst="line">
                <a:avLst/>
              </a:prstGeom>
              <a:ln w="76320">
                <a:solidFill>
                  <a:srgbClr val="b2da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950040" y="5332680"/>
              <a:ext cx="1242360" cy="1247040"/>
              <a:chOff x="950040" y="5332680"/>
              <a:chExt cx="1242360" cy="1247040"/>
            </a:xfrm>
          </p:grpSpPr>
          <p:sp>
            <p:nvSpPr>
              <p:cNvPr id="487" name=""/>
              <p:cNvSpPr/>
              <p:nvPr/>
            </p:nvSpPr>
            <p:spPr>
              <a:xfrm>
                <a:off x="1562400" y="5332680"/>
                <a:ext cx="630000" cy="568440"/>
              </a:xfrm>
              <a:prstGeom prst="line">
                <a:avLst/>
              </a:prstGeom>
              <a:ln w="381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06080" y="5511240"/>
                <a:ext cx="735120" cy="663840"/>
              </a:xfrm>
              <a:prstGeom prst="line">
                <a:avLst/>
              </a:prstGeom>
              <a:ln w="381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101600" y="5737680"/>
                <a:ext cx="735120" cy="663480"/>
              </a:xfrm>
              <a:prstGeom prst="line">
                <a:avLst/>
              </a:prstGeom>
              <a:ln w="381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950040" y="6010920"/>
                <a:ext cx="629640" cy="568800"/>
              </a:xfrm>
              <a:prstGeom prst="line">
                <a:avLst/>
              </a:prstGeom>
              <a:ln w="381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407960" y="5398200"/>
                <a:ext cx="735120" cy="663840"/>
              </a:xfrm>
              <a:prstGeom prst="line">
                <a:avLst/>
              </a:prstGeom>
              <a:ln w="381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203840" y="5624280"/>
                <a:ext cx="735120" cy="663840"/>
              </a:xfrm>
              <a:prstGeom prst="line">
                <a:avLst/>
              </a:prstGeom>
              <a:ln w="381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999720" y="5850720"/>
                <a:ext cx="735120" cy="663480"/>
              </a:xfrm>
              <a:prstGeom prst="line">
                <a:avLst/>
              </a:prstGeom>
              <a:ln w="381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"/>
          <p:cNvSpPr/>
          <p:nvPr/>
        </p:nvSpPr>
        <p:spPr>
          <a:xfrm>
            <a:off x="5867280" y="83808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 quantum  states  in  regions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and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are coh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800600" y="251460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s  means  that  quantum  interference  experiments  in  region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cannot  be  carried  out  without  considering  the states  in  region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657600" y="4924440"/>
            <a:ext cx="510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ut  this  implies  that  the  state  in  region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is  not  a  “pure  quantum  state”;  it  is  a  probabilistic  mixture  of  different  possible  states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194840" y="1844640"/>
            <a:ext cx="2712600" cy="2601720"/>
            <a:chOff x="1194840" y="1844640"/>
            <a:chExt cx="2712600" cy="2601720"/>
          </a:xfrm>
        </p:grpSpPr>
        <p:sp>
          <p:nvSpPr>
            <p:cNvPr id="498" name=""/>
            <p:cNvSpPr/>
            <p:nvPr/>
          </p:nvSpPr>
          <p:spPr>
            <a:xfrm flipV="1">
              <a:off x="1547640" y="21826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47640" y="41274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09320" y="4078080"/>
              <a:ext cx="79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194840" y="1844640"/>
              <a:ext cx="6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u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9e99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1252080" y="1341360"/>
            <a:ext cx="15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ix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811080" y="2014560"/>
          <a:ext cx="7290000" cy="234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1080" y="2014560"/>
                    <a:ext cx="729000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1740600" y="357336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Unicode MS"/>
              </a:rPr>
              <a:t>inverse 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3189240" y="4444920"/>
          <a:ext cx="4407120" cy="186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89240" y="4444920"/>
                    <a:ext cx="440712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6093000"/>
            <a:ext cx="8820000" cy="76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6360" y="31680"/>
            <a:ext cx="9144000" cy="6134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03080" y="6226200"/>
            <a:ext cx="24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7  TeV + 7 T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684360" y="620640"/>
            <a:ext cx="7885080" cy="2592720"/>
          </a:xfrm>
          <a:prstGeom prst="rect">
            <a:avLst/>
          </a:prstGeom>
          <a:gradFill rotWithShape="0">
            <a:gsLst>
              <a:gs pos="0">
                <a:srgbClr val="ffff99">
                  <a:alpha val="60392"/>
                </a:srgbClr>
              </a:gs>
              <a:gs pos="50000">
                <a:srgbClr val="fefefe"/>
              </a:gs>
              <a:gs pos="100000">
                <a:srgbClr val="ffff99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lternative  theo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cc0066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 Unicode MS"/>
              </a:rPr>
              <a:t>No  scattering,  but  indeed  loss  of  quantum  coh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cc0066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cc0066"/>
                </a:solidFill>
                <a:latin typeface="Arial Unicode MS"/>
              </a:rPr>
              <a:t>(problem:  energy  conserv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4360" y="3214800"/>
            <a:ext cx="7885080" cy="1739520"/>
          </a:xfrm>
          <a:prstGeom prst="rect">
            <a:avLst/>
          </a:prstGeom>
          <a:gradFill rotWithShape="0">
            <a:gsLst>
              <a:gs pos="0">
                <a:srgbClr val="ffff99">
                  <a:alpha val="60392"/>
                </a:srgbClr>
              </a:gs>
              <a:gs pos="50000">
                <a:srgbClr val="fefefe"/>
              </a:gs>
              <a:gs pos="100000">
                <a:srgbClr val="ffff99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2.  After  explosion  by  radi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    </a:t>
            </a: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lack  hole  rem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(problem:  infinite  degeneracy  of 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remna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4360" y="4952880"/>
            <a:ext cx="7885080" cy="1430280"/>
          </a:xfrm>
          <a:prstGeom prst="rect">
            <a:avLst/>
          </a:prstGeom>
          <a:gradFill rotWithShape="0">
            <a:gsLst>
              <a:gs pos="0">
                <a:srgbClr val="ffff99">
                  <a:alpha val="60392"/>
                </a:srgbClr>
              </a:gs>
              <a:gs pos="50000">
                <a:srgbClr val="fefefe"/>
              </a:gs>
              <a:gs pos="100000">
                <a:srgbClr val="ffff99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9900"/>
              </a:buClr>
              <a:buFont typeface="Arial Unicode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 Unicode MS"/>
              </a:rPr>
              <a:t>Information  is  in  the  Hawking 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9900"/>
              </a:buClr>
              <a:buFont typeface="Arial Unicode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95280" y="4940280"/>
            <a:ext cx="7705800" cy="151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117360" y="1143000"/>
            <a:ext cx="8382240" cy="1066680"/>
            <a:chOff x="117360" y="1143000"/>
            <a:chExt cx="8382240" cy="1066680"/>
          </a:xfrm>
        </p:grpSpPr>
        <p:sp>
          <p:nvSpPr>
            <p:cNvPr id="513" name=""/>
            <p:cNvSpPr/>
            <p:nvPr/>
          </p:nvSpPr>
          <p:spPr>
            <a:xfrm>
              <a:off x="117360" y="1143000"/>
              <a:ext cx="838224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8480" y="1447920"/>
              <a:ext cx="75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 Unicode MS"/>
                </a:rPr>
                <a:t>How  do  we  reconcile  these  with  LOCALITY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2587680" y="2787480"/>
            <a:ext cx="289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3300"/>
                </a:solidFill>
                <a:latin typeface="Arial Unicode MS"/>
              </a:rPr>
              <a:t>parado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17360" y="228600"/>
            <a:ext cx="8382240" cy="1066680"/>
            <a:chOff x="117360" y="228600"/>
            <a:chExt cx="8382240" cy="1066680"/>
          </a:xfrm>
        </p:grpSpPr>
        <p:sp>
          <p:nvSpPr>
            <p:cNvPr id="517" name=""/>
            <p:cNvSpPr/>
            <p:nvPr/>
          </p:nvSpPr>
          <p:spPr>
            <a:xfrm>
              <a:off x="117360" y="228600"/>
              <a:ext cx="838224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38040" y="27792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Arial Unicode MS"/>
                </a:rPr>
                <a:t>Black  Holes  require  new  axioms  for 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Arial Unicode MS"/>
                </a:rPr>
                <a:t>quantization  of  gra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6365880" y="3030480"/>
            <a:ext cx="190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Unicode MS"/>
              </a:rPr>
              <a:t>Unitar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Unicode MS"/>
              </a:rPr>
              <a:t>Causality,</a:t>
            </a:r>
            <a:r>
              <a:rPr b="0" lang="en-US" sz="2800" spc="-1" strike="noStrike">
                <a:solidFill>
                  <a:srgbClr val="cc3300"/>
                </a:solidFill>
                <a:latin typeface="Arial Unicode MS"/>
              </a:rPr>
              <a:t>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-1711440" y="1380960"/>
            <a:ext cx="12115800" cy="4267080"/>
            <a:chOff x="-1711440" y="1380960"/>
            <a:chExt cx="12115800" cy="4267080"/>
          </a:xfrm>
        </p:grpSpPr>
        <p:pic>
          <p:nvPicPr>
            <p:cNvPr id="521" name="" descr=""/>
            <p:cNvPicPr/>
            <p:nvPr/>
          </p:nvPicPr>
          <p:blipFill>
            <a:blip r:embed="rId2"/>
            <a:stretch/>
          </p:blipFill>
          <p:spPr>
            <a:xfrm>
              <a:off x="-1711440" y="1380960"/>
              <a:ext cx="1211580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2571480" y="2796840"/>
              <a:ext cx="289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cc3300"/>
                  </a:solidFill>
                  <a:latin typeface="Arial Unicode MS"/>
                </a:rPr>
                <a:t>paradox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17360" y="4495680"/>
            <a:ext cx="8382240" cy="1067040"/>
            <a:chOff x="117360" y="4495680"/>
            <a:chExt cx="8382240" cy="1067040"/>
          </a:xfrm>
        </p:grpSpPr>
        <p:sp>
          <p:nvSpPr>
            <p:cNvPr id="524" name=""/>
            <p:cNvSpPr/>
            <p:nvPr/>
          </p:nvSpPr>
          <p:spPr>
            <a:xfrm>
              <a:off x="117360" y="4495680"/>
              <a:ext cx="8382240" cy="10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55800" y="4602240"/>
              <a:ext cx="670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 Unicode MS"/>
                </a:rPr>
                <a:t>Black  Hole  Quantum  Coherence  i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 Unicode MS"/>
                </a:rPr>
                <a:t>realized  in  String/Membrane  Theories 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17360" y="5443560"/>
            <a:ext cx="8382240" cy="1185840"/>
            <a:chOff x="117360" y="5443560"/>
            <a:chExt cx="8382240" cy="1185840"/>
          </a:xfrm>
        </p:grpSpPr>
        <p:sp>
          <p:nvSpPr>
            <p:cNvPr id="527" name=""/>
            <p:cNvSpPr/>
            <p:nvPr/>
          </p:nvSpPr>
          <p:spPr>
            <a:xfrm>
              <a:off x="117360" y="5562720"/>
              <a:ext cx="838224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55800" y="5443560"/>
              <a:ext cx="6705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33"/>
                  </a:solidFill>
                  <a:latin typeface="Arial Unicode MS"/>
                </a:rPr>
                <a:t>--  at  the  expense  of  locality?</a:t>
              </a:r>
              <a:r>
                <a:rPr b="0" lang="en-US" sz="3200" spc="-1" strike="noStrike">
                  <a:solidFill>
                    <a:srgbClr val="660033"/>
                  </a:solidFill>
                  <a:latin typeface="Arial Unicode MS"/>
                </a:rPr>
                <a:t> </a:t>
              </a:r>
              <a:r>
                <a:rPr b="0" lang="en-US" sz="2400" spc="-1" strike="noStrike">
                  <a:solidFill>
                    <a:srgbClr val="660033"/>
                  </a:solidFill>
                  <a:latin typeface="Arial Unicode MS"/>
                </a:rPr>
                <a:t> --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33"/>
                  </a:solidFill>
                  <a:latin typeface="Arial Unicode MS"/>
                </a:rPr>
                <a:t>How  does  Nature  process  information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>
            <a:hlinkClick r:id="rId3" action="ppaction://hlinksldjump"/>
          </p:cNvPr>
          <p:cNvSpPr/>
          <p:nvPr/>
        </p:nvSpPr>
        <p:spPr>
          <a:xfrm>
            <a:off x="8515080" y="616572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00"/>
                            </p:stCondLst>
                            <p:childTnLst>
                              <p:par>
                                <p:cTn id="7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2209680" y="2600280"/>
            <a:ext cx="3581640" cy="3429000"/>
            <a:chOff x="2209680" y="2600280"/>
            <a:chExt cx="3581640" cy="3429000"/>
          </a:xfrm>
        </p:grpSpPr>
        <p:sp>
          <p:nvSpPr>
            <p:cNvPr id="531" name=""/>
            <p:cNvSpPr/>
            <p:nvPr/>
          </p:nvSpPr>
          <p:spPr>
            <a:xfrm>
              <a:off x="2590920" y="534348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00400" y="2752560"/>
              <a:ext cx="15228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09680" y="3819600"/>
              <a:ext cx="15264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95680" y="5877000"/>
              <a:ext cx="15264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48320" y="2752560"/>
              <a:ext cx="15228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38680" y="4276800"/>
              <a:ext cx="15264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38280" y="5191200"/>
              <a:ext cx="15264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86000" y="4124160"/>
              <a:ext cx="15228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81480" y="3209760"/>
              <a:ext cx="15264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81480" y="5495760"/>
              <a:ext cx="15264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819520" y="305748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57600" y="260028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4120" y="519120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76720" y="587700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230560" y="3124080"/>
            <a:ext cx="360360" cy="2362320"/>
            <a:chOff x="2230560" y="3124080"/>
            <a:chExt cx="360360" cy="2362320"/>
          </a:xfrm>
        </p:grpSpPr>
        <p:sp>
          <p:nvSpPr>
            <p:cNvPr id="546" name=""/>
            <p:cNvSpPr/>
            <p:nvPr/>
          </p:nvSpPr>
          <p:spPr>
            <a:xfrm>
              <a:off x="2286000" y="5334120"/>
              <a:ext cx="15264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30560" y="441972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438640" y="3124080"/>
              <a:ext cx="15228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438280" y="2133720"/>
            <a:ext cx="3353040" cy="1066320"/>
            <a:chOff x="2438280" y="2133720"/>
            <a:chExt cx="3353040" cy="1066320"/>
          </a:xfrm>
        </p:grpSpPr>
        <p:sp>
          <p:nvSpPr>
            <p:cNvPr id="550" name=""/>
            <p:cNvSpPr/>
            <p:nvPr/>
          </p:nvSpPr>
          <p:spPr>
            <a:xfrm>
              <a:off x="2438280" y="2666880"/>
              <a:ext cx="152640" cy="15192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48120" y="249372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733920" y="213372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520" y="281916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38680" y="2666880"/>
              <a:ext cx="152640" cy="15192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57800" y="304776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876920" y="3124080"/>
            <a:ext cx="990000" cy="2743200"/>
            <a:chOff x="4876920" y="3124080"/>
            <a:chExt cx="990000" cy="2743200"/>
          </a:xfrm>
        </p:grpSpPr>
        <p:sp>
          <p:nvSpPr>
            <p:cNvPr id="557" name=""/>
            <p:cNvSpPr/>
            <p:nvPr/>
          </p:nvSpPr>
          <p:spPr>
            <a:xfrm>
              <a:off x="5486040" y="3124080"/>
              <a:ext cx="15228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86040" y="365760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14640" y="510552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6920" y="5715000"/>
              <a:ext cx="15192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1905120" y="2209680"/>
            <a:ext cx="4952880" cy="4191120"/>
            <a:chOff x="1905120" y="2209680"/>
            <a:chExt cx="4952880" cy="4191120"/>
          </a:xfrm>
        </p:grpSpPr>
        <p:sp>
          <p:nvSpPr>
            <p:cNvPr id="562" name=""/>
            <p:cNvSpPr/>
            <p:nvPr/>
          </p:nvSpPr>
          <p:spPr>
            <a:xfrm>
              <a:off x="2438280" y="5638680"/>
              <a:ext cx="15264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05120" y="411480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86000" y="236232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971800" y="2209680"/>
              <a:ext cx="15228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43400" y="2209680"/>
              <a:ext cx="15228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05720" y="327672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867280" y="4572000"/>
              <a:ext cx="15264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67080" y="6248520"/>
              <a:ext cx="15264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1905120" y="2514600"/>
            <a:ext cx="3886200" cy="4038480"/>
            <a:chOff x="1905120" y="2514600"/>
            <a:chExt cx="3886200" cy="4038480"/>
          </a:xfrm>
        </p:grpSpPr>
        <p:sp>
          <p:nvSpPr>
            <p:cNvPr id="571" name=""/>
            <p:cNvSpPr/>
            <p:nvPr/>
          </p:nvSpPr>
          <p:spPr>
            <a:xfrm>
              <a:off x="1905120" y="4724280"/>
              <a:ext cx="15228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952880" y="2514600"/>
              <a:ext cx="15264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638680" y="5410080"/>
              <a:ext cx="15264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038480" y="6248520"/>
              <a:ext cx="15264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81280" y="6400800"/>
              <a:ext cx="15264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895480" y="5516640"/>
            <a:ext cx="152640" cy="152280"/>
          </a:xfrm>
          <a:prstGeom prst="ellipse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14600" y="3276720"/>
            <a:ext cx="152280" cy="152280"/>
          </a:xfrm>
          <a:prstGeom prst="ellipse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1600200" y="1600200"/>
            <a:ext cx="4800600" cy="4724280"/>
            <a:chOff x="1600200" y="1600200"/>
            <a:chExt cx="4800600" cy="4724280"/>
          </a:xfrm>
        </p:grpSpPr>
        <p:sp>
          <p:nvSpPr>
            <p:cNvPr id="579" name=""/>
            <p:cNvSpPr/>
            <p:nvPr/>
          </p:nvSpPr>
          <p:spPr>
            <a:xfrm>
              <a:off x="1600200" y="579132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52480" y="3581280"/>
              <a:ext cx="15264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29000" y="160020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1752480"/>
              <a:ext cx="15228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95880" y="4114800"/>
              <a:ext cx="15264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48520" y="4952880"/>
              <a:ext cx="15228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10080" y="6172200"/>
              <a:ext cx="15264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577800" y="388800"/>
            <a:ext cx="76345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he  physical  description  of  the  difficulty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3259440" y="2524680"/>
            <a:ext cx="2567520" cy="1812960"/>
            <a:chOff x="3259440" y="2524680"/>
            <a:chExt cx="2567520" cy="1812960"/>
          </a:xfrm>
        </p:grpSpPr>
        <p:sp>
          <p:nvSpPr>
            <p:cNvPr id="588" name=""/>
            <p:cNvSpPr/>
            <p:nvPr/>
          </p:nvSpPr>
          <p:spPr>
            <a:xfrm rot="1840800">
              <a:off x="3287520" y="268380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840800">
              <a:off x="4028040" y="2552760"/>
              <a:ext cx="15228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840800">
              <a:off x="4944240" y="2996640"/>
              <a:ext cx="15228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840800">
              <a:off x="5631480" y="3882240"/>
              <a:ext cx="15228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840800">
              <a:off x="5427360" y="345132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840800">
              <a:off x="5645880" y="4156560"/>
              <a:ext cx="15264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4257360" y="3885840"/>
            <a:ext cx="1447920" cy="2096280"/>
            <a:chOff x="4257360" y="3885840"/>
            <a:chExt cx="1447920" cy="2096280"/>
          </a:xfrm>
        </p:grpSpPr>
        <p:sp>
          <p:nvSpPr>
            <p:cNvPr id="595" name=""/>
            <p:cNvSpPr/>
            <p:nvPr/>
          </p:nvSpPr>
          <p:spPr>
            <a:xfrm rot="6559800">
              <a:off x="5499000" y="4428720"/>
              <a:ext cx="15228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6559800">
              <a:off x="5531760" y="3906720"/>
              <a:ext cx="15264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6559800">
              <a:off x="5427000" y="4724280"/>
              <a:ext cx="15264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6559800">
              <a:off x="4850640" y="551664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6559800">
              <a:off x="5066640" y="530064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6559800">
              <a:off x="4277880" y="5808240"/>
              <a:ext cx="15264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2152080" y="3661200"/>
            <a:ext cx="1966680" cy="2327400"/>
            <a:chOff x="2152080" y="3661200"/>
            <a:chExt cx="1966680" cy="2327400"/>
          </a:xfrm>
        </p:grpSpPr>
        <p:sp>
          <p:nvSpPr>
            <p:cNvPr id="602" name=""/>
            <p:cNvSpPr/>
            <p:nvPr/>
          </p:nvSpPr>
          <p:spPr>
            <a:xfrm rot="13911000">
              <a:off x="3935160" y="5805360"/>
              <a:ext cx="15264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3911000">
              <a:off x="3555720" y="5797440"/>
              <a:ext cx="15264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3911000">
              <a:off x="2411280" y="4868280"/>
              <a:ext cx="15228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3911000">
              <a:off x="2182680" y="3953880"/>
              <a:ext cx="15228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3911000">
              <a:off x="2217600" y="4428360"/>
              <a:ext cx="15228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3911000">
              <a:off x="2331720" y="369180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2234160" y="2500200"/>
            <a:ext cx="2147040" cy="2258640"/>
            <a:chOff x="2234160" y="2500200"/>
            <a:chExt cx="2147040" cy="2258640"/>
          </a:xfrm>
        </p:grpSpPr>
        <p:sp>
          <p:nvSpPr>
            <p:cNvPr id="609" name=""/>
            <p:cNvSpPr/>
            <p:nvPr/>
          </p:nvSpPr>
          <p:spPr>
            <a:xfrm rot="18761400">
              <a:off x="2265480" y="4574880"/>
              <a:ext cx="15228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8761400">
              <a:off x="2436480" y="3500640"/>
              <a:ext cx="15264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8761400">
              <a:off x="2916000" y="2853000"/>
              <a:ext cx="152640" cy="15228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8761400">
              <a:off x="3925800" y="2531520"/>
              <a:ext cx="15228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18761400">
              <a:off x="3460680" y="2640960"/>
              <a:ext cx="15228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8761400">
              <a:off x="4197240" y="2574360"/>
              <a:ext cx="152280" cy="152640"/>
            </a:xfrm>
            <a:prstGeom prst="ellips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2055960" y="2376360"/>
            <a:ext cx="3838320" cy="3838680"/>
            <a:chOff x="2055960" y="2376360"/>
            <a:chExt cx="3838320" cy="3838680"/>
          </a:xfrm>
        </p:grpSpPr>
        <p:sp>
          <p:nvSpPr>
            <p:cNvPr id="616" name=""/>
            <p:cNvSpPr/>
            <p:nvPr/>
          </p:nvSpPr>
          <p:spPr>
            <a:xfrm>
              <a:off x="2055960" y="2376360"/>
              <a:ext cx="3838320" cy="38386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238480" y="2557440"/>
              <a:ext cx="3490920" cy="34574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2421000" y="2743200"/>
            <a:ext cx="3108240" cy="3108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545800" y="907560"/>
            <a:ext cx="3548520" cy="2733120"/>
            <a:chOff x="5545800" y="907560"/>
            <a:chExt cx="3548520" cy="2733120"/>
          </a:xfrm>
        </p:grpSpPr>
        <p:sp>
          <p:nvSpPr>
            <p:cNvPr id="620" name=""/>
            <p:cNvSpPr/>
            <p:nvPr/>
          </p:nvSpPr>
          <p:spPr>
            <a:xfrm rot="19455000">
              <a:off x="5496840" y="2453400"/>
              <a:ext cx="2289600" cy="572040"/>
            </a:xfrm>
            <a:custGeom>
              <a:avLst/>
              <a:gdLst/>
              <a:ahLst/>
              <a:rect l="l" t="t" r="r" b="b"/>
              <a:pathLst>
                <a:path w="2010" h="923">
                  <a:moveTo>
                    <a:pt x="0" y="490"/>
                  </a:moveTo>
                  <a:cubicBezTo>
                    <a:pt x="32" y="420"/>
                    <a:pt x="127" y="0"/>
                    <a:pt x="197" y="71"/>
                  </a:cubicBezTo>
                  <a:cubicBezTo>
                    <a:pt x="267" y="142"/>
                    <a:pt x="338" y="920"/>
                    <a:pt x="423" y="919"/>
                  </a:cubicBezTo>
                  <a:cubicBezTo>
                    <a:pt x="508" y="918"/>
                    <a:pt x="610" y="67"/>
                    <a:pt x="705" y="67"/>
                  </a:cubicBezTo>
                  <a:cubicBezTo>
                    <a:pt x="800" y="67"/>
                    <a:pt x="897" y="919"/>
                    <a:pt x="993" y="919"/>
                  </a:cubicBezTo>
                  <a:cubicBezTo>
                    <a:pt x="1089" y="919"/>
                    <a:pt x="1186" y="63"/>
                    <a:pt x="1284" y="64"/>
                  </a:cubicBezTo>
                  <a:cubicBezTo>
                    <a:pt x="1382" y="65"/>
                    <a:pt x="1489" y="921"/>
                    <a:pt x="1581" y="922"/>
                  </a:cubicBezTo>
                  <a:cubicBezTo>
                    <a:pt x="1673" y="923"/>
                    <a:pt x="1765" y="145"/>
                    <a:pt x="1836" y="73"/>
                  </a:cubicBezTo>
                  <a:cubicBezTo>
                    <a:pt x="1907" y="1"/>
                    <a:pt x="1974" y="401"/>
                    <a:pt x="2010" y="48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9455000">
              <a:off x="7443720" y="1331640"/>
              <a:ext cx="1636920" cy="573480"/>
            </a:xfrm>
            <a:custGeom>
              <a:avLst/>
              <a:gdLst/>
              <a:ahLst/>
              <a:rect l="l" t="t" r="r" b="b"/>
              <a:pathLst>
                <a:path w="1437" h="925">
                  <a:moveTo>
                    <a:pt x="0" y="434"/>
                  </a:moveTo>
                  <a:cubicBezTo>
                    <a:pt x="29" y="504"/>
                    <a:pt x="104" y="925"/>
                    <a:pt x="174" y="854"/>
                  </a:cubicBezTo>
                  <a:cubicBezTo>
                    <a:pt x="244" y="783"/>
                    <a:pt x="326" y="8"/>
                    <a:pt x="417" y="8"/>
                  </a:cubicBezTo>
                  <a:cubicBezTo>
                    <a:pt x="508" y="8"/>
                    <a:pt x="624" y="858"/>
                    <a:pt x="720" y="857"/>
                  </a:cubicBezTo>
                  <a:cubicBezTo>
                    <a:pt x="816" y="856"/>
                    <a:pt x="904" y="4"/>
                    <a:pt x="996" y="2"/>
                  </a:cubicBezTo>
                  <a:cubicBezTo>
                    <a:pt x="1088" y="0"/>
                    <a:pt x="1198" y="776"/>
                    <a:pt x="1272" y="848"/>
                  </a:cubicBezTo>
                  <a:cubicBezTo>
                    <a:pt x="1346" y="920"/>
                    <a:pt x="1403" y="518"/>
                    <a:pt x="1437" y="43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688360" y="3024360"/>
            <a:ext cx="3496320" cy="647280"/>
            <a:chOff x="5688360" y="3024360"/>
            <a:chExt cx="3496320" cy="647280"/>
          </a:xfrm>
        </p:grpSpPr>
        <p:sp>
          <p:nvSpPr>
            <p:cNvPr id="623" name=""/>
            <p:cNvSpPr/>
            <p:nvPr/>
          </p:nvSpPr>
          <p:spPr>
            <a:xfrm flipV="1" rot="21563400">
              <a:off x="5691240" y="3088080"/>
              <a:ext cx="2031840" cy="572040"/>
            </a:xfrm>
            <a:custGeom>
              <a:avLst/>
              <a:gdLst/>
              <a:ahLst/>
              <a:rect l="l" t="t" r="r" b="b"/>
              <a:pathLst>
                <a:path w="2010" h="923">
                  <a:moveTo>
                    <a:pt x="0" y="490"/>
                  </a:moveTo>
                  <a:cubicBezTo>
                    <a:pt x="32" y="420"/>
                    <a:pt x="127" y="0"/>
                    <a:pt x="197" y="71"/>
                  </a:cubicBezTo>
                  <a:cubicBezTo>
                    <a:pt x="267" y="142"/>
                    <a:pt x="338" y="920"/>
                    <a:pt x="423" y="919"/>
                  </a:cubicBezTo>
                  <a:cubicBezTo>
                    <a:pt x="508" y="918"/>
                    <a:pt x="610" y="67"/>
                    <a:pt x="705" y="67"/>
                  </a:cubicBezTo>
                  <a:cubicBezTo>
                    <a:pt x="800" y="67"/>
                    <a:pt x="897" y="919"/>
                    <a:pt x="993" y="919"/>
                  </a:cubicBezTo>
                  <a:cubicBezTo>
                    <a:pt x="1089" y="919"/>
                    <a:pt x="1186" y="63"/>
                    <a:pt x="1284" y="64"/>
                  </a:cubicBezTo>
                  <a:cubicBezTo>
                    <a:pt x="1382" y="65"/>
                    <a:pt x="1489" y="921"/>
                    <a:pt x="1581" y="922"/>
                  </a:cubicBezTo>
                  <a:cubicBezTo>
                    <a:pt x="1673" y="923"/>
                    <a:pt x="1765" y="145"/>
                    <a:pt x="1836" y="73"/>
                  </a:cubicBezTo>
                  <a:cubicBezTo>
                    <a:pt x="1907" y="1"/>
                    <a:pt x="1974" y="401"/>
                    <a:pt x="2010" y="48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 rot="21563400">
              <a:off x="7728840" y="3031920"/>
              <a:ext cx="1452600" cy="573480"/>
            </a:xfrm>
            <a:custGeom>
              <a:avLst/>
              <a:gdLst/>
              <a:ahLst/>
              <a:rect l="l" t="t" r="r" b="b"/>
              <a:pathLst>
                <a:path w="1437" h="925">
                  <a:moveTo>
                    <a:pt x="0" y="434"/>
                  </a:moveTo>
                  <a:cubicBezTo>
                    <a:pt x="29" y="504"/>
                    <a:pt x="104" y="925"/>
                    <a:pt x="174" y="854"/>
                  </a:cubicBezTo>
                  <a:cubicBezTo>
                    <a:pt x="244" y="783"/>
                    <a:pt x="326" y="8"/>
                    <a:pt x="417" y="8"/>
                  </a:cubicBezTo>
                  <a:cubicBezTo>
                    <a:pt x="508" y="8"/>
                    <a:pt x="624" y="858"/>
                    <a:pt x="720" y="857"/>
                  </a:cubicBezTo>
                  <a:cubicBezTo>
                    <a:pt x="816" y="856"/>
                    <a:pt x="904" y="4"/>
                    <a:pt x="996" y="2"/>
                  </a:cubicBezTo>
                  <a:cubicBezTo>
                    <a:pt x="1088" y="0"/>
                    <a:pt x="1198" y="776"/>
                    <a:pt x="1272" y="848"/>
                  </a:cubicBezTo>
                  <a:cubicBezTo>
                    <a:pt x="1346" y="920"/>
                    <a:pt x="1403" y="518"/>
                    <a:pt x="1437" y="43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5486400" y="3254400"/>
            <a:ext cx="380880" cy="4032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500"/>
                            </p:stCondLst>
                            <p:childTnLst>
                              <p:par>
                                <p:cTn id="7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3000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3500"/>
                            </p:stCondLst>
                            <p:childTnLst>
                              <p:par>
                                <p:cTn id="7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3500"/>
                            </p:stCondLst>
                            <p:childTnLst>
                              <p:par>
                                <p:cTn id="7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4000"/>
                            </p:stCondLst>
                            <p:childTnLst>
                              <p:par>
                                <p:cTn id="7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4500"/>
                            </p:stCondLst>
                            <p:childTnLst>
                              <p:par>
                                <p:cTn id="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1538280" y="1185840"/>
            <a:ext cx="366840" cy="4114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523880" y="1219320"/>
            <a:ext cx="0" cy="480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066680" y="34290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5880" y="2320920"/>
            <a:ext cx="5970600" cy="2157480"/>
          </a:xfrm>
          <a:custGeom>
            <a:avLst/>
            <a:gdLst/>
            <a:ahLst/>
            <a:rect l="l" t="t" r="r" b="b"/>
            <a:pathLst>
              <a:path w="3761" h="1359">
                <a:moveTo>
                  <a:pt x="3760" y="1322"/>
                </a:moveTo>
                <a:cubicBezTo>
                  <a:pt x="3752" y="1316"/>
                  <a:pt x="3761" y="1359"/>
                  <a:pt x="3713" y="1285"/>
                </a:cubicBezTo>
                <a:cubicBezTo>
                  <a:pt x="3665" y="1211"/>
                  <a:pt x="3593" y="1079"/>
                  <a:pt x="3473" y="877"/>
                </a:cubicBezTo>
                <a:cubicBezTo>
                  <a:pt x="3353" y="675"/>
                  <a:pt x="3163" y="0"/>
                  <a:pt x="2992" y="74"/>
                </a:cubicBezTo>
                <a:cubicBezTo>
                  <a:pt x="2821" y="148"/>
                  <a:pt x="2630" y="1321"/>
                  <a:pt x="2446" y="1321"/>
                </a:cubicBezTo>
                <a:cubicBezTo>
                  <a:pt x="2262" y="1321"/>
                  <a:pt x="2061" y="74"/>
                  <a:pt x="1888" y="74"/>
                </a:cubicBezTo>
                <a:cubicBezTo>
                  <a:pt x="1715" y="74"/>
                  <a:pt x="1552" y="1322"/>
                  <a:pt x="1408" y="1322"/>
                </a:cubicBezTo>
                <a:cubicBezTo>
                  <a:pt x="1264" y="1322"/>
                  <a:pt x="1120" y="74"/>
                  <a:pt x="1024" y="74"/>
                </a:cubicBezTo>
                <a:cubicBezTo>
                  <a:pt x="928" y="74"/>
                  <a:pt x="888" y="1322"/>
                  <a:pt x="832" y="1322"/>
                </a:cubicBezTo>
                <a:cubicBezTo>
                  <a:pt x="776" y="1322"/>
                  <a:pt x="728" y="74"/>
                  <a:pt x="688" y="74"/>
                </a:cubicBezTo>
                <a:cubicBezTo>
                  <a:pt x="648" y="74"/>
                  <a:pt x="624" y="1322"/>
                  <a:pt x="592" y="1322"/>
                </a:cubicBezTo>
                <a:cubicBezTo>
                  <a:pt x="560" y="1322"/>
                  <a:pt x="528" y="74"/>
                  <a:pt x="496" y="74"/>
                </a:cubicBezTo>
                <a:cubicBezTo>
                  <a:pt x="464" y="74"/>
                  <a:pt x="421" y="1321"/>
                  <a:pt x="400" y="1322"/>
                </a:cubicBezTo>
                <a:cubicBezTo>
                  <a:pt x="379" y="1323"/>
                  <a:pt x="388" y="80"/>
                  <a:pt x="372" y="80"/>
                </a:cubicBezTo>
                <a:cubicBezTo>
                  <a:pt x="356" y="80"/>
                  <a:pt x="326" y="1322"/>
                  <a:pt x="304" y="1322"/>
                </a:cubicBezTo>
                <a:cubicBezTo>
                  <a:pt x="282" y="1322"/>
                  <a:pt x="263" y="80"/>
                  <a:pt x="239" y="80"/>
                </a:cubicBezTo>
                <a:cubicBezTo>
                  <a:pt x="215" y="80"/>
                  <a:pt x="181" y="1323"/>
                  <a:pt x="160" y="1322"/>
                </a:cubicBezTo>
                <a:cubicBezTo>
                  <a:pt x="139" y="1321"/>
                  <a:pt x="96" y="74"/>
                  <a:pt x="112" y="74"/>
                </a:cubicBezTo>
                <a:cubicBezTo>
                  <a:pt x="128" y="74"/>
                  <a:pt x="51" y="1322"/>
                  <a:pt x="64" y="1322"/>
                </a:cubicBezTo>
                <a:cubicBezTo>
                  <a:pt x="77" y="1322"/>
                  <a:pt x="46" y="68"/>
                  <a:pt x="35" y="71"/>
                </a:cubicBezTo>
                <a:cubicBezTo>
                  <a:pt x="24" y="74"/>
                  <a:pt x="7" y="1074"/>
                  <a:pt x="0" y="1338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981080" y="2411280"/>
            <a:ext cx="5970600" cy="2113200"/>
          </a:xfrm>
          <a:custGeom>
            <a:avLst/>
            <a:gdLst/>
            <a:ahLst/>
            <a:rect l="l" t="t" r="r" b="b"/>
            <a:pathLst>
              <a:path w="3761" h="1331">
                <a:moveTo>
                  <a:pt x="3760" y="36"/>
                </a:moveTo>
                <a:cubicBezTo>
                  <a:pt x="3752" y="42"/>
                  <a:pt x="3761" y="0"/>
                  <a:pt x="3713" y="72"/>
                </a:cubicBezTo>
                <a:cubicBezTo>
                  <a:pt x="3665" y="145"/>
                  <a:pt x="3593" y="274"/>
                  <a:pt x="3473" y="472"/>
                </a:cubicBezTo>
                <a:cubicBezTo>
                  <a:pt x="3353" y="670"/>
                  <a:pt x="3166" y="1331"/>
                  <a:pt x="2992" y="1258"/>
                </a:cubicBezTo>
                <a:cubicBezTo>
                  <a:pt x="2818" y="1185"/>
                  <a:pt x="2614" y="32"/>
                  <a:pt x="2430" y="32"/>
                </a:cubicBezTo>
                <a:cubicBezTo>
                  <a:pt x="2246" y="32"/>
                  <a:pt x="2058" y="1257"/>
                  <a:pt x="1888" y="1258"/>
                </a:cubicBezTo>
                <a:cubicBezTo>
                  <a:pt x="1718" y="1259"/>
                  <a:pt x="1552" y="36"/>
                  <a:pt x="1408" y="36"/>
                </a:cubicBezTo>
                <a:cubicBezTo>
                  <a:pt x="1264" y="36"/>
                  <a:pt x="1120" y="1258"/>
                  <a:pt x="1024" y="1258"/>
                </a:cubicBezTo>
                <a:cubicBezTo>
                  <a:pt x="928" y="1258"/>
                  <a:pt x="888" y="36"/>
                  <a:pt x="832" y="36"/>
                </a:cubicBezTo>
                <a:cubicBezTo>
                  <a:pt x="776" y="36"/>
                  <a:pt x="728" y="1258"/>
                  <a:pt x="688" y="1258"/>
                </a:cubicBezTo>
                <a:cubicBezTo>
                  <a:pt x="648" y="1258"/>
                  <a:pt x="624" y="36"/>
                  <a:pt x="592" y="36"/>
                </a:cubicBezTo>
                <a:cubicBezTo>
                  <a:pt x="560" y="36"/>
                  <a:pt x="528" y="1258"/>
                  <a:pt x="496" y="1258"/>
                </a:cubicBezTo>
                <a:cubicBezTo>
                  <a:pt x="464" y="1258"/>
                  <a:pt x="421" y="37"/>
                  <a:pt x="400" y="36"/>
                </a:cubicBezTo>
                <a:cubicBezTo>
                  <a:pt x="379" y="35"/>
                  <a:pt x="388" y="1252"/>
                  <a:pt x="372" y="1252"/>
                </a:cubicBezTo>
                <a:cubicBezTo>
                  <a:pt x="356" y="1252"/>
                  <a:pt x="326" y="36"/>
                  <a:pt x="304" y="36"/>
                </a:cubicBezTo>
                <a:cubicBezTo>
                  <a:pt x="282" y="36"/>
                  <a:pt x="263" y="1252"/>
                  <a:pt x="239" y="1252"/>
                </a:cubicBezTo>
                <a:cubicBezTo>
                  <a:pt x="215" y="1252"/>
                  <a:pt x="181" y="35"/>
                  <a:pt x="160" y="36"/>
                </a:cubicBezTo>
                <a:cubicBezTo>
                  <a:pt x="139" y="37"/>
                  <a:pt x="96" y="1258"/>
                  <a:pt x="112" y="1258"/>
                </a:cubicBezTo>
                <a:cubicBezTo>
                  <a:pt x="128" y="1258"/>
                  <a:pt x="51" y="36"/>
                  <a:pt x="64" y="36"/>
                </a:cubicBezTo>
                <a:cubicBezTo>
                  <a:pt x="77" y="36"/>
                  <a:pt x="46" y="1264"/>
                  <a:pt x="35" y="1261"/>
                </a:cubicBezTo>
                <a:cubicBezTo>
                  <a:pt x="24" y="1258"/>
                  <a:pt x="7" y="279"/>
                  <a:pt x="0" y="2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458000" y="540540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horiz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058840" y="990720"/>
            <a:ext cx="5561280" cy="1052280"/>
          </a:xfrm>
          <a:prstGeom prst="borderCallout2">
            <a:avLst>
              <a:gd name="adj1" fmla="val 18750"/>
              <a:gd name="adj2" fmla="val -8333"/>
              <a:gd name="adj3" fmla="val 10861"/>
              <a:gd name="adj4" fmla="val -4083"/>
              <a:gd name="adj5" fmla="val 191856"/>
              <a:gd name="adj6" fmla="val -6907"/>
            </a:avLst>
          </a:prstGeom>
          <a:solidFill>
            <a:srgbClr val="ccffff"/>
          </a:solidFill>
          <a:ln w="381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Here,  gravitational  interactions  become  strong 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621240" y="4879800"/>
            <a:ext cx="1331640" cy="1063800"/>
          </a:xfrm>
          <a:prstGeom prst="borderCallout2">
            <a:avLst>
              <a:gd name="adj1" fmla="val 18750"/>
              <a:gd name="adj2" fmla="val -8333"/>
              <a:gd name="adj3" fmla="val 10745"/>
              <a:gd name="adj4" fmla="val -64717"/>
              <a:gd name="adj5" fmla="val 148"/>
              <a:gd name="adj6" fmla="val -126101"/>
            </a:avLst>
          </a:prstGeom>
          <a:solidFill>
            <a:srgbClr val="ccffff"/>
          </a:solidFill>
          <a:ln w="28440">
            <a:solidFill>
              <a:srgbClr val="99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 Unicode MS"/>
              </a:rPr>
              <a:t>brick 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-490680" y="3963960"/>
            <a:ext cx="10221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1" y="6175"/>
                </a:moveTo>
                <a:arcTo wR="10800" hR="10800" stAng="-9278531" swAng="7757822"/>
                <a:lnTo>
                  <a:pt x="10800" y="10800"/>
                </a:lnTo>
                <a:close/>
              </a:path>
              <a:path fill="none" w="21600" h="21600">
                <a:moveTo>
                  <a:pt x="1041" y="6175"/>
                </a:moveTo>
                <a:arcTo wR="10800" hR="10800" stAng="-9278531" swAng="7757822"/>
              </a:path>
            </a:pathLst>
          </a:custGeom>
          <a:gradFill rotWithShape="0">
            <a:gsLst>
              <a:gs pos="0">
                <a:srgbClr val="001932"/>
              </a:gs>
              <a:gs pos="100000">
                <a:srgbClr val="00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2750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28600" y="1447920"/>
            <a:ext cx="8793000" cy="3154320"/>
          </a:xfrm>
          <a:custGeom>
            <a:avLst/>
            <a:gdLst/>
            <a:ahLst/>
            <a:rect l="l" t="t" r="r" b="b"/>
            <a:pathLst>
              <a:path w="5539" h="1987">
                <a:moveTo>
                  <a:pt x="0" y="0"/>
                </a:moveTo>
                <a:cubicBezTo>
                  <a:pt x="218" y="149"/>
                  <a:pt x="810" y="653"/>
                  <a:pt x="1306" y="893"/>
                </a:cubicBezTo>
                <a:cubicBezTo>
                  <a:pt x="1802" y="1133"/>
                  <a:pt x="2459" y="1315"/>
                  <a:pt x="2976" y="1440"/>
                </a:cubicBezTo>
                <a:cubicBezTo>
                  <a:pt x="3493" y="1565"/>
                  <a:pt x="4036" y="1575"/>
                  <a:pt x="4406" y="1642"/>
                </a:cubicBezTo>
                <a:cubicBezTo>
                  <a:pt x="4776" y="1709"/>
                  <a:pt x="5005" y="1786"/>
                  <a:pt x="5194" y="1843"/>
                </a:cubicBezTo>
                <a:cubicBezTo>
                  <a:pt x="5383" y="1900"/>
                  <a:pt x="5467" y="1957"/>
                  <a:pt x="5539" y="1987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52280" y="838080"/>
            <a:ext cx="7696440" cy="3810240"/>
          </a:xfrm>
          <a:custGeom>
            <a:avLst/>
            <a:gdLst/>
            <a:ahLst/>
            <a:rect l="l" t="t" r="r" b="b"/>
            <a:pathLst>
              <a:path w="4848" h="2400">
                <a:moveTo>
                  <a:pt x="0" y="2400"/>
                </a:moveTo>
                <a:cubicBezTo>
                  <a:pt x="88" y="2363"/>
                  <a:pt x="304" y="2251"/>
                  <a:pt x="528" y="2179"/>
                </a:cubicBezTo>
                <a:cubicBezTo>
                  <a:pt x="752" y="2107"/>
                  <a:pt x="1048" y="2051"/>
                  <a:pt x="1344" y="1968"/>
                </a:cubicBezTo>
                <a:cubicBezTo>
                  <a:pt x="1640" y="1885"/>
                  <a:pt x="1912" y="1856"/>
                  <a:pt x="2304" y="1680"/>
                </a:cubicBezTo>
                <a:cubicBezTo>
                  <a:pt x="2696" y="1504"/>
                  <a:pt x="3272" y="1192"/>
                  <a:pt x="3696" y="912"/>
                </a:cubicBezTo>
                <a:cubicBezTo>
                  <a:pt x="4120" y="632"/>
                  <a:pt x="4656" y="152"/>
                  <a:pt x="484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438280" y="1295280"/>
            <a:ext cx="2819520" cy="762120"/>
          </a:xfrm>
          <a:prstGeom prst="cloudCallout">
            <a:avLst>
              <a:gd name="adj1" fmla="val 4898"/>
              <a:gd name="adj2" fmla="val 182083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607200" y="396252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 Unicode MS"/>
              </a:rPr>
              <a:t>horiz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581280" y="3127320"/>
            <a:ext cx="866880" cy="68256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0" y="0"/>
            <a:ext cx="9144000" cy="5084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1800" y="3257640"/>
            <a:ext cx="10620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772160" y="3040200"/>
            <a:ext cx="10620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530520" y="3117960"/>
            <a:ext cx="10656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746520" y="3191040"/>
            <a:ext cx="10620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2830680"/>
            <a:ext cx="10620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357800" y="2938320"/>
            <a:ext cx="106200" cy="10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005440" y="2973240"/>
            <a:ext cx="106200" cy="10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59240" y="3117960"/>
            <a:ext cx="10656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475240" y="3189240"/>
            <a:ext cx="106560" cy="10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691240" y="3044880"/>
            <a:ext cx="10620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07240" y="2793960"/>
            <a:ext cx="106200" cy="10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013440" y="3227400"/>
            <a:ext cx="10620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132000" y="2565360"/>
            <a:ext cx="2808360" cy="2519280"/>
          </a:xfrm>
          <a:prstGeom prst="rect">
            <a:avLst/>
          </a:prstGeom>
          <a:solidFill>
            <a:srgbClr val="cc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21680" y="476280"/>
            <a:ext cx="70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 taking  back  reaction  into  account,  one  ca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 a  unitary  scattering 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3429000"/>
            <a:ext cx="9151920" cy="3529080"/>
          </a:xfrm>
          <a:prstGeom prst="rect">
            <a:avLst/>
          </a:prstGeom>
          <a:solidFill>
            <a:srgbClr val="327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3006720"/>
            <a:ext cx="10620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441440" y="3222720"/>
            <a:ext cx="10620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187280" y="3112920"/>
            <a:ext cx="106560" cy="10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403280" y="3041640"/>
            <a:ext cx="10656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657440" y="3186000"/>
            <a:ext cx="106200" cy="10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873080" y="3257640"/>
            <a:ext cx="10656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089080" y="3112920"/>
            <a:ext cx="106560" cy="10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305080" y="2681280"/>
            <a:ext cx="10620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521080" y="2970360"/>
            <a:ext cx="10620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36720" y="3186000"/>
            <a:ext cx="106560" cy="10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097080" y="3079800"/>
            <a:ext cx="10656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03640" y="3186000"/>
            <a:ext cx="106200" cy="10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415200" y="3222720"/>
            <a:ext cx="10620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697800" y="3006720"/>
            <a:ext cx="10620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804000" y="3112920"/>
            <a:ext cx="106560" cy="10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202520" y="3279600"/>
            <a:ext cx="106200" cy="10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345440" y="3112920"/>
            <a:ext cx="106200" cy="10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561440" y="2968560"/>
            <a:ext cx="106200" cy="10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956720" y="3006720"/>
            <a:ext cx="10620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8172360" y="2935440"/>
            <a:ext cx="10656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317080" y="3222720"/>
            <a:ext cx="10620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642520" y="3151080"/>
            <a:ext cx="106200" cy="10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858160" y="3006720"/>
            <a:ext cx="10656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920" y="3006720"/>
            <a:ext cx="10620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50920" y="3251160"/>
            <a:ext cx="106200" cy="10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04720" y="3079800"/>
            <a:ext cx="10656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20720" y="3151080"/>
            <a:ext cx="106200" cy="10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36720" y="3006720"/>
            <a:ext cx="10620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42840" y="3357360"/>
            <a:ext cx="9074160" cy="1419120"/>
          </a:xfrm>
          <a:custGeom>
            <a:avLst/>
            <a:gdLst/>
            <a:ahLst/>
            <a:rect l="l" t="t" r="r" b="b"/>
            <a:pathLst>
              <a:path w="5716" h="1374">
                <a:moveTo>
                  <a:pt x="0" y="1344"/>
                </a:moveTo>
                <a:cubicBezTo>
                  <a:pt x="794" y="1359"/>
                  <a:pt x="1588" y="1374"/>
                  <a:pt x="2042" y="1344"/>
                </a:cubicBezTo>
                <a:cubicBezTo>
                  <a:pt x="2496" y="1314"/>
                  <a:pt x="2571" y="1261"/>
                  <a:pt x="2722" y="1163"/>
                </a:cubicBezTo>
                <a:cubicBezTo>
                  <a:pt x="2873" y="1065"/>
                  <a:pt x="2874" y="924"/>
                  <a:pt x="2949" y="754"/>
                </a:cubicBezTo>
                <a:cubicBezTo>
                  <a:pt x="3024" y="584"/>
                  <a:pt x="3135" y="245"/>
                  <a:pt x="3175" y="146"/>
                </a:cubicBezTo>
                <a:cubicBezTo>
                  <a:pt x="3215" y="47"/>
                  <a:pt x="3204" y="0"/>
                  <a:pt x="3187" y="158"/>
                </a:cubicBezTo>
                <a:cubicBezTo>
                  <a:pt x="3170" y="316"/>
                  <a:pt x="2969" y="902"/>
                  <a:pt x="3074" y="1094"/>
                </a:cubicBezTo>
                <a:cubicBezTo>
                  <a:pt x="3179" y="1286"/>
                  <a:pt x="3378" y="1268"/>
                  <a:pt x="3818" y="1310"/>
                </a:cubicBezTo>
                <a:cubicBezTo>
                  <a:pt x="4258" y="1352"/>
                  <a:pt x="5321" y="1337"/>
                  <a:pt x="5716" y="1344"/>
                </a:cubicBezTo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3564000" y="2828880"/>
            <a:ext cx="2563920" cy="1282680"/>
            <a:chOff x="3564000" y="2828880"/>
            <a:chExt cx="2563920" cy="1282680"/>
          </a:xfrm>
        </p:grpSpPr>
        <p:grpSp>
          <p:nvGrpSpPr>
            <p:cNvPr id="687" name=""/>
            <p:cNvGrpSpPr/>
            <p:nvPr/>
          </p:nvGrpSpPr>
          <p:grpSpPr>
            <a:xfrm>
              <a:off x="3564000" y="2828880"/>
              <a:ext cx="2458800" cy="1282680"/>
              <a:chOff x="3564000" y="2828880"/>
              <a:chExt cx="2458800" cy="1282680"/>
            </a:xfrm>
          </p:grpSpPr>
          <p:sp>
            <p:nvSpPr>
              <p:cNvPr id="688" name=""/>
              <p:cNvSpPr/>
              <p:nvPr/>
            </p:nvSpPr>
            <p:spPr>
              <a:xfrm>
                <a:off x="4859280" y="3213000"/>
                <a:ext cx="106560" cy="106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564000" y="3141720"/>
                <a:ext cx="106200" cy="106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789360" y="3246480"/>
                <a:ext cx="106200" cy="106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067280" y="3068640"/>
                <a:ext cx="106200" cy="106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057640" y="3087720"/>
                <a:ext cx="106560" cy="106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292720" y="3170160"/>
                <a:ext cx="106200" cy="106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506920" y="3227400"/>
                <a:ext cx="106560" cy="106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10320" y="3078000"/>
                <a:ext cx="106200" cy="106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916600" y="2828880"/>
                <a:ext cx="106200" cy="106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745160" y="4005360"/>
                <a:ext cx="106200" cy="106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788000" y="3860640"/>
                <a:ext cx="106200" cy="106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6021360" y="3255840"/>
              <a:ext cx="10656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0" y="3429000"/>
            <a:ext cx="8820000" cy="2232000"/>
          </a:xfrm>
          <a:prstGeom prst="rect">
            <a:avLst/>
          </a:prstGeom>
          <a:solidFill>
            <a:srgbClr val="327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060000" y="0"/>
            <a:ext cx="2736000" cy="6194160"/>
            <a:chOff x="3060000" y="0"/>
            <a:chExt cx="2736000" cy="6194160"/>
          </a:xfrm>
        </p:grpSpPr>
        <p:sp>
          <p:nvSpPr>
            <p:cNvPr id="702" name=""/>
            <p:cNvSpPr/>
            <p:nvPr/>
          </p:nvSpPr>
          <p:spPr>
            <a:xfrm>
              <a:off x="3082320" y="53640"/>
              <a:ext cx="2713680" cy="614052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60000" y="0"/>
              <a:ext cx="2713680" cy="614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 flipH="1" flipV="1">
            <a:off x="2268000" y="2133360"/>
            <a:ext cx="7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6084720" y="2421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8101080" y="249192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468360" y="263664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>
            <a:hlinkClick r:id="rId2" action="ppaction://hlinksldjump"/>
          </p:cNvPr>
          <p:cNvSpPr/>
          <p:nvPr/>
        </p:nvSpPr>
        <p:spPr>
          <a:xfrm>
            <a:off x="8515080" y="616572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568840" cy="713088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133720" y="6308640"/>
            <a:ext cx="49528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 string  world-shee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3949560" y="5981400"/>
            <a:ext cx="304560" cy="305280"/>
            <a:chOff x="3949560" y="5981400"/>
            <a:chExt cx="304560" cy="305280"/>
          </a:xfrm>
        </p:grpSpPr>
        <p:sp>
          <p:nvSpPr>
            <p:cNvPr id="712" name=""/>
            <p:cNvSpPr/>
            <p:nvPr/>
          </p:nvSpPr>
          <p:spPr>
            <a:xfrm>
              <a:off x="3949560" y="5981760"/>
              <a:ext cx="30456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3949560" y="5981400"/>
              <a:ext cx="30456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514600" y="5257440"/>
            <a:ext cx="304560" cy="305280"/>
            <a:chOff x="2514600" y="5257440"/>
            <a:chExt cx="304560" cy="305280"/>
          </a:xfrm>
        </p:grpSpPr>
        <p:sp>
          <p:nvSpPr>
            <p:cNvPr id="715" name=""/>
            <p:cNvSpPr/>
            <p:nvPr/>
          </p:nvSpPr>
          <p:spPr>
            <a:xfrm>
              <a:off x="2514600" y="5257800"/>
              <a:ext cx="30456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2514600" y="5257440"/>
              <a:ext cx="30456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324480" y="5181120"/>
            <a:ext cx="304560" cy="305280"/>
            <a:chOff x="6324480" y="5181120"/>
            <a:chExt cx="304560" cy="305280"/>
          </a:xfrm>
        </p:grpSpPr>
        <p:sp>
          <p:nvSpPr>
            <p:cNvPr id="718" name=""/>
            <p:cNvSpPr/>
            <p:nvPr/>
          </p:nvSpPr>
          <p:spPr>
            <a:xfrm>
              <a:off x="6324480" y="5181480"/>
              <a:ext cx="30456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6324480" y="5181120"/>
              <a:ext cx="30456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6095880" y="609120"/>
            <a:ext cx="304560" cy="305280"/>
            <a:chOff x="6095880" y="609120"/>
            <a:chExt cx="304560" cy="305280"/>
          </a:xfrm>
        </p:grpSpPr>
        <p:sp>
          <p:nvSpPr>
            <p:cNvPr id="721" name=""/>
            <p:cNvSpPr/>
            <p:nvPr/>
          </p:nvSpPr>
          <p:spPr>
            <a:xfrm>
              <a:off x="6095880" y="609480"/>
              <a:ext cx="30456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6095880" y="609120"/>
              <a:ext cx="30456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4343400" y="228240"/>
            <a:ext cx="304560" cy="305280"/>
            <a:chOff x="4343400" y="228240"/>
            <a:chExt cx="304560" cy="305280"/>
          </a:xfrm>
        </p:grpSpPr>
        <p:sp>
          <p:nvSpPr>
            <p:cNvPr id="724" name=""/>
            <p:cNvSpPr/>
            <p:nvPr/>
          </p:nvSpPr>
          <p:spPr>
            <a:xfrm>
              <a:off x="4343400" y="228600"/>
              <a:ext cx="30456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4343400" y="228240"/>
              <a:ext cx="30456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3048120" y="1294920"/>
            <a:ext cx="304200" cy="305280"/>
            <a:chOff x="3048120" y="1294920"/>
            <a:chExt cx="304200" cy="305280"/>
          </a:xfrm>
        </p:grpSpPr>
        <p:sp>
          <p:nvSpPr>
            <p:cNvPr id="727" name=""/>
            <p:cNvSpPr/>
            <p:nvPr/>
          </p:nvSpPr>
          <p:spPr>
            <a:xfrm>
              <a:off x="3048120" y="1295280"/>
              <a:ext cx="30420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3048120" y="1294920"/>
              <a:ext cx="30420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533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ack  Hole  Formation  &amp;  Evaporation  by  Closed  String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1379520" y="1143000"/>
            <a:ext cx="6505560" cy="5248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8" dur="18000" fill="hold"/>
                                        <p:tgtEl>
                                          <p:spTgt spid="7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9" restart="whenNotActive" nodeType="interactiveSeq" fill="hold">
                <p:stCondLst>
                  <p:cond evt="onClick">
                    <p:tgtEl>
                      <p:spTgt spid="730"/>
                    </p:tgtEl>
                  </p:cond>
                </p:stCondLst>
                <p:childTnLst>
                  <p:par>
                    <p:cTn id="910" fill="hold">
                      <p:stCondLst>
                        <p:cond evt="onClick">
                          <p:tgtEl>
                            <p:spTgt spid="730"/>
                          </p:tgtEl>
                        </p:cond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13" dur="1" fill="hold"/>
                                        <p:tgtEl>
                                          <p:spTgt spid="7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"/>
          <p:cNvGrpSpPr/>
          <p:nvPr/>
        </p:nvGrpSpPr>
        <p:grpSpPr>
          <a:xfrm>
            <a:off x="114480" y="914400"/>
            <a:ext cx="4419360" cy="4267080"/>
            <a:chOff x="114480" y="914400"/>
            <a:chExt cx="4419360" cy="4267080"/>
          </a:xfrm>
        </p:grpSpPr>
        <p:grpSp>
          <p:nvGrpSpPr>
            <p:cNvPr id="732" name=""/>
            <p:cNvGrpSpPr/>
            <p:nvPr/>
          </p:nvGrpSpPr>
          <p:grpSpPr>
            <a:xfrm>
              <a:off x="114480" y="914400"/>
              <a:ext cx="4419360" cy="4267080"/>
              <a:chOff x="114480" y="914400"/>
              <a:chExt cx="4419360" cy="4267080"/>
            </a:xfrm>
          </p:grpSpPr>
          <p:sp>
            <p:nvSpPr>
              <p:cNvPr id="733" name=""/>
              <p:cNvSpPr/>
              <p:nvPr/>
            </p:nvSpPr>
            <p:spPr>
              <a:xfrm>
                <a:off x="114480" y="914400"/>
                <a:ext cx="4419360" cy="426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76240" y="1599840"/>
                <a:ext cx="2741760" cy="2741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1085040" y="4506840"/>
              <a:ext cx="237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BLACK  HO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4622760" y="914400"/>
            <a:ext cx="4419720" cy="4267080"/>
            <a:chOff x="4622760" y="914400"/>
            <a:chExt cx="4419720" cy="4267080"/>
          </a:xfrm>
        </p:grpSpPr>
        <p:sp>
          <p:nvSpPr>
            <p:cNvPr id="737" name=""/>
            <p:cNvSpPr/>
            <p:nvPr/>
          </p:nvSpPr>
          <p:spPr>
            <a:xfrm>
              <a:off x="4622760" y="914400"/>
              <a:ext cx="4419720" cy="426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384880" y="1600200"/>
              <a:ext cx="2741400" cy="274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687640" y="4495680"/>
              <a:ext cx="240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WHITE  HO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395000" y="5654520"/>
            <a:ext cx="6843600" cy="825480"/>
          </a:xfrm>
          <a:prstGeom prst="rect">
            <a:avLst/>
          </a:prstGeom>
          <a:solidFill>
            <a:srgbClr val="f3f4f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  black  hole  is  a  quantum  superposition 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hite  holes  and  </a:t>
            </a:r>
            <a:r>
              <a:rPr b="0" i="1" lang="en-US" sz="2400" spc="-1" strike="noStrike">
                <a:solidFill>
                  <a:srgbClr val="009900"/>
                </a:solidFill>
                <a:latin typeface="Comic Sans MS"/>
              </a:rPr>
              <a:t>vice versa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707920" y="228600"/>
            <a:ext cx="34833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Comic Sans MS"/>
              </a:rPr>
              <a:t>The  Difference 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"/>
          <p:cNvGrpSpPr/>
          <p:nvPr/>
        </p:nvGrpSpPr>
        <p:grpSpPr>
          <a:xfrm>
            <a:off x="-3332520" y="2826360"/>
            <a:ext cx="9234360" cy="9520200"/>
            <a:chOff x="-3332520" y="2826360"/>
            <a:chExt cx="9234360" cy="9520200"/>
          </a:xfrm>
        </p:grpSpPr>
        <p:sp>
          <p:nvSpPr>
            <p:cNvPr id="743" name=""/>
            <p:cNvSpPr/>
            <p:nvPr/>
          </p:nvSpPr>
          <p:spPr>
            <a:xfrm rot="21008400">
              <a:off x="-2681280" y="3444840"/>
              <a:ext cx="7931880" cy="82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135" y="334"/>
                  </a:moveTo>
                  <a:arcTo wR="10800" hR="10800" stAng="-6257206" swAng="6257206"/>
                  <a:lnTo>
                    <a:pt x="10800" y="10800"/>
                  </a:lnTo>
                  <a:close/>
                </a:path>
                <a:path fill="none" w="21600" h="21600">
                  <a:moveTo>
                    <a:pt x="8135" y="334"/>
                  </a:moveTo>
                  <a:arcTo wR="10800" hR="10800" stAng="-6257206" swAng="6257206"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4" name="" descr=""/>
            <p:cNvPicPr/>
            <p:nvPr/>
          </p:nvPicPr>
          <p:blipFill>
            <a:blip r:embed="rId2"/>
            <a:stretch/>
          </p:blipFill>
          <p:spPr>
            <a:xfrm>
              <a:off x="4730760" y="5813280"/>
              <a:ext cx="46656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" descr=""/>
            <p:cNvPicPr/>
            <p:nvPr/>
          </p:nvPicPr>
          <p:blipFill>
            <a:blip r:embed="rId3"/>
            <a:stretch/>
          </p:blipFill>
          <p:spPr>
            <a:xfrm>
              <a:off x="3635280" y="4202280"/>
              <a:ext cx="46692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" descr=""/>
            <p:cNvPicPr/>
            <p:nvPr/>
          </p:nvPicPr>
          <p:blipFill>
            <a:blip r:embed="rId4"/>
            <a:stretch/>
          </p:blipFill>
          <p:spPr>
            <a:xfrm>
              <a:off x="2771640" y="3639960"/>
              <a:ext cx="4669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" descr=""/>
            <p:cNvPicPr/>
            <p:nvPr/>
          </p:nvPicPr>
          <p:blipFill>
            <a:blip r:embed="rId5"/>
            <a:stretch/>
          </p:blipFill>
          <p:spPr>
            <a:xfrm>
              <a:off x="2449440" y="3467160"/>
              <a:ext cx="46692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" descr=""/>
            <p:cNvPicPr/>
            <p:nvPr/>
          </p:nvPicPr>
          <p:blipFill>
            <a:blip r:embed="rId6"/>
            <a:stretch/>
          </p:blipFill>
          <p:spPr>
            <a:xfrm>
              <a:off x="2138400" y="3381480"/>
              <a:ext cx="4665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" descr=""/>
            <p:cNvPicPr/>
            <p:nvPr/>
          </p:nvPicPr>
          <p:blipFill>
            <a:blip r:embed="rId7"/>
            <a:stretch/>
          </p:blipFill>
          <p:spPr>
            <a:xfrm>
              <a:off x="971640" y="3262320"/>
              <a:ext cx="4665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" descr=""/>
            <p:cNvPicPr/>
            <p:nvPr/>
          </p:nvPicPr>
          <p:blipFill>
            <a:blip r:embed="rId8"/>
            <a:stretch/>
          </p:blipFill>
          <p:spPr>
            <a:xfrm>
              <a:off x="3376440" y="3965400"/>
              <a:ext cx="4669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" descr=""/>
            <p:cNvPicPr/>
            <p:nvPr/>
          </p:nvPicPr>
          <p:blipFill>
            <a:blip r:embed="rId9"/>
            <a:stretch/>
          </p:blipFill>
          <p:spPr>
            <a:xfrm>
              <a:off x="3132000" y="3827520"/>
              <a:ext cx="46692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" descr=""/>
            <p:cNvPicPr/>
            <p:nvPr/>
          </p:nvPicPr>
          <p:blipFill>
            <a:blip r:embed="rId10"/>
            <a:stretch/>
          </p:blipFill>
          <p:spPr>
            <a:xfrm>
              <a:off x="576360" y="3262320"/>
              <a:ext cx="4665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" descr=""/>
            <p:cNvPicPr/>
            <p:nvPr/>
          </p:nvPicPr>
          <p:blipFill>
            <a:blip r:embed="rId11"/>
            <a:stretch/>
          </p:blipFill>
          <p:spPr>
            <a:xfrm>
              <a:off x="250920" y="3262320"/>
              <a:ext cx="4665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" descr=""/>
            <p:cNvPicPr/>
            <p:nvPr/>
          </p:nvPicPr>
          <p:blipFill>
            <a:blip r:embed="rId12"/>
            <a:stretch/>
          </p:blipFill>
          <p:spPr>
            <a:xfrm>
              <a:off x="-108000" y="3305160"/>
              <a:ext cx="4669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" descr=""/>
            <p:cNvPicPr/>
            <p:nvPr/>
          </p:nvPicPr>
          <p:blipFill>
            <a:blip r:embed="rId13"/>
            <a:stretch/>
          </p:blipFill>
          <p:spPr>
            <a:xfrm>
              <a:off x="1763640" y="3262320"/>
              <a:ext cx="46692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" descr=""/>
            <p:cNvPicPr/>
            <p:nvPr/>
          </p:nvPicPr>
          <p:blipFill>
            <a:blip r:embed="rId14"/>
            <a:stretch/>
          </p:blipFill>
          <p:spPr>
            <a:xfrm>
              <a:off x="1403280" y="3262320"/>
              <a:ext cx="46692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-36360" y="4432320"/>
              <a:ext cx="1368360" cy="249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8" name="" descr=""/>
            <p:cNvPicPr/>
            <p:nvPr/>
          </p:nvPicPr>
          <p:blipFill>
            <a:blip r:embed="rId15"/>
            <a:stretch/>
          </p:blipFill>
          <p:spPr>
            <a:xfrm>
              <a:off x="4629240" y="5511960"/>
              <a:ext cx="4665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" descr=""/>
            <p:cNvPicPr/>
            <p:nvPr/>
          </p:nvPicPr>
          <p:blipFill>
            <a:blip r:embed="rId16"/>
            <a:stretch/>
          </p:blipFill>
          <p:spPr>
            <a:xfrm>
              <a:off x="4514760" y="5253120"/>
              <a:ext cx="46692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" descr=""/>
            <p:cNvPicPr/>
            <p:nvPr/>
          </p:nvPicPr>
          <p:blipFill>
            <a:blip r:embed="rId17"/>
            <a:stretch/>
          </p:blipFill>
          <p:spPr>
            <a:xfrm>
              <a:off x="3894120" y="4444920"/>
              <a:ext cx="4669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" descr=""/>
            <p:cNvPicPr/>
            <p:nvPr/>
          </p:nvPicPr>
          <p:blipFill>
            <a:blip r:embed="rId18"/>
            <a:stretch/>
          </p:blipFill>
          <p:spPr>
            <a:xfrm>
              <a:off x="4338720" y="5008680"/>
              <a:ext cx="4665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" descr=""/>
            <p:cNvPicPr/>
            <p:nvPr/>
          </p:nvPicPr>
          <p:blipFill>
            <a:blip r:embed="rId19"/>
            <a:stretch/>
          </p:blipFill>
          <p:spPr>
            <a:xfrm>
              <a:off x="4148280" y="4705200"/>
              <a:ext cx="46656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" descr=""/>
            <p:cNvPicPr/>
            <p:nvPr/>
          </p:nvPicPr>
          <p:blipFill>
            <a:blip r:embed="rId20"/>
            <a:stretch/>
          </p:blipFill>
          <p:spPr>
            <a:xfrm>
              <a:off x="4932360" y="6515280"/>
              <a:ext cx="4665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" descr=""/>
            <p:cNvPicPr/>
            <p:nvPr/>
          </p:nvPicPr>
          <p:blipFill>
            <a:blip r:embed="rId21"/>
            <a:stretch/>
          </p:blipFill>
          <p:spPr>
            <a:xfrm>
              <a:off x="4859280" y="6145200"/>
              <a:ext cx="466920" cy="46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5" name="" descr=""/>
          <p:cNvPicPr/>
          <p:nvPr/>
        </p:nvPicPr>
        <p:blipFill>
          <a:blip r:embed="rId22"/>
          <a:stretch/>
        </p:blipFill>
        <p:spPr>
          <a:xfrm>
            <a:off x="1116000" y="1844640"/>
            <a:ext cx="466560" cy="46692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23"/>
          <a:stretch/>
        </p:blipFill>
        <p:spPr>
          <a:xfrm>
            <a:off x="8101080" y="2890800"/>
            <a:ext cx="466560" cy="466920"/>
          </a:xfrm>
          <a:prstGeom prst="rect">
            <a:avLst/>
          </a:prstGeom>
          <a:ln w="0">
            <a:noFill/>
          </a:ln>
        </p:spPr>
      </p:pic>
      <p:grpSp>
        <p:nvGrpSpPr>
          <p:cNvPr id="767" name=""/>
          <p:cNvGrpSpPr/>
          <p:nvPr/>
        </p:nvGrpSpPr>
        <p:grpSpPr>
          <a:xfrm>
            <a:off x="6588000" y="3933720"/>
            <a:ext cx="835200" cy="761760"/>
            <a:chOff x="6588000" y="3933720"/>
            <a:chExt cx="835200" cy="761760"/>
          </a:xfrm>
        </p:grpSpPr>
        <p:pic>
          <p:nvPicPr>
            <p:cNvPr id="768" name="" descr=""/>
            <p:cNvPicPr/>
            <p:nvPr/>
          </p:nvPicPr>
          <p:blipFill>
            <a:blip r:embed="rId24"/>
            <a:stretch/>
          </p:blipFill>
          <p:spPr>
            <a:xfrm>
              <a:off x="6811920" y="4228920"/>
              <a:ext cx="4665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" descr=""/>
            <p:cNvPicPr/>
            <p:nvPr/>
          </p:nvPicPr>
          <p:blipFill>
            <a:blip r:embed="rId25"/>
            <a:stretch/>
          </p:blipFill>
          <p:spPr>
            <a:xfrm>
              <a:off x="6588000" y="3933720"/>
              <a:ext cx="4665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" descr=""/>
            <p:cNvPicPr/>
            <p:nvPr/>
          </p:nvPicPr>
          <p:blipFill>
            <a:blip r:embed="rId26"/>
            <a:stretch/>
          </p:blipFill>
          <p:spPr>
            <a:xfrm>
              <a:off x="6956280" y="3974760"/>
              <a:ext cx="466920" cy="46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1" name=""/>
          <p:cNvGrpSpPr/>
          <p:nvPr/>
        </p:nvGrpSpPr>
        <p:grpSpPr>
          <a:xfrm>
            <a:off x="4572000" y="1595520"/>
            <a:ext cx="2195640" cy="2049480"/>
            <a:chOff x="4572000" y="1595520"/>
            <a:chExt cx="2195640" cy="2049480"/>
          </a:xfrm>
        </p:grpSpPr>
        <p:grpSp>
          <p:nvGrpSpPr>
            <p:cNvPr id="772" name=""/>
            <p:cNvGrpSpPr/>
            <p:nvPr/>
          </p:nvGrpSpPr>
          <p:grpSpPr>
            <a:xfrm>
              <a:off x="4572000" y="1595520"/>
              <a:ext cx="2195640" cy="2049480"/>
              <a:chOff x="4572000" y="1595520"/>
              <a:chExt cx="2195640" cy="2049480"/>
            </a:xfrm>
          </p:grpSpPr>
          <p:sp>
            <p:nvSpPr>
              <p:cNvPr id="773" name=""/>
              <p:cNvSpPr/>
              <p:nvPr/>
            </p:nvSpPr>
            <p:spPr>
              <a:xfrm>
                <a:off x="4788000" y="1811520"/>
                <a:ext cx="1728720" cy="165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10160" y="2198880"/>
                <a:ext cx="466920" cy="46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2603520"/>
                <a:ext cx="46692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5077080" y="16668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5580360" y="3178440"/>
                <a:ext cx="466560" cy="46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4716720" y="18828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9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4788000" y="2890800"/>
                <a:ext cx="46692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5164200" y="3078360"/>
                <a:ext cx="466920" cy="46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508720" y="1595520"/>
                <a:ext cx="46692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5797800" y="16668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3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6266160" y="220824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4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6156360" y="2819520"/>
                <a:ext cx="466920" cy="46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5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6301080" y="253044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86" name="" descr=""/>
            <p:cNvPicPr/>
            <p:nvPr/>
          </p:nvPicPr>
          <p:blipFill>
            <a:blip r:embed="rId39"/>
            <a:stretch/>
          </p:blipFill>
          <p:spPr>
            <a:xfrm>
              <a:off x="5904000" y="3108600"/>
              <a:ext cx="46692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" descr=""/>
            <p:cNvPicPr/>
            <p:nvPr/>
          </p:nvPicPr>
          <p:blipFill>
            <a:blip r:embed="rId40"/>
            <a:stretch/>
          </p:blipFill>
          <p:spPr>
            <a:xfrm>
              <a:off x="6156360" y="1920960"/>
              <a:ext cx="466920" cy="46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8" name=""/>
          <p:cNvSpPr/>
          <p:nvPr/>
        </p:nvSpPr>
        <p:spPr>
          <a:xfrm>
            <a:off x="440640" y="306360"/>
            <a:ext cx="74944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articles  and  horizons,  the  hybrid 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258920" y="82440"/>
            <a:ext cx="7374960" cy="6659640"/>
            <a:chOff x="1258920" y="82440"/>
            <a:chExt cx="7374960" cy="6659640"/>
          </a:xfrm>
        </p:grpSpPr>
        <p:grpSp>
          <p:nvGrpSpPr>
            <p:cNvPr id="54" name=""/>
            <p:cNvGrpSpPr/>
            <p:nvPr/>
          </p:nvGrpSpPr>
          <p:grpSpPr>
            <a:xfrm>
              <a:off x="1258920" y="82440"/>
              <a:ext cx="6758640" cy="6659640"/>
              <a:chOff x="1258920" y="82440"/>
              <a:chExt cx="6758640" cy="6659640"/>
            </a:xfrm>
          </p:grpSpPr>
          <p:pic>
            <p:nvPicPr>
              <p:cNvPr id="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58920" y="82440"/>
                <a:ext cx="6758640" cy="66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2944080" y="642960"/>
                <a:ext cx="1929240" cy="35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516640" y="406440"/>
                <a:ext cx="1428840" cy="79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58" name=""/>
            <p:cNvGraphicFramePr/>
            <p:nvPr/>
          </p:nvGraphicFramePr>
          <p:xfrm>
            <a:off x="7478640" y="5550840"/>
            <a:ext cx="1155240" cy="560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478640" y="5550840"/>
                      <a:ext cx="1155240" cy="56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7204680" y="4778640"/>
            <a:ext cx="1071720" cy="560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04680" y="4778640"/>
                      <a:ext cx="1071720" cy="56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6835680" y="4007880"/>
            <a:ext cx="1083600" cy="560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35680" y="4007880"/>
                      <a:ext cx="1083600" cy="56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6479640" y="3237120"/>
            <a:ext cx="938880" cy="452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79640" y="3237120"/>
                      <a:ext cx="93888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6061680" y="2464920"/>
            <a:ext cx="857160" cy="405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061680" y="2464920"/>
                      <a:ext cx="857160" cy="40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5775480" y="1711080"/>
            <a:ext cx="857160" cy="403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5480" y="1711080"/>
                      <a:ext cx="857160" cy="40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632920" y="975240"/>
            <a:ext cx="714240" cy="3420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632920" y="975240"/>
                      <a:ext cx="714240" cy="34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23720" y="1861920"/>
            <a:ext cx="1447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Unicode MS"/>
              </a:rPr>
              <a:t>The  highway  across the  deser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79280" y="4132440"/>
            <a:ext cx="6553080" cy="1151640"/>
            <a:chOff x="179280" y="4132440"/>
            <a:chExt cx="6553080" cy="1151640"/>
          </a:xfrm>
        </p:grpSpPr>
        <p:sp>
          <p:nvSpPr>
            <p:cNvPr id="74" name=""/>
            <p:cNvSpPr/>
            <p:nvPr/>
          </p:nvSpPr>
          <p:spPr>
            <a:xfrm flipV="1">
              <a:off x="651240" y="5260680"/>
              <a:ext cx="6081120" cy="23400"/>
            </a:xfrm>
            <a:prstGeom prst="line">
              <a:avLst/>
            </a:prstGeom>
            <a:ln w="3816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9280" y="4132440"/>
              <a:ext cx="1495800" cy="76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924" y="2700"/>
                  </a:moveTo>
                  <a:lnTo>
                    <a:pt x="-924" y="2700"/>
                  </a:lnTo>
                  <a:lnTo>
                    <a:pt x="-924" y="24975"/>
                  </a:lnTo>
                  <a:lnTo>
                    <a:pt x="7200" y="32475"/>
                  </a:lnTo>
                </a:path>
              </a:pathLst>
            </a:custGeom>
            <a:solidFill>
              <a:srgbClr val="66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day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mit 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7308720" y="2492280"/>
            <a:ext cx="122076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948" y="4000"/>
                </a:moveTo>
                <a:lnTo>
                  <a:pt x="28004" y="4000"/>
                </a:lnTo>
                <a:lnTo>
                  <a:pt x="28004" y="-15469"/>
                </a:lnTo>
                <a:lnTo>
                  <a:pt x="-38369" y="-49331"/>
                </a:lnTo>
              </a:path>
              <a:path w="21600" h="21600">
                <a:moveTo>
                  <a:pt x="22948" y="0"/>
                </a:moveTo>
                <a:lnTo>
                  <a:pt x="22948" y="21600"/>
                </a:lnTo>
              </a:path>
            </a:pathLst>
          </a:cu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561280" y="333360"/>
            <a:ext cx="3277800" cy="459720"/>
            <a:chOff x="5561280" y="333360"/>
            <a:chExt cx="3277800" cy="459720"/>
          </a:xfrm>
        </p:grpSpPr>
        <p:graphicFrame>
          <p:nvGraphicFramePr>
            <p:cNvPr id="78" name=""/>
            <p:cNvGraphicFramePr/>
            <p:nvPr/>
          </p:nvGraphicFramePr>
          <p:xfrm>
            <a:off x="7772400" y="333360"/>
            <a:ext cx="1066680" cy="457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772400" y="333360"/>
                      <a:ext cx="10666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5561280" y="333360"/>
              <a:ext cx="2088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Planck  length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332000" y="189000"/>
            <a:ext cx="2232000" cy="936360"/>
          </a:xfrm>
          <a:prstGeom prst="wedgeRoundRectCallout">
            <a:avLst>
              <a:gd name="adj1" fmla="val 126740"/>
              <a:gd name="adj2" fmla="val -4407"/>
              <a:gd name="adj3" fmla="val 16667"/>
            </a:avLst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Quantum 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835280" y="4078440"/>
            <a:ext cx="5113080" cy="862560"/>
            <a:chOff x="1835280" y="4078440"/>
            <a:chExt cx="5113080" cy="862560"/>
          </a:xfrm>
        </p:grpSpPr>
        <p:sp>
          <p:nvSpPr>
            <p:cNvPr id="83" name=""/>
            <p:cNvSpPr/>
            <p:nvPr/>
          </p:nvSpPr>
          <p:spPr>
            <a:xfrm flipV="1">
              <a:off x="2203560" y="4923360"/>
              <a:ext cx="4744800" cy="17640"/>
            </a:xfrm>
            <a:prstGeom prst="line">
              <a:avLst/>
            </a:prstGeom>
            <a:ln w="3816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35280" y="4078440"/>
              <a:ext cx="1167120" cy="57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924" y="2700"/>
                  </a:moveTo>
                  <a:lnTo>
                    <a:pt x="-924" y="2700"/>
                  </a:lnTo>
                  <a:lnTo>
                    <a:pt x="-924" y="24975"/>
                  </a:lnTo>
                  <a:lnTo>
                    <a:pt x="7200" y="32475"/>
                  </a:lnTo>
                </a:path>
              </a:pathLst>
            </a:custGeom>
            <a:solidFill>
              <a:srgbClr val="66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H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1805040" y="1674720"/>
            <a:ext cx="55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Black  holes</a:t>
            </a: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 and  </a:t>
            </a:r>
            <a:r>
              <a:rPr b="1" i="1" lang="en-US" sz="2800" spc="-1" strike="noStrike">
                <a:solidFill>
                  <a:srgbClr val="cc0099"/>
                </a:solidFill>
                <a:latin typeface="Arial Unicode MS"/>
              </a:rPr>
              <a:t>string 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707560" y="28526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1.  Extra  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19320" y="1328760"/>
            <a:ext cx="6933960" cy="4267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4572000" y="1633680"/>
            <a:ext cx="681480" cy="2057040"/>
            <a:chOff x="4572000" y="1633680"/>
            <a:chExt cx="681480" cy="2057040"/>
          </a:xfrm>
        </p:grpSpPr>
        <p:sp>
          <p:nvSpPr>
            <p:cNvPr id="794" name=""/>
            <p:cNvSpPr/>
            <p:nvPr/>
          </p:nvSpPr>
          <p:spPr>
            <a:xfrm>
              <a:off x="4801320" y="1633680"/>
              <a:ext cx="45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4572000" y="224316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914400" y="2852640"/>
            <a:ext cx="7620120" cy="1944360"/>
            <a:chOff x="914400" y="2852640"/>
            <a:chExt cx="7620120" cy="1944360"/>
          </a:xfrm>
        </p:grpSpPr>
        <p:sp>
          <p:nvSpPr>
            <p:cNvPr id="798" name=""/>
            <p:cNvSpPr/>
            <p:nvPr/>
          </p:nvSpPr>
          <p:spPr>
            <a:xfrm>
              <a:off x="1219320" y="2852640"/>
              <a:ext cx="6781680" cy="194436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914400" y="2852640"/>
              <a:ext cx="609480" cy="1944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6f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91520" y="2852640"/>
              <a:ext cx="1143000" cy="194436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Black  holes  and  extra  dimens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4568760" y="3157560"/>
            <a:ext cx="1803240" cy="825120"/>
            <a:chOff x="4568760" y="3157560"/>
            <a:chExt cx="1803240" cy="825120"/>
          </a:xfrm>
        </p:grpSpPr>
        <p:sp>
          <p:nvSpPr>
            <p:cNvPr id="803" name=""/>
            <p:cNvSpPr/>
            <p:nvPr/>
          </p:nvSpPr>
          <p:spPr>
            <a:xfrm>
              <a:off x="4568760" y="369072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149880" y="3157560"/>
              <a:ext cx="22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781440" y="2624040"/>
            <a:ext cx="786960" cy="1066680"/>
            <a:chOff x="3781440" y="2624040"/>
            <a:chExt cx="786960" cy="1066680"/>
          </a:xfrm>
        </p:grpSpPr>
        <p:sp>
          <p:nvSpPr>
            <p:cNvPr id="806" name=""/>
            <p:cNvSpPr/>
            <p:nvPr/>
          </p:nvSpPr>
          <p:spPr>
            <a:xfrm flipH="1" flipV="1">
              <a:off x="4193640" y="2956680"/>
              <a:ext cx="124560" cy="6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3781440" y="2624040"/>
              <a:ext cx="786960" cy="1066680"/>
              <a:chOff x="3781440" y="2624040"/>
              <a:chExt cx="786960" cy="1066680"/>
            </a:xfrm>
          </p:grpSpPr>
          <p:sp>
            <p:nvSpPr>
              <p:cNvPr id="808" name=""/>
              <p:cNvSpPr/>
              <p:nvPr/>
            </p:nvSpPr>
            <p:spPr>
              <a:xfrm>
                <a:off x="4318560" y="3024000"/>
                <a:ext cx="249840" cy="666720"/>
              </a:xfrm>
              <a:custGeom>
                <a:avLst/>
                <a:gdLst/>
                <a:ahLst/>
                <a:rect l="l" t="t" r="r" b="b"/>
                <a:pathLst>
                  <a:path w="192" h="480">
                    <a:moveTo>
                      <a:pt x="192" y="480"/>
                    </a:moveTo>
                    <a:cubicBezTo>
                      <a:pt x="184" y="352"/>
                      <a:pt x="176" y="224"/>
                      <a:pt x="144" y="144"/>
                    </a:cubicBezTo>
                    <a:cubicBezTo>
                      <a:pt x="112" y="64"/>
                      <a:pt x="24" y="24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781440" y="2624040"/>
                <a:ext cx="429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0" name=""/>
          <p:cNvSpPr/>
          <p:nvPr/>
        </p:nvSpPr>
        <p:spPr>
          <a:xfrm>
            <a:off x="1547640" y="3800520"/>
            <a:ext cx="6985080" cy="673200"/>
          </a:xfrm>
          <a:custGeom>
            <a:avLst/>
            <a:gdLst/>
            <a:ahLst/>
            <a:rect l="l" t="t" r="r" b="b"/>
            <a:pathLst>
              <a:path w="4400" h="424">
                <a:moveTo>
                  <a:pt x="0" y="174"/>
                </a:moveTo>
                <a:cubicBezTo>
                  <a:pt x="234" y="87"/>
                  <a:pt x="469" y="0"/>
                  <a:pt x="862" y="38"/>
                </a:cubicBezTo>
                <a:cubicBezTo>
                  <a:pt x="1255" y="76"/>
                  <a:pt x="1860" y="378"/>
                  <a:pt x="2359" y="401"/>
                </a:cubicBezTo>
                <a:cubicBezTo>
                  <a:pt x="2858" y="424"/>
                  <a:pt x="3515" y="204"/>
                  <a:pt x="3855" y="174"/>
                </a:cubicBezTo>
                <a:cubicBezTo>
                  <a:pt x="4195" y="144"/>
                  <a:pt x="4297" y="181"/>
                  <a:pt x="4400" y="219"/>
                </a:cubicBezTo>
              </a:path>
            </a:pathLst>
          </a:custGeom>
          <a:noFill/>
          <a:ln w="381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572000" y="1125360"/>
            <a:ext cx="2548080" cy="1051200"/>
          </a:xfrm>
          <a:prstGeom prst="borderCallout1">
            <a:avLst>
              <a:gd name="adj1" fmla="val 18750"/>
              <a:gd name="adj2" fmla="val -8333"/>
              <a:gd name="adj3" fmla="val 278550"/>
              <a:gd name="adj4" fmla="val 136324"/>
            </a:avLst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Unicode MS"/>
              </a:rPr>
              <a:t>4-d  world 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Unicode MS"/>
              </a:rPr>
              <a:t>   “</a:t>
            </a:r>
            <a:r>
              <a:rPr b="0" i="1" lang="en-US" sz="2800" spc="-1" strike="noStrike">
                <a:solidFill>
                  <a:srgbClr val="660066"/>
                </a:solidFill>
                <a:latin typeface="Arial Unicode MS"/>
              </a:rPr>
              <a:t>D </a:t>
            </a:r>
            <a:r>
              <a:rPr b="0" lang="en-US" sz="2800" spc="-1" strike="noStrike">
                <a:solidFill>
                  <a:srgbClr val="660066"/>
                </a:solidFill>
                <a:latin typeface="Arial Unicode MS"/>
              </a:rPr>
              <a:t>-brane</a:t>
            </a: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300720" y="4033800"/>
            <a:ext cx="503280" cy="504720"/>
          </a:xfrm>
          <a:prstGeom prst="ellipse">
            <a:avLst/>
          </a:prstGeom>
          <a:gradFill rotWithShape="0">
            <a:gsLst>
              <a:gs pos="0">
                <a:srgbClr val="2f9d90"/>
              </a:gs>
              <a:gs pos="100000">
                <a:srgbClr val="1e675e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563840" y="5554800"/>
            <a:ext cx="1800000" cy="792000"/>
          </a:xfrm>
          <a:prstGeom prst="borderCallout1">
            <a:avLst>
              <a:gd name="adj1" fmla="val 22514"/>
              <a:gd name="adj2" fmla="val -31642"/>
              <a:gd name="adj3" fmla="val 22514"/>
              <a:gd name="adj4" fmla="val 184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orizon  of  “Big  Ho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702320" y="5805360"/>
            <a:ext cx="1800000" cy="492120"/>
          </a:xfrm>
          <a:prstGeom prst="borderCallout1">
            <a:avLst>
              <a:gd name="adj1" fmla="val 22514"/>
              <a:gd name="adj2" fmla="val -54766"/>
              <a:gd name="adj3" fmla="val 22514"/>
              <a:gd name="adj4" fmla="val 16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ittle  Ho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1575720" y="2852640"/>
            <a:ext cx="1916640" cy="1944720"/>
            <a:chOff x="1575720" y="2852640"/>
            <a:chExt cx="1916640" cy="1944720"/>
          </a:xfrm>
        </p:grpSpPr>
        <p:grpSp>
          <p:nvGrpSpPr>
            <p:cNvPr id="816" name=""/>
            <p:cNvGrpSpPr/>
            <p:nvPr/>
          </p:nvGrpSpPr>
          <p:grpSpPr>
            <a:xfrm>
              <a:off x="1575720" y="2852640"/>
              <a:ext cx="1916280" cy="1944360"/>
              <a:chOff x="1575720" y="2852640"/>
              <a:chExt cx="1916280" cy="1944360"/>
            </a:xfrm>
          </p:grpSpPr>
          <p:sp>
            <p:nvSpPr>
              <p:cNvPr id="817" name=""/>
              <p:cNvSpPr/>
              <p:nvPr/>
            </p:nvSpPr>
            <p:spPr>
              <a:xfrm>
                <a:off x="1575720" y="2854080"/>
                <a:ext cx="721080" cy="19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698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69899"/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771640" y="2852640"/>
                <a:ext cx="720360" cy="19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698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69899"/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>
              <a:off x="1979640" y="2852640"/>
              <a:ext cx="1512720" cy="1944720"/>
            </a:xfrm>
            <a:custGeom>
              <a:avLst/>
              <a:gdLst/>
              <a:ahLst/>
              <a:rect l="l" t="t" r="r" b="b"/>
              <a:pathLst>
                <a:path w="953" h="1225">
                  <a:moveTo>
                    <a:pt x="0" y="1225"/>
                  </a:moveTo>
                  <a:lnTo>
                    <a:pt x="726" y="1225"/>
                  </a:lnTo>
                  <a:cubicBezTo>
                    <a:pt x="880" y="1172"/>
                    <a:pt x="887" y="999"/>
                    <a:pt x="925" y="908"/>
                  </a:cubicBezTo>
                  <a:lnTo>
                    <a:pt x="953" y="680"/>
                  </a:lnTo>
                  <a:lnTo>
                    <a:pt x="937" y="352"/>
                  </a:lnTo>
                  <a:lnTo>
                    <a:pt x="885" y="172"/>
                  </a:lnTo>
                  <a:lnTo>
                    <a:pt x="817" y="45"/>
                  </a:lnTo>
                  <a:lnTo>
                    <a:pt x="726" y="0"/>
                  </a:lnTo>
                  <a:lnTo>
                    <a:pt x="0" y="0"/>
                  </a:lnTo>
                  <a:lnTo>
                    <a:pt x="91" y="91"/>
                  </a:lnTo>
                  <a:lnTo>
                    <a:pt x="182" y="272"/>
                  </a:lnTo>
                  <a:lnTo>
                    <a:pt x="197" y="448"/>
                  </a:lnTo>
                  <a:lnTo>
                    <a:pt x="209" y="628"/>
                  </a:lnTo>
                  <a:lnTo>
                    <a:pt x="169" y="936"/>
                  </a:lnTo>
                  <a:lnTo>
                    <a:pt x="81" y="1180"/>
                  </a:lnTo>
                  <a:lnTo>
                    <a:pt x="0" y="122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9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"/>
          <p:cNvGrpSpPr/>
          <p:nvPr/>
        </p:nvGrpSpPr>
        <p:grpSpPr>
          <a:xfrm>
            <a:off x="1491480" y="482760"/>
            <a:ext cx="6030360" cy="6043680"/>
            <a:chOff x="1491480" y="482760"/>
            <a:chExt cx="6030360" cy="6043680"/>
          </a:xfrm>
        </p:grpSpPr>
        <p:sp>
          <p:nvSpPr>
            <p:cNvPr id="821" name=""/>
            <p:cNvSpPr/>
            <p:nvPr/>
          </p:nvSpPr>
          <p:spPr>
            <a:xfrm flipH="1">
              <a:off x="2594520" y="3495240"/>
              <a:ext cx="1888920" cy="177552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1639800" y="3506040"/>
              <a:ext cx="2844360" cy="1029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952280" y="3507480"/>
              <a:ext cx="2539800" cy="1641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2283840" y="3506040"/>
              <a:ext cx="2210040" cy="44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1951200" y="3504240"/>
              <a:ext cx="2549880" cy="13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2636640" y="3500640"/>
              <a:ext cx="1860120" cy="15138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2098800" y="3500640"/>
              <a:ext cx="2396520" cy="78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flipV="1">
              <a:off x="4254120" y="482760"/>
              <a:ext cx="240840" cy="30150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4495680" y="966240"/>
              <a:ext cx="568800" cy="252900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3615840" y="1417320"/>
              <a:ext cx="869760" cy="20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>
              <a:off x="2965680" y="1644480"/>
              <a:ext cx="1516680" cy="1857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 flipV="1">
              <a:off x="2615400" y="1595160"/>
              <a:ext cx="1868040" cy="19101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3758040" y="1024560"/>
              <a:ext cx="735840" cy="248580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3005640" y="1021680"/>
              <a:ext cx="1488240" cy="248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4488840" y="934200"/>
              <a:ext cx="1337760" cy="257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4493160" y="1212120"/>
              <a:ext cx="690840" cy="22964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4491000" y="1136880"/>
              <a:ext cx="1685880" cy="23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2931480" y="3495240"/>
              <a:ext cx="1552320" cy="244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4387680" y="486720"/>
              <a:ext cx="108000" cy="3022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4493880" y="1384920"/>
              <a:ext cx="751680" cy="21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flipV="1">
              <a:off x="2142360" y="3042720"/>
              <a:ext cx="2353320" cy="4618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2902320" y="1709640"/>
              <a:ext cx="1592280" cy="17931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3490560" y="1076400"/>
              <a:ext cx="1001880" cy="2429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490640" y="3507120"/>
              <a:ext cx="2095560" cy="20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4250160" y="3506040"/>
              <a:ext cx="243360" cy="258120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2108520" y="1654200"/>
              <a:ext cx="2393280" cy="18500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3348360" y="1567800"/>
              <a:ext cx="1153440" cy="193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4501800" y="904320"/>
              <a:ext cx="612000" cy="26010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1986120" y="3503880"/>
              <a:ext cx="2515320" cy="62784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3717360" y="583560"/>
              <a:ext cx="784440" cy="29214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4495680" y="1261440"/>
              <a:ext cx="255600" cy="22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500360" y="3506760"/>
              <a:ext cx="2211120" cy="1420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3886920" y="667800"/>
              <a:ext cx="611280" cy="28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495680" y="3500280"/>
              <a:ext cx="1054440" cy="24548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2511360" y="3500640"/>
              <a:ext cx="1982880" cy="172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4495320" y="875160"/>
              <a:ext cx="1229760" cy="262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3000960" y="3502080"/>
              <a:ext cx="1490040" cy="16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4496400" y="513360"/>
              <a:ext cx="442800" cy="2991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4496040" y="1552680"/>
              <a:ext cx="1125000" cy="19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4496040" y="2766600"/>
              <a:ext cx="2567880" cy="738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495320" y="3506400"/>
              <a:ext cx="1463400" cy="2183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>
              <a:off x="2719080" y="1619640"/>
              <a:ext cx="1778040" cy="188640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flipV="1">
              <a:off x="2046240" y="1956960"/>
              <a:ext cx="2450880" cy="154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4272840" y="3506760"/>
              <a:ext cx="222840" cy="23878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4495680" y="1392840"/>
              <a:ext cx="2163960" cy="21132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4494240" y="2634120"/>
              <a:ext cx="207828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494960" y="3506400"/>
              <a:ext cx="2490840" cy="967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335120" y="3507120"/>
              <a:ext cx="157680" cy="2623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4222800" y="929160"/>
              <a:ext cx="272880" cy="257796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 flipV="1">
              <a:off x="3483360" y="789840"/>
              <a:ext cx="1012320" cy="27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2871000" y="3506760"/>
              <a:ext cx="1623240" cy="17650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497120" y="3502080"/>
              <a:ext cx="2748960" cy="12618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495680" y="3500640"/>
              <a:ext cx="1560960" cy="16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4489200" y="3500640"/>
              <a:ext cx="9000" cy="2671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1991160" y="3501000"/>
              <a:ext cx="2505240" cy="794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4495680" y="2323080"/>
              <a:ext cx="2308680" cy="117972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4495320" y="1582920"/>
              <a:ext cx="2172600" cy="19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>
              <a:off x="2267640" y="2620080"/>
              <a:ext cx="2230200" cy="881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498200" y="3502080"/>
              <a:ext cx="1423440" cy="26686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494600" y="3499200"/>
              <a:ext cx="256680" cy="223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871360" y="3499920"/>
              <a:ext cx="1625040" cy="2120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2022120" y="2612160"/>
              <a:ext cx="2475000" cy="884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494960" y="3501000"/>
              <a:ext cx="2551320" cy="45936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4494600" y="3288240"/>
              <a:ext cx="289188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3258000" y="1448280"/>
              <a:ext cx="1240560" cy="20523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2449800" y="3493080"/>
              <a:ext cx="2044080" cy="22294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2467440" y="3491280"/>
              <a:ext cx="2027160" cy="9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>
              <a:off x="1953720" y="2665080"/>
              <a:ext cx="2540520" cy="8280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4493520" y="864360"/>
              <a:ext cx="12240" cy="2628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493160" y="3491640"/>
              <a:ext cx="414720" cy="255924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93160" y="3492000"/>
              <a:ext cx="1160640" cy="265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494600" y="1640520"/>
              <a:ext cx="1523160" cy="18522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1516320" y="3494160"/>
              <a:ext cx="2976840" cy="5360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 flipV="1">
              <a:off x="2285280" y="3049560"/>
              <a:ext cx="2210760" cy="44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flipV="1">
              <a:off x="2975400" y="1296000"/>
              <a:ext cx="1519560" cy="21974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4495680" y="1409400"/>
              <a:ext cx="1602000" cy="208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3276360" y="3492360"/>
              <a:ext cx="1219680" cy="228744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810240" y="3493080"/>
              <a:ext cx="685440" cy="28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4495680" y="2941920"/>
              <a:ext cx="2333880" cy="5511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 flipV="1">
              <a:off x="2920680" y="908640"/>
              <a:ext cx="1568520" cy="2585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4109400" y="1272960"/>
              <a:ext cx="380880" cy="22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4488480" y="1287000"/>
              <a:ext cx="1505520" cy="22071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489200" y="3494520"/>
              <a:ext cx="2519640" cy="747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 flipV="1">
              <a:off x="1917720" y="3176640"/>
              <a:ext cx="2573280" cy="31752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1613880" y="3494160"/>
              <a:ext cx="28753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489560" y="3496320"/>
              <a:ext cx="1352520" cy="19800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4489200" y="486360"/>
              <a:ext cx="317520" cy="30078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4489200" y="1499040"/>
              <a:ext cx="1043280" cy="19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4488480" y="2650680"/>
              <a:ext cx="2534400" cy="84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488120" y="3496680"/>
              <a:ext cx="1553040" cy="2120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2633760" y="1686960"/>
              <a:ext cx="1855080" cy="181044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1976040" y="2050560"/>
              <a:ext cx="2513160" cy="144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4365720" y="3496680"/>
              <a:ext cx="123120" cy="23950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2476800" y="1243080"/>
              <a:ext cx="2017800" cy="2253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3713400" y="1384200"/>
              <a:ext cx="782640" cy="21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4494960" y="1051560"/>
              <a:ext cx="1073520" cy="2446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494240" y="3497760"/>
              <a:ext cx="2614680" cy="27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1907280" y="3497760"/>
              <a:ext cx="2587320" cy="16128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1736640" y="3497760"/>
              <a:ext cx="2757600" cy="89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4960" y="3499200"/>
              <a:ext cx="1693800" cy="16981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4494240" y="1343880"/>
              <a:ext cx="657720" cy="21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4493520" y="2202480"/>
              <a:ext cx="2336400" cy="1296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493880" y="3500640"/>
              <a:ext cx="1916640" cy="1798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2338200" y="2061720"/>
              <a:ext cx="2156760" cy="143892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flipV="1">
              <a:off x="1758600" y="2541600"/>
              <a:ext cx="2736000" cy="9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494960" y="3499560"/>
              <a:ext cx="319320" cy="23767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494960" y="2187720"/>
              <a:ext cx="2727720" cy="13071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4493520" y="3333600"/>
              <a:ext cx="2249280" cy="1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495320" y="3493080"/>
              <a:ext cx="2048760" cy="1715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3502440" y="3493440"/>
              <a:ext cx="991080" cy="2434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4407840" y="596520"/>
              <a:ext cx="87120" cy="28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2390760" y="3494520"/>
              <a:ext cx="2103840" cy="1151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495320" y="3494160"/>
              <a:ext cx="2962080" cy="6120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491000" y="3494160"/>
              <a:ext cx="1886040" cy="12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493160" y="3494160"/>
              <a:ext cx="591120" cy="2605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2228040" y="3493440"/>
              <a:ext cx="2263320" cy="1336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4491000" y="1826640"/>
              <a:ext cx="1984680" cy="166788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2122200" y="3135240"/>
              <a:ext cx="2371320" cy="3585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85600" y="3492000"/>
              <a:ext cx="407520" cy="29970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3947040" y="3490560"/>
              <a:ext cx="536760" cy="218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2223000" y="3491280"/>
              <a:ext cx="2260440" cy="14241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 flipV="1">
              <a:off x="2470680" y="1802160"/>
              <a:ext cx="2013120" cy="1689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482720" y="3492720"/>
              <a:ext cx="2233080" cy="131688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482720" y="3492720"/>
              <a:ext cx="2785320" cy="80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 flipV="1">
              <a:off x="4033800" y="1136520"/>
              <a:ext cx="450720" cy="2355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2994480" y="3492000"/>
              <a:ext cx="1490760" cy="2631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2732760" y="3489120"/>
              <a:ext cx="1753560" cy="141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 flipV="1">
              <a:off x="1824840" y="3254400"/>
              <a:ext cx="2661120" cy="2361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flipV="1">
              <a:off x="3908880" y="926640"/>
              <a:ext cx="578520" cy="2563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485600" y="3490200"/>
              <a:ext cx="979200" cy="240012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485960" y="3491280"/>
              <a:ext cx="1728000" cy="232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4485600" y="1344240"/>
              <a:ext cx="1068120" cy="21470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>
              <a:off x="1491480" y="3048120"/>
              <a:ext cx="2991960" cy="4467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 flipV="1">
              <a:off x="2533320" y="2367720"/>
              <a:ext cx="1951920" cy="11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 flipV="1">
              <a:off x="3747960" y="926640"/>
              <a:ext cx="734760" cy="256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4484880" y="2036160"/>
              <a:ext cx="2185560" cy="1460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484880" y="3496680"/>
              <a:ext cx="2387520" cy="2260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 flipV="1">
              <a:off x="2374200" y="1328760"/>
              <a:ext cx="2109600" cy="21675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484160" y="1008000"/>
              <a:ext cx="971280" cy="24886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485240" y="3498120"/>
              <a:ext cx="2623320" cy="16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1906920" y="3496320"/>
              <a:ext cx="2579040" cy="26856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1767600" y="3496320"/>
              <a:ext cx="271800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484160" y="3497040"/>
              <a:ext cx="1762920" cy="16261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482720" y="3502440"/>
              <a:ext cx="1783800" cy="2442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82000" y="3501360"/>
              <a:ext cx="568800" cy="21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3171240" y="3501000"/>
              <a:ext cx="1311120" cy="23281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 flipV="1">
              <a:off x="1907280" y="2971440"/>
              <a:ext cx="2574360" cy="529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479840" y="3503160"/>
              <a:ext cx="2590920" cy="9648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4480920" y="2886120"/>
              <a:ext cx="2833560" cy="61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4422960" y="3502440"/>
              <a:ext cx="59760" cy="30240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3612600" y="3499200"/>
              <a:ext cx="869040" cy="20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2028240" y="3499200"/>
              <a:ext cx="2453400" cy="1058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 flipV="1">
              <a:off x="2754360" y="1518480"/>
              <a:ext cx="1728720" cy="198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480920" y="3499920"/>
              <a:ext cx="2003040" cy="164592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480560" y="3500280"/>
              <a:ext cx="2627640" cy="122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 flipV="1">
              <a:off x="4402080" y="1103400"/>
              <a:ext cx="81720" cy="23965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flipV="1">
              <a:off x="2230560" y="3440520"/>
              <a:ext cx="225360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4484520" y="1181520"/>
              <a:ext cx="1227960" cy="2323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3666600" y="3504600"/>
              <a:ext cx="817200" cy="246024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4282560" y="3504240"/>
              <a:ext cx="200880" cy="28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4484160" y="2570040"/>
              <a:ext cx="2207880" cy="9367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 flipV="1">
              <a:off x="1596240" y="2603880"/>
              <a:ext cx="2886840" cy="903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 flipV="1">
              <a:off x="2731680" y="2090520"/>
              <a:ext cx="175428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 flipV="1">
              <a:off x="4155480" y="855000"/>
              <a:ext cx="329400" cy="2651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4485240" y="2402640"/>
              <a:ext cx="2384640" cy="1105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345040" y="3507480"/>
              <a:ext cx="2140200" cy="146268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2574000" y="3507840"/>
              <a:ext cx="1911600" cy="21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484880" y="3507480"/>
              <a:ext cx="2323800" cy="5918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4494960" y="2318400"/>
              <a:ext cx="2391120" cy="1192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493160" y="3510000"/>
              <a:ext cx="1835280" cy="1881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 flipV="1">
              <a:off x="2404440" y="1978560"/>
              <a:ext cx="2091240" cy="153216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 flipV="1">
              <a:off x="1804680" y="2431080"/>
              <a:ext cx="2691360" cy="107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94600" y="3511080"/>
              <a:ext cx="214560" cy="238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4494240" y="1037520"/>
              <a:ext cx="1744920" cy="24706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4493880" y="2275200"/>
              <a:ext cx="1885320" cy="12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93160" y="3503880"/>
              <a:ext cx="2624760" cy="4996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492080" y="3509640"/>
              <a:ext cx="320760" cy="2608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3217680" y="3511080"/>
              <a:ext cx="1276200" cy="20304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496400" y="3505680"/>
              <a:ext cx="2932560" cy="741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493520" y="3505680"/>
              <a:ext cx="1830600" cy="13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95320" y="3504240"/>
              <a:ext cx="476280" cy="2629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2174400" y="3504240"/>
              <a:ext cx="2319480" cy="1235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4493520" y="1927800"/>
              <a:ext cx="2055960" cy="157932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4493880" y="1224000"/>
              <a:ext cx="1788120" cy="22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496040" y="3505680"/>
              <a:ext cx="1883880" cy="23662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493880" y="3502800"/>
              <a:ext cx="659520" cy="215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3279960" y="3503520"/>
              <a:ext cx="1213920" cy="2379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flipV="1">
              <a:off x="1899000" y="3080520"/>
              <a:ext cx="2594880" cy="421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4492080" y="3493080"/>
              <a:ext cx="2592360" cy="1152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4494240" y="2772000"/>
              <a:ext cx="2805120" cy="73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489200" y="3506760"/>
              <a:ext cx="3018600" cy="1900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487400" y="3506400"/>
              <a:ext cx="2040840" cy="9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489920" y="3504960"/>
              <a:ext cx="951120" cy="2496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2434680" y="3504600"/>
              <a:ext cx="2053080" cy="164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4488840" y="1577160"/>
              <a:ext cx="1730520" cy="192996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 flipV="1">
              <a:off x="2090160" y="3484800"/>
              <a:ext cx="2397960" cy="21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488120" y="3505320"/>
              <a:ext cx="2287080" cy="19796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487040" y="3504240"/>
              <a:ext cx="1044720" cy="19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3731760" y="3504240"/>
              <a:ext cx="755280" cy="25628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1858320" y="3503160"/>
              <a:ext cx="2627640" cy="62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4486320" y="3018240"/>
              <a:ext cx="2546280" cy="48816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4486320" y="2269440"/>
              <a:ext cx="2622600" cy="12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 flipV="1">
              <a:off x="2593800" y="2035440"/>
              <a:ext cx="1895400" cy="14695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3464640" y="3507480"/>
              <a:ext cx="1026360" cy="28450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1828800" y="3507840"/>
              <a:ext cx="2662920" cy="21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492080" y="3507120"/>
              <a:ext cx="1369440" cy="220104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 flipV="1">
              <a:off x="2243520" y="2066040"/>
              <a:ext cx="2249640" cy="14414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4494240" y="965520"/>
              <a:ext cx="674640" cy="2540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494600" y="3506040"/>
              <a:ext cx="453600" cy="28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4493880" y="2098800"/>
              <a:ext cx="1940760" cy="14086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4500720" y="3295440"/>
              <a:ext cx="2620440" cy="20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502880" y="3504960"/>
              <a:ext cx="1973520" cy="1362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4500720" y="1807560"/>
              <a:ext cx="2062080" cy="16988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 flipV="1">
              <a:off x="2119320" y="2482560"/>
              <a:ext cx="2382120" cy="102312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 flipV="1">
              <a:off x="1636920" y="3058200"/>
              <a:ext cx="2864520" cy="44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502520" y="3505680"/>
              <a:ext cx="745560" cy="22791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4497840" y="1721160"/>
              <a:ext cx="2445480" cy="17805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4496040" y="2935800"/>
              <a:ext cx="2182680" cy="5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498200" y="3500280"/>
              <a:ext cx="2325960" cy="1315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3963600" y="3501720"/>
              <a:ext cx="532800" cy="257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4498200" y="911880"/>
              <a:ext cx="100080" cy="259020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497480" y="3501720"/>
              <a:ext cx="3024360" cy="640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95320" y="3499920"/>
              <a:ext cx="207900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4494960" y="1500480"/>
              <a:ext cx="1648440" cy="200052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0" y="3429000"/>
            <a:ext cx="4500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92800" y="3498840"/>
            <a:ext cx="46512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8400" y="187200"/>
            <a:ext cx="8519760" cy="703800"/>
          </a:xfrm>
          <a:prstGeom prst="rect">
            <a:avLst/>
          </a:prstGeom>
          <a:solidFill>
            <a:srgbClr val="cc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se  would  have  a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hermal  distribution  with  equal  probabilit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r  </a:t>
            </a:r>
            <a:r>
              <a:rPr b="1" i="1" lang="en-US" sz="2000" spc="-1" strike="noStrike">
                <a:solidFill>
                  <a:srgbClr val="000000"/>
                </a:solidFill>
                <a:latin typeface="Arial Unicode MS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particle  species,  corresponding  to  Hawking’s 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1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2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21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4" dur="2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228600" y="914400"/>
            <a:ext cx="86104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508040" y="4334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8077320" cy="428472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4572000" y="2057400"/>
            <a:ext cx="1295280" cy="685800"/>
          </a:xfrm>
          <a:prstGeom prst="rect">
            <a:avLst/>
          </a:prstGeom>
          <a:solidFill>
            <a:srgbClr val="f3f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2" name="" descr=""/>
          <p:cNvPicPr/>
          <p:nvPr/>
        </p:nvPicPr>
        <p:blipFill>
          <a:blip r:embed="rId3"/>
          <a:stretch/>
        </p:blipFill>
        <p:spPr>
          <a:xfrm>
            <a:off x="2395440" y="1281240"/>
            <a:ext cx="5757840" cy="4595760"/>
          </a:xfrm>
          <a:prstGeom prst="rect">
            <a:avLst/>
          </a:prstGeom>
          <a:ln w="0">
            <a:noFill/>
          </a:ln>
        </p:spPr>
      </p:pic>
      <p:sp>
        <p:nvSpPr>
          <p:cNvPr id="1053" name=""/>
          <p:cNvSpPr/>
          <p:nvPr/>
        </p:nvSpPr>
        <p:spPr>
          <a:xfrm flipH="1" flipV="1">
            <a:off x="2209320" y="1142640"/>
            <a:ext cx="2133720" cy="2133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949680" y="228600"/>
            <a:ext cx="7414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Gravitational  effect  from  ingoing  objects</a:t>
            </a:r>
            <a:r>
              <a:rPr b="0" lang="nl-NL" sz="36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3214800" y="2133720"/>
            <a:ext cx="3124080" cy="2971800"/>
            <a:chOff x="3214800" y="2133720"/>
            <a:chExt cx="3124080" cy="2971800"/>
          </a:xfrm>
        </p:grpSpPr>
        <p:sp>
          <p:nvSpPr>
            <p:cNvPr id="1056" name=""/>
            <p:cNvSpPr/>
            <p:nvPr/>
          </p:nvSpPr>
          <p:spPr>
            <a:xfrm flipV="1">
              <a:off x="3214800" y="2133720"/>
              <a:ext cx="2819160" cy="281952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3367080" y="2286000"/>
              <a:ext cx="2819520" cy="281952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3747960" y="2438640"/>
              <a:ext cx="2590920" cy="259056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4628520" y="2057400"/>
            <a:ext cx="119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Unicode MS"/>
              </a:rPr>
              <a:t>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Unicode MS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191120" y="3657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809360" y="83808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00"/>
                            </p:stCondLst>
                            <p:childTnLst>
                              <p:par>
                                <p:cTn id="10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838080" y="838080"/>
            <a:ext cx="723924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38080" y="3124080"/>
            <a:ext cx="723924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5" name=""/>
          <p:cNvGraphicFramePr/>
          <p:nvPr/>
        </p:nvGraphicFramePr>
        <p:xfrm>
          <a:off x="1292400" y="1063800"/>
          <a:ext cx="6311880" cy="35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2400" y="1063800"/>
                    <a:ext cx="6311880" cy="35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7" name=""/>
          <p:cNvSpPr/>
          <p:nvPr/>
        </p:nvSpPr>
        <p:spPr>
          <a:xfrm flipV="1">
            <a:off x="2971800" y="4724280"/>
            <a:ext cx="0" cy="9144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4952880" y="4724280"/>
            <a:ext cx="0" cy="9144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609480" y="762120"/>
            <a:ext cx="78487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09480" y="1676520"/>
            <a:ext cx="78487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743200"/>
            <a:ext cx="78487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9480" y="3657600"/>
            <a:ext cx="78487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09480" y="4572000"/>
            <a:ext cx="784872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4" name=""/>
          <p:cNvGraphicFramePr/>
          <p:nvPr/>
        </p:nvGraphicFramePr>
        <p:xfrm>
          <a:off x="1217520" y="1055520"/>
          <a:ext cx="3237120" cy="63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7520" y="1055520"/>
                    <a:ext cx="323712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6" name=""/>
          <p:cNvGraphicFramePr/>
          <p:nvPr/>
        </p:nvGraphicFramePr>
        <p:xfrm>
          <a:off x="885960" y="1893960"/>
          <a:ext cx="7267320" cy="76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5960" y="1893960"/>
                    <a:ext cx="72673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8" name=""/>
          <p:cNvGraphicFramePr/>
          <p:nvPr/>
        </p:nvGraphicFramePr>
        <p:xfrm>
          <a:off x="1287360" y="2946240"/>
          <a:ext cx="6505560" cy="1397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87360" y="2946240"/>
                    <a:ext cx="650556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"/>
          <p:cNvGraphicFramePr/>
          <p:nvPr/>
        </p:nvGraphicFramePr>
        <p:xfrm>
          <a:off x="689040" y="4876920"/>
          <a:ext cx="7769160" cy="1307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9040" y="4876920"/>
                    <a:ext cx="776916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2" name=""/>
          <p:cNvSpPr/>
          <p:nvPr/>
        </p:nvSpPr>
        <p:spPr>
          <a:xfrm>
            <a:off x="609480" y="290520"/>
            <a:ext cx="7848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rategy:  infinitesimal  modification  of  in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755640" y="2852640"/>
            <a:ext cx="7488360" cy="1656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84360" y="4653000"/>
            <a:ext cx="7704000" cy="165564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755640" y="1700280"/>
            <a:ext cx="7488360" cy="100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609480" y="76320"/>
            <a:ext cx="7848720" cy="1904760"/>
          </a:xfrm>
          <a:prstGeom prst="rect">
            <a:avLst/>
          </a:prstGeom>
          <a:solidFill>
            <a:srgbClr val="f3f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09480" y="76320"/>
            <a:ext cx="7848720" cy="19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09480" y="1905120"/>
            <a:ext cx="7848720" cy="914400"/>
          </a:xfrm>
          <a:prstGeom prst="rect">
            <a:avLst/>
          </a:prstGeom>
          <a:solidFill>
            <a:srgbClr val="f3f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09480" y="2819520"/>
            <a:ext cx="7848720" cy="914400"/>
          </a:xfrm>
          <a:prstGeom prst="rect">
            <a:avLst/>
          </a:prstGeom>
          <a:solidFill>
            <a:srgbClr val="f3f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09480" y="3733920"/>
            <a:ext cx="7848720" cy="2057400"/>
          </a:xfrm>
          <a:prstGeom prst="rect">
            <a:avLst/>
          </a:prstGeom>
          <a:solidFill>
            <a:srgbClr val="f3f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09480" y="5781600"/>
            <a:ext cx="7848720" cy="914400"/>
          </a:xfrm>
          <a:prstGeom prst="rect">
            <a:avLst/>
          </a:prstGeom>
          <a:solidFill>
            <a:srgbClr val="f3f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76320" y="76320"/>
            <a:ext cx="8915400" cy="67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698400" y="436680"/>
          <a:ext cx="7607520" cy="132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8400" y="436680"/>
                    <a:ext cx="76075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5" name=""/>
          <p:cNvGraphicFramePr/>
          <p:nvPr/>
        </p:nvGraphicFramePr>
        <p:xfrm>
          <a:off x="644400" y="2214720"/>
          <a:ext cx="7813800" cy="144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4400" y="2214720"/>
                    <a:ext cx="78138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7" name=""/>
          <p:cNvSpPr/>
          <p:nvPr/>
        </p:nvSpPr>
        <p:spPr>
          <a:xfrm>
            <a:off x="2845080" y="6067440"/>
            <a:ext cx="49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a  string  theory  amplitude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797480" y="606744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Unicode MS"/>
              </a:rPr>
              <a:t>n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802080" y="2252520"/>
            <a:ext cx="31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 Unicode MS"/>
              </a:rPr>
              <a:t>Repeat 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0" name=""/>
          <p:cNvGraphicFramePr/>
          <p:nvPr/>
        </p:nvGraphicFramePr>
        <p:xfrm>
          <a:off x="990720" y="4073400"/>
          <a:ext cx="7142040" cy="1524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90720" y="4073400"/>
                    <a:ext cx="71420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2" name=""/>
          <p:cNvSpPr/>
          <p:nvPr/>
        </p:nvSpPr>
        <p:spPr>
          <a:xfrm>
            <a:off x="684360" y="1989000"/>
            <a:ext cx="7704000" cy="2016360"/>
          </a:xfrm>
          <a:prstGeom prst="rect">
            <a:avLst/>
          </a:prstGeom>
          <a:solidFill>
            <a:srgbClr val="f3f3fb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84360" y="3860640"/>
            <a:ext cx="7704000" cy="2016360"/>
          </a:xfrm>
          <a:prstGeom prst="rect">
            <a:avLst/>
          </a:prstGeom>
          <a:solidFill>
            <a:srgbClr val="f3f3fb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84360" y="5877000"/>
            <a:ext cx="7704000" cy="647640"/>
          </a:xfrm>
          <a:prstGeom prst="rect">
            <a:avLst/>
          </a:prstGeom>
          <a:solidFill>
            <a:srgbClr val="f3f3fb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828800" y="4724280"/>
            <a:ext cx="990720" cy="9907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66880" y="4724280"/>
            <a:ext cx="990720" cy="9907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228600" y="2743200"/>
            <a:ext cx="8534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28600" y="914400"/>
            <a:ext cx="85345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28600" y="1924200"/>
            <a:ext cx="853452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28600" y="3429000"/>
            <a:ext cx="8534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28600" y="4191120"/>
            <a:ext cx="85345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28600" y="4952880"/>
            <a:ext cx="8534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28600" y="5638680"/>
            <a:ext cx="8534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087720" y="304920"/>
            <a:ext cx="298476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Horizon 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5" name=""/>
          <p:cNvGraphicFramePr/>
          <p:nvPr/>
        </p:nvGraphicFramePr>
        <p:xfrm>
          <a:off x="343080" y="1092240"/>
          <a:ext cx="8297640" cy="525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080" y="1092240"/>
                    <a:ext cx="829764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7" name=""/>
          <p:cNvSpPr/>
          <p:nvPr/>
        </p:nvSpPr>
        <p:spPr>
          <a:xfrm>
            <a:off x="324000" y="1989000"/>
            <a:ext cx="8280360" cy="79236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95280" y="2852640"/>
            <a:ext cx="8280360" cy="79236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24000" y="3573360"/>
            <a:ext cx="8280360" cy="71928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24000" y="4292640"/>
            <a:ext cx="8280360" cy="72072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24000" y="5013360"/>
            <a:ext cx="8280360" cy="72072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95280" y="5732640"/>
            <a:ext cx="8280360" cy="72072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380880" y="990720"/>
            <a:ext cx="8458200" cy="1218960"/>
          </a:xfrm>
          <a:prstGeom prst="rect">
            <a:avLst/>
          </a:prstGeom>
          <a:solidFill>
            <a:srgbClr val="f3f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4" name=""/>
          <p:cNvGraphicFramePr/>
          <p:nvPr/>
        </p:nvGraphicFramePr>
        <p:xfrm>
          <a:off x="6400800" y="1131840"/>
          <a:ext cx="1422360" cy="10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1131840"/>
                    <a:ext cx="142236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6" name=""/>
          <p:cNvSpPr/>
          <p:nvPr/>
        </p:nvSpPr>
        <p:spPr>
          <a:xfrm>
            <a:off x="380880" y="152280"/>
            <a:ext cx="8458200" cy="914400"/>
          </a:xfrm>
          <a:prstGeom prst="rect">
            <a:avLst/>
          </a:prstGeom>
          <a:solidFill>
            <a:srgbClr val="f3f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666880" y="4162320"/>
            <a:ext cx="1600200" cy="457200"/>
          </a:xfrm>
          <a:prstGeom prst="rect">
            <a:avLst/>
          </a:prstGeom>
          <a:solidFill>
            <a:srgbClr val="f3f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191120" y="3505320"/>
            <a:ext cx="3886200" cy="1752480"/>
          </a:xfrm>
          <a:prstGeom prst="rect">
            <a:avLst/>
          </a:prstGeom>
          <a:solidFill>
            <a:srgbClr val="f3f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480560" y="5943600"/>
            <a:ext cx="1652760" cy="459720"/>
          </a:xfrm>
          <a:prstGeom prst="rect">
            <a:avLst/>
          </a:prstGeom>
          <a:solidFill>
            <a:srgbClr val="f3f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 Unicode MS"/>
              </a:rPr>
              <a:t>very  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481640" y="2362320"/>
            <a:ext cx="1480680" cy="459720"/>
          </a:xfrm>
          <a:prstGeom prst="rect">
            <a:avLst/>
          </a:prstGeom>
          <a:solidFill>
            <a:srgbClr val="f3f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very 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2377800" y="1905120"/>
            <a:ext cx="2438280" cy="2514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378160" y="4419720"/>
            <a:ext cx="243828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1920600" y="3886200"/>
            <a:ext cx="2895480" cy="27432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2023920" y="2504880"/>
            <a:ext cx="2286000" cy="23619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316240" y="4295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433160" y="336708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 Unicode MS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492200" y="487188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Unicode MS"/>
              </a:rPr>
              <a:t>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8" name=""/>
          <p:cNvGraphicFramePr/>
          <p:nvPr/>
        </p:nvGraphicFramePr>
        <p:xfrm>
          <a:off x="2749680" y="4162320"/>
          <a:ext cx="151740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9680" y="4162320"/>
                    <a:ext cx="1517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0" name=""/>
          <p:cNvGrpSpPr/>
          <p:nvPr/>
        </p:nvGrpSpPr>
        <p:grpSpPr>
          <a:xfrm>
            <a:off x="4495680" y="3581280"/>
            <a:ext cx="3194280" cy="1557000"/>
            <a:chOff x="4495680" y="3581280"/>
            <a:chExt cx="3194280" cy="1557000"/>
          </a:xfrm>
        </p:grpSpPr>
        <p:sp>
          <p:nvSpPr>
            <p:cNvPr id="1141" name=""/>
            <p:cNvSpPr/>
            <p:nvPr/>
          </p:nvSpPr>
          <p:spPr>
            <a:xfrm>
              <a:off x="4611960" y="3581280"/>
              <a:ext cx="307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S-matrix  Ansatz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Qu. Gr.  gives  us 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boundary  cond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42" name=""/>
            <p:cNvGraphicFramePr/>
            <p:nvPr/>
          </p:nvGraphicFramePr>
          <p:xfrm>
            <a:off x="4495680" y="3629160"/>
            <a:ext cx="466920" cy="1501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4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495680" y="3629160"/>
                      <a:ext cx="466920" cy="15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44" name=""/>
          <p:cNvSpPr/>
          <p:nvPr/>
        </p:nvSpPr>
        <p:spPr>
          <a:xfrm>
            <a:off x="378000" y="196920"/>
            <a:ext cx="848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But,  our  algebra  does  not  generate  the  area  law. 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we  be  more  precise?  Transverse  gravit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6227640" y="1125360"/>
            <a:ext cx="2305080" cy="1008360"/>
          </a:xfrm>
          <a:prstGeom prst="rect">
            <a:avLst/>
          </a:prstGeom>
          <a:solidFill>
            <a:srgbClr val="f3f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66480" y="1093680"/>
            <a:ext cx="58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w,  let  us  look  at  the  con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rom  the  Standard  Model 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5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6500"/>
                            </p:stCondLst>
                            <p:childTnLst>
                              <p:par>
                                <p:cTn id="120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884240"/>
            <a:ext cx="548640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4692600"/>
            <a:ext cx="548640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The  Universal  Force  Law: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49360" y="2189160"/>
          <a:ext cx="5146560" cy="13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9360" y="2189160"/>
                    <a:ext cx="514656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85800" y="3726000"/>
            <a:ext cx="472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 Unicode MS"/>
              </a:rPr>
              <a:t>Gravi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5280" y="4954680"/>
          <a:ext cx="5308560" cy="13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4954680"/>
                    <a:ext cx="53085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" name=""/>
          <p:cNvGrpSpPr/>
          <p:nvPr/>
        </p:nvGrpSpPr>
        <p:grpSpPr>
          <a:xfrm>
            <a:off x="5943600" y="1295280"/>
            <a:ext cx="3124080" cy="4724640"/>
            <a:chOff x="5943600" y="1295280"/>
            <a:chExt cx="3124080" cy="4724640"/>
          </a:xfrm>
        </p:grpSpPr>
        <p:sp>
          <p:nvSpPr>
            <p:cNvPr id="94" name=""/>
            <p:cNvSpPr/>
            <p:nvPr/>
          </p:nvSpPr>
          <p:spPr>
            <a:xfrm>
              <a:off x="5943600" y="1295280"/>
              <a:ext cx="0" cy="472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43600" y="601992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323040" y="1055520"/>
            <a:ext cx="2755800" cy="4829400"/>
          </a:xfrm>
          <a:custGeom>
            <a:avLst/>
            <a:gdLst/>
            <a:ahLst/>
            <a:rect l="l" t="t" r="r" b="b"/>
            <a:pathLst>
              <a:path w="1736" h="3042">
                <a:moveTo>
                  <a:pt x="0" y="0"/>
                </a:moveTo>
                <a:cubicBezTo>
                  <a:pt x="37" y="285"/>
                  <a:pt x="119" y="1283"/>
                  <a:pt x="219" y="1720"/>
                </a:cubicBezTo>
                <a:cubicBezTo>
                  <a:pt x="319" y="2157"/>
                  <a:pt x="441" y="2413"/>
                  <a:pt x="601" y="2621"/>
                </a:cubicBezTo>
                <a:cubicBezTo>
                  <a:pt x="761" y="2829"/>
                  <a:pt x="988" y="2899"/>
                  <a:pt x="1177" y="2969"/>
                </a:cubicBezTo>
                <a:cubicBezTo>
                  <a:pt x="1366" y="3039"/>
                  <a:pt x="1620" y="3027"/>
                  <a:pt x="1736" y="3042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2360" y="595800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24280" y="14479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 Unicode MS"/>
              </a:rPr>
              <a:t>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907920"/>
            <a:ext cx="472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Maxwell  &amp;  Y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" descr=""/>
          <p:cNvPicPr/>
          <p:nvPr/>
        </p:nvPicPr>
        <p:blipFill>
          <a:blip r:embed="rId2"/>
          <a:stretch/>
        </p:blipFill>
        <p:spPr>
          <a:xfrm>
            <a:off x="3419640" y="836640"/>
            <a:ext cx="5113080" cy="511344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>
            <a:off x="642600" y="1052640"/>
            <a:ext cx="228240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Unicode MS"/>
              </a:rPr>
              <a:t>It  all 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Unicode MS"/>
              </a:rPr>
              <a:t>at  the  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Unicode MS"/>
              </a:rPr>
              <a:t>of  Ri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Unicode MS"/>
              </a:rPr>
              <a:t>Sp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250920" y="2997360"/>
            <a:ext cx="2952720" cy="2952720"/>
            <a:chOff x="250920" y="2997360"/>
            <a:chExt cx="2952720" cy="2952720"/>
          </a:xfrm>
        </p:grpSpPr>
        <p:sp>
          <p:nvSpPr>
            <p:cNvPr id="1150" name=""/>
            <p:cNvSpPr/>
            <p:nvPr/>
          </p:nvSpPr>
          <p:spPr>
            <a:xfrm>
              <a:off x="250920" y="2997360"/>
              <a:ext cx="2952720" cy="29527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51" name=""/>
            <p:cNvGraphicFramePr/>
            <p:nvPr/>
          </p:nvGraphicFramePr>
          <p:xfrm>
            <a:off x="617040" y="3278520"/>
            <a:ext cx="2317680" cy="2460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7040" y="3278520"/>
                      <a:ext cx="2317680" cy="246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7" dur="4000" fill="hold"/>
                                        <p:tgtEl>
                                          <p:spTgt spid="1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7" restart="whenNotActive" nodeType="interactiveSeq" fill="hold">
                <p:stCondLst>
                  <p:cond evt="onClick">
                    <p:tgtEl>
                      <p:spTgt spid="1147"/>
                    </p:tgtEl>
                  </p:cond>
                </p:stCondLst>
                <p:childTnLst>
                  <p:par>
                    <p:cTn id="1238" fill="hold">
                      <p:stCondLst>
                        <p:cond evt="onClick">
                          <p:tgtEl>
                            <p:spTgt spid="1147"/>
                          </p:tgtEl>
                        </p:cond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41" dur="1" fill="hold"/>
                                        <p:tgtEl>
                                          <p:spTgt spid="1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3" name=""/>
          <p:cNvGrpSpPr/>
          <p:nvPr/>
        </p:nvGrpSpPr>
        <p:grpSpPr>
          <a:xfrm>
            <a:off x="4275000" y="1413000"/>
            <a:ext cx="504720" cy="3631320"/>
            <a:chOff x="4275000" y="1413000"/>
            <a:chExt cx="504720" cy="3631320"/>
          </a:xfrm>
        </p:grpSpPr>
        <p:sp>
          <p:nvSpPr>
            <p:cNvPr id="1154" name=""/>
            <p:cNvSpPr/>
            <p:nvPr/>
          </p:nvSpPr>
          <p:spPr>
            <a:xfrm>
              <a:off x="4453920" y="3114720"/>
              <a:ext cx="102240" cy="73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4275000" y="1413000"/>
              <a:ext cx="504720" cy="3631320"/>
              <a:chOff x="4275000" y="1413000"/>
              <a:chExt cx="504720" cy="3631320"/>
            </a:xfrm>
          </p:grpSpPr>
          <p:pic>
            <p:nvPicPr>
              <p:cNvPr id="11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295880" y="3368520"/>
                <a:ext cx="222840" cy="151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57" name=""/>
              <p:cNvGrpSpPr/>
              <p:nvPr/>
            </p:nvGrpSpPr>
            <p:grpSpPr>
              <a:xfrm>
                <a:off x="4275000" y="1413000"/>
                <a:ext cx="504720" cy="3631320"/>
                <a:chOff x="4275000" y="1413000"/>
                <a:chExt cx="504720" cy="3631320"/>
              </a:xfrm>
            </p:grpSpPr>
            <p:pic>
              <p:nvPicPr>
                <p:cNvPr id="11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557240" y="3246480"/>
                  <a:ext cx="222480" cy="151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95960" y="1413000"/>
                  <a:ext cx="222480" cy="151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10800" y="1848600"/>
                  <a:ext cx="222480" cy="151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516920" y="2408400"/>
                  <a:ext cx="222480" cy="151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275000" y="2529720"/>
                  <a:ext cx="222480" cy="151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395960" y="3525120"/>
                  <a:ext cx="222480" cy="151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355640" y="2251080"/>
                  <a:ext cx="222480" cy="1519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165" name=""/>
          <p:cNvGrpSpPr/>
          <p:nvPr/>
        </p:nvGrpSpPr>
        <p:grpSpPr>
          <a:xfrm>
            <a:off x="2843280" y="1413000"/>
            <a:ext cx="3567600" cy="3640680"/>
            <a:chOff x="2843280" y="1413000"/>
            <a:chExt cx="3567600" cy="3640680"/>
          </a:xfrm>
        </p:grpSpPr>
        <p:sp>
          <p:nvSpPr>
            <p:cNvPr id="1166" name=""/>
            <p:cNvSpPr/>
            <p:nvPr/>
          </p:nvSpPr>
          <p:spPr>
            <a:xfrm>
              <a:off x="4108320" y="3119040"/>
              <a:ext cx="722880" cy="737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7" name=""/>
            <p:cNvGrpSpPr/>
            <p:nvPr/>
          </p:nvGrpSpPr>
          <p:grpSpPr>
            <a:xfrm>
              <a:off x="2843280" y="1413000"/>
              <a:ext cx="3567600" cy="3640680"/>
              <a:chOff x="2843280" y="1413000"/>
              <a:chExt cx="3567600" cy="3640680"/>
            </a:xfrm>
          </p:grpSpPr>
          <p:pic>
            <p:nvPicPr>
              <p:cNvPr id="116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991240" y="3373560"/>
                <a:ext cx="1574280" cy="1523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9" name=""/>
              <p:cNvGrpSpPr/>
              <p:nvPr/>
            </p:nvGrpSpPr>
            <p:grpSpPr>
              <a:xfrm>
                <a:off x="2843280" y="1413000"/>
                <a:ext cx="3567600" cy="3640680"/>
                <a:chOff x="2843280" y="1413000"/>
                <a:chExt cx="3567600" cy="3640680"/>
              </a:xfrm>
            </p:grpSpPr>
            <p:pic>
              <p:nvPicPr>
                <p:cNvPr id="117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837680" y="3251160"/>
                  <a:ext cx="1573200" cy="1523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697920" y="1413000"/>
                  <a:ext cx="1573200" cy="1523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4510800" y="1849680"/>
                  <a:ext cx="1573200" cy="1523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4552560" y="2410920"/>
                  <a:ext cx="1573200" cy="1523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843280" y="2532600"/>
                  <a:ext cx="1573200" cy="1523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697920" y="3530520"/>
                  <a:ext cx="1573200" cy="1523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413880" y="2253240"/>
                  <a:ext cx="1571760" cy="152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177" name=""/>
          <p:cNvGrpSpPr/>
          <p:nvPr/>
        </p:nvGrpSpPr>
        <p:grpSpPr>
          <a:xfrm>
            <a:off x="4211640" y="1484280"/>
            <a:ext cx="504720" cy="3529080"/>
            <a:chOff x="4211640" y="1484280"/>
            <a:chExt cx="504720" cy="3529080"/>
          </a:xfrm>
        </p:grpSpPr>
        <p:sp>
          <p:nvSpPr>
            <p:cNvPr id="1178" name=""/>
            <p:cNvSpPr/>
            <p:nvPr/>
          </p:nvSpPr>
          <p:spPr>
            <a:xfrm>
              <a:off x="4394160" y="3219480"/>
              <a:ext cx="104400" cy="738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9" name=""/>
            <p:cNvGrpSpPr/>
            <p:nvPr/>
          </p:nvGrpSpPr>
          <p:grpSpPr>
            <a:xfrm>
              <a:off x="4211640" y="1484280"/>
              <a:ext cx="504720" cy="3529080"/>
              <a:chOff x="4211640" y="1484280"/>
              <a:chExt cx="504720" cy="3529080"/>
            </a:xfrm>
          </p:grpSpPr>
          <p:pic>
            <p:nvPicPr>
              <p:cNvPr id="1180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271040" y="3489480"/>
                <a:ext cx="226800" cy="1523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81" name=""/>
              <p:cNvGrpSpPr/>
              <p:nvPr/>
            </p:nvGrpSpPr>
            <p:grpSpPr>
              <a:xfrm>
                <a:off x="4211640" y="1484280"/>
                <a:ext cx="504720" cy="3529080"/>
                <a:chOff x="4211640" y="1484280"/>
                <a:chExt cx="504720" cy="3529080"/>
              </a:xfrm>
            </p:grpSpPr>
            <p:pic>
              <p:nvPicPr>
                <p:cNvPr id="118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4373640" y="1484280"/>
                  <a:ext cx="227160" cy="1522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4478760" y="2121120"/>
                  <a:ext cx="227160" cy="1523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4248720" y="1844640"/>
                  <a:ext cx="226800" cy="1524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4362840" y="2511360"/>
                  <a:ext cx="226800" cy="1524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4211640" y="2633760"/>
                  <a:ext cx="227160" cy="1523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4489200" y="3213000"/>
                  <a:ext cx="227160" cy="1524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394160" y="3489480"/>
                  <a:ext cx="227160" cy="1523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189" name=""/>
          <p:cNvGrpSpPr/>
          <p:nvPr/>
        </p:nvGrpSpPr>
        <p:grpSpPr>
          <a:xfrm>
            <a:off x="4211640" y="1413000"/>
            <a:ext cx="504720" cy="3631320"/>
            <a:chOff x="4211640" y="1413000"/>
            <a:chExt cx="504720" cy="3631320"/>
          </a:xfrm>
        </p:grpSpPr>
        <p:sp>
          <p:nvSpPr>
            <p:cNvPr id="1190" name=""/>
            <p:cNvSpPr/>
            <p:nvPr/>
          </p:nvSpPr>
          <p:spPr>
            <a:xfrm>
              <a:off x="4390560" y="3114720"/>
              <a:ext cx="102240" cy="73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"/>
            <p:cNvGrpSpPr/>
            <p:nvPr/>
          </p:nvGrpSpPr>
          <p:grpSpPr>
            <a:xfrm>
              <a:off x="4211640" y="1413000"/>
              <a:ext cx="504720" cy="3631320"/>
              <a:chOff x="4211640" y="1413000"/>
              <a:chExt cx="504720" cy="3631320"/>
            </a:xfrm>
          </p:grpSpPr>
          <p:pic>
            <p:nvPicPr>
              <p:cNvPr id="1192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4232520" y="3368520"/>
                <a:ext cx="222480" cy="151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93" name=""/>
              <p:cNvGrpSpPr/>
              <p:nvPr/>
            </p:nvGrpSpPr>
            <p:grpSpPr>
              <a:xfrm>
                <a:off x="4211640" y="1413000"/>
                <a:ext cx="504720" cy="3631320"/>
                <a:chOff x="4211640" y="1413000"/>
                <a:chExt cx="504720" cy="3631320"/>
              </a:xfrm>
            </p:grpSpPr>
            <p:pic>
              <p:nvPicPr>
                <p:cNvPr id="119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4493880" y="3246480"/>
                  <a:ext cx="222480" cy="151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332240" y="1413000"/>
                  <a:ext cx="222480" cy="151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6" name="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4447440" y="1848600"/>
                  <a:ext cx="222480" cy="151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7" name="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4453200" y="2408400"/>
                  <a:ext cx="222480" cy="151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8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4211640" y="2529720"/>
                  <a:ext cx="222480" cy="151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9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4332240" y="3525120"/>
                  <a:ext cx="222480" cy="151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0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292280" y="2251080"/>
                  <a:ext cx="222120" cy="1519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201" name=""/>
          <p:cNvGrpSpPr/>
          <p:nvPr/>
        </p:nvGrpSpPr>
        <p:grpSpPr>
          <a:xfrm>
            <a:off x="1332000" y="1197000"/>
            <a:ext cx="6553080" cy="4403880"/>
            <a:chOff x="1332000" y="1197000"/>
            <a:chExt cx="6553080" cy="4403880"/>
          </a:xfrm>
        </p:grpSpPr>
        <p:grpSp>
          <p:nvGrpSpPr>
            <p:cNvPr id="1202" name=""/>
            <p:cNvGrpSpPr/>
            <p:nvPr/>
          </p:nvGrpSpPr>
          <p:grpSpPr>
            <a:xfrm>
              <a:off x="7020000" y="1197000"/>
              <a:ext cx="865080" cy="4376880"/>
              <a:chOff x="7020000" y="1197000"/>
              <a:chExt cx="865080" cy="4376880"/>
            </a:xfrm>
          </p:grpSpPr>
          <p:pic>
            <p:nvPicPr>
              <p:cNvPr id="1203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7380360" y="3573360"/>
                <a:ext cx="422280" cy="152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093080" y="1197000"/>
                <a:ext cx="360360" cy="15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5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7524720" y="4076640"/>
                <a:ext cx="360360" cy="149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6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7093080" y="3429000"/>
                <a:ext cx="323640" cy="142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7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7020000" y="2133720"/>
                <a:ext cx="422280" cy="15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8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7524720" y="2060640"/>
                <a:ext cx="360360" cy="1523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09" name=""/>
            <p:cNvGrpSpPr/>
            <p:nvPr/>
          </p:nvGrpSpPr>
          <p:grpSpPr>
            <a:xfrm>
              <a:off x="1332000" y="1197000"/>
              <a:ext cx="863640" cy="4403880"/>
              <a:chOff x="1332000" y="1197000"/>
              <a:chExt cx="863640" cy="4403880"/>
            </a:xfrm>
          </p:grpSpPr>
          <p:pic>
            <p:nvPicPr>
              <p:cNvPr id="1210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1474920" y="3500280"/>
                <a:ext cx="422280" cy="152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1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1547640" y="1197000"/>
                <a:ext cx="360360" cy="15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2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1332000" y="2060640"/>
                <a:ext cx="30312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3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1871640" y="1844640"/>
                <a:ext cx="324000" cy="142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4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1690560" y="4076640"/>
                <a:ext cx="422280" cy="152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5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1619280" y="2625840"/>
                <a:ext cx="360360" cy="1523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16" name=""/>
          <p:cNvGrpSpPr/>
          <p:nvPr/>
        </p:nvGrpSpPr>
        <p:grpSpPr>
          <a:xfrm>
            <a:off x="4465800" y="0"/>
            <a:ext cx="2132640" cy="6858000"/>
            <a:chOff x="4465800" y="0"/>
            <a:chExt cx="2132640" cy="6858000"/>
          </a:xfrm>
        </p:grpSpPr>
        <p:sp>
          <p:nvSpPr>
            <p:cNvPr id="1217" name=""/>
            <p:cNvSpPr/>
            <p:nvPr/>
          </p:nvSpPr>
          <p:spPr>
            <a:xfrm>
              <a:off x="4465800" y="0"/>
              <a:ext cx="0" cy="685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468680" y="5564160"/>
              <a:ext cx="212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2-d  surfa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7" dur="2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228600" y="1371600"/>
            <a:ext cx="853452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28600" y="2886120"/>
            <a:ext cx="853452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1" name=""/>
          <p:cNvGraphicFramePr/>
          <p:nvPr/>
        </p:nvGraphicFramePr>
        <p:xfrm>
          <a:off x="7794720" y="1077840"/>
          <a:ext cx="377640" cy="4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94720" y="1077840"/>
                    <a:ext cx="377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3" name=""/>
          <p:cNvGraphicFramePr/>
          <p:nvPr/>
        </p:nvGraphicFramePr>
        <p:xfrm>
          <a:off x="7812000" y="2276640"/>
          <a:ext cx="37800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12000" y="2276640"/>
                    <a:ext cx="378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5" name=""/>
          <p:cNvSpPr/>
          <p:nvPr/>
        </p:nvSpPr>
        <p:spPr>
          <a:xfrm>
            <a:off x="228600" y="3657600"/>
            <a:ext cx="85345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28600" y="5029200"/>
            <a:ext cx="85345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947880" y="152280"/>
            <a:ext cx="7302240" cy="947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 Standard  Model  Contribution  to 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Horizon  Algebra.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  The 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1) 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8" name=""/>
          <p:cNvGraphicFramePr/>
          <p:nvPr/>
        </p:nvGraphicFramePr>
        <p:xfrm>
          <a:off x="276120" y="1830240"/>
          <a:ext cx="8506080" cy="450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6120" y="1830240"/>
                    <a:ext cx="8506080" cy="45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0" name=""/>
          <p:cNvSpPr/>
          <p:nvPr/>
        </p:nvSpPr>
        <p:spPr>
          <a:xfrm>
            <a:off x="395280" y="2205000"/>
            <a:ext cx="7201080" cy="79236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50920" y="2997360"/>
            <a:ext cx="8497800" cy="79200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24000" y="3657600"/>
            <a:ext cx="8280360" cy="57636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24000" y="4365720"/>
            <a:ext cx="8280360" cy="57600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24000" y="5157720"/>
            <a:ext cx="8280360" cy="57636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324000" y="5516640"/>
            <a:ext cx="8280360" cy="79380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7020000" y="1125000"/>
            <a:ext cx="865080" cy="1727640"/>
            <a:chOff x="7020000" y="1125000"/>
            <a:chExt cx="865080" cy="1727640"/>
          </a:xfrm>
        </p:grpSpPr>
        <p:sp>
          <p:nvSpPr>
            <p:cNvPr id="1237" name=""/>
            <p:cNvSpPr/>
            <p:nvPr/>
          </p:nvSpPr>
          <p:spPr>
            <a:xfrm>
              <a:off x="7020000" y="1989000"/>
              <a:ext cx="865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7020000" y="1125000"/>
              <a:ext cx="865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"/>
          <p:cNvSpPr/>
          <p:nvPr/>
        </p:nvSpPr>
        <p:spPr>
          <a:xfrm flipH="1" flipV="1">
            <a:off x="6851160" y="1738080"/>
            <a:ext cx="1079640" cy="10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5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5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0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5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0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5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324000" y="333360"/>
            <a:ext cx="8496000" cy="59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04920" y="371520"/>
            <a:ext cx="8534160" cy="1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304920" y="1371600"/>
            <a:ext cx="8299440" cy="19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04920" y="3276720"/>
            <a:ext cx="8515080" cy="15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304920" y="4800600"/>
            <a:ext cx="8534160" cy="14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5" name=""/>
          <p:cNvGraphicFramePr/>
          <p:nvPr/>
        </p:nvGraphicFramePr>
        <p:xfrm>
          <a:off x="606600" y="552600"/>
          <a:ext cx="821340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6600" y="552600"/>
                    <a:ext cx="821340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7" name=""/>
          <p:cNvSpPr/>
          <p:nvPr/>
        </p:nvSpPr>
        <p:spPr>
          <a:xfrm>
            <a:off x="468360" y="1341360"/>
            <a:ext cx="8351640" cy="86364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68360" y="2060640"/>
            <a:ext cx="8351640" cy="72072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68360" y="2708280"/>
            <a:ext cx="8351640" cy="72072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68360" y="3429000"/>
            <a:ext cx="8280360" cy="60156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68360" y="4149720"/>
            <a:ext cx="8280360" cy="64764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68360" y="4869000"/>
            <a:ext cx="8280360" cy="64764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95280" y="5589720"/>
            <a:ext cx="8280360" cy="64764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7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2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2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7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2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324000" y="907920"/>
            <a:ext cx="8496000" cy="505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04920" y="1614600"/>
            <a:ext cx="8534160" cy="9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04920" y="2452680"/>
            <a:ext cx="853416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04920" y="3048120"/>
            <a:ext cx="8534160" cy="761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04920" y="3747960"/>
            <a:ext cx="853416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04920" y="4281480"/>
            <a:ext cx="853416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04920" y="5043600"/>
            <a:ext cx="8534160" cy="761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1" name=""/>
          <p:cNvGraphicFramePr/>
          <p:nvPr/>
        </p:nvGraphicFramePr>
        <p:xfrm>
          <a:off x="1720800" y="1843200"/>
          <a:ext cx="5613480" cy="37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20800" y="1843200"/>
                    <a:ext cx="5613480" cy="37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3" name=""/>
          <p:cNvSpPr/>
          <p:nvPr/>
        </p:nvSpPr>
        <p:spPr>
          <a:xfrm>
            <a:off x="395280" y="1832040"/>
            <a:ext cx="8280360" cy="647640"/>
          </a:xfrm>
          <a:prstGeom prst="rect">
            <a:avLst/>
          </a:prstGeom>
          <a:solidFill>
            <a:srgbClr val="ffff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468360" y="2565360"/>
            <a:ext cx="8280360" cy="706320"/>
          </a:xfrm>
          <a:prstGeom prst="rect">
            <a:avLst/>
          </a:prstGeom>
          <a:solidFill>
            <a:srgbClr val="ffff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395280" y="3141720"/>
            <a:ext cx="8280360" cy="647640"/>
          </a:xfrm>
          <a:prstGeom prst="rect">
            <a:avLst/>
          </a:prstGeom>
          <a:solidFill>
            <a:srgbClr val="ffff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468360" y="3860640"/>
            <a:ext cx="8280360" cy="648000"/>
          </a:xfrm>
          <a:prstGeom prst="rect">
            <a:avLst/>
          </a:prstGeom>
          <a:solidFill>
            <a:srgbClr val="ffff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468360" y="4543560"/>
            <a:ext cx="8280360" cy="576000"/>
          </a:xfrm>
          <a:prstGeom prst="rect">
            <a:avLst/>
          </a:prstGeom>
          <a:solidFill>
            <a:srgbClr val="ffff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95280" y="5157720"/>
            <a:ext cx="8280360" cy="576360"/>
          </a:xfrm>
          <a:prstGeom prst="rect">
            <a:avLst/>
          </a:prstGeom>
          <a:solidFill>
            <a:srgbClr val="ffff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415200" y="762120"/>
            <a:ext cx="1143000" cy="8380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38480" y="923760"/>
            <a:ext cx="83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 role  of  the  Standard  Model’s  scalar 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0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5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0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5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0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537480" y="1484280"/>
            <a:ext cx="2459160" cy="1373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calar  fiel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cts  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quantum  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2" name="" descr=""/>
          <p:cNvPicPr/>
          <p:nvPr/>
        </p:nvPicPr>
        <p:blipFill>
          <a:blip r:embed="rId2"/>
          <a:stretch/>
        </p:blipFill>
        <p:spPr>
          <a:xfrm>
            <a:off x="3516480" y="333360"/>
            <a:ext cx="4800600" cy="454356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/>
          <p:nvPr/>
        </p:nvSpPr>
        <p:spPr>
          <a:xfrm>
            <a:off x="898200" y="5300640"/>
            <a:ext cx="7174440" cy="825480"/>
          </a:xfrm>
          <a:prstGeom prst="rect">
            <a:avLst/>
          </a:prstGeom>
          <a:solidFill>
            <a:srgbClr val="f3f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t  generates  a  modification  in  the  vector 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304920" y="3352680"/>
            <a:ext cx="853416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04920" y="380880"/>
            <a:ext cx="8534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304920" y="1219320"/>
            <a:ext cx="85341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04920" y="1828800"/>
            <a:ext cx="85341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04920" y="2514600"/>
            <a:ext cx="8534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04920" y="4419720"/>
            <a:ext cx="853416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0" name=""/>
          <p:cNvGraphicFramePr/>
          <p:nvPr/>
        </p:nvGraphicFramePr>
        <p:xfrm>
          <a:off x="1036800" y="609480"/>
          <a:ext cx="6984720" cy="275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6800" y="609480"/>
                    <a:ext cx="698472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2" name=""/>
          <p:cNvGrpSpPr/>
          <p:nvPr/>
        </p:nvGrpSpPr>
        <p:grpSpPr>
          <a:xfrm>
            <a:off x="912960" y="4572000"/>
            <a:ext cx="7695000" cy="1557000"/>
            <a:chOff x="912960" y="4572000"/>
            <a:chExt cx="7695000" cy="1557000"/>
          </a:xfrm>
        </p:grpSpPr>
        <p:graphicFrame>
          <p:nvGraphicFramePr>
            <p:cNvPr id="1283" name=""/>
            <p:cNvGraphicFramePr/>
            <p:nvPr/>
          </p:nvGraphicFramePr>
          <p:xfrm>
            <a:off x="912960" y="4689360"/>
            <a:ext cx="5548320" cy="1406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912960" y="4689360"/>
                      <a:ext cx="5548320" cy="14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5" name=""/>
            <p:cNvSpPr/>
            <p:nvPr/>
          </p:nvSpPr>
          <p:spPr>
            <a:xfrm>
              <a:off x="6345360" y="4572000"/>
              <a:ext cx="2262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are  as  the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(Euclidea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quantum  exp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val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"/>
          <p:cNvSpPr/>
          <p:nvPr/>
        </p:nvSpPr>
        <p:spPr>
          <a:xfrm>
            <a:off x="468360" y="1268280"/>
            <a:ext cx="8280360" cy="57636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68360" y="1916280"/>
            <a:ext cx="8280360" cy="57600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68360" y="2637000"/>
            <a:ext cx="8280360" cy="86328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973440" y="3720960"/>
            <a:ext cx="61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 average  values  of  the  scalar  fie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68360" y="4437000"/>
            <a:ext cx="8280360" cy="187164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4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9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4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228600" y="1371600"/>
            <a:ext cx="8686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228600" y="1981080"/>
            <a:ext cx="8686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28600" y="2438280"/>
            <a:ext cx="8686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228600" y="2847960"/>
            <a:ext cx="8686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228600" y="3352680"/>
            <a:ext cx="86868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28600" y="4191120"/>
            <a:ext cx="868680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-23760" y="1600200"/>
            <a:ext cx="9169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-  What  is  the  effect  of  Standard  Model  </a:t>
            </a:r>
            <a:r>
              <a:rPr b="0" lang="en-US" sz="2800" spc="-1" strike="noStrike">
                <a:solidFill>
                  <a:srgbClr val="cc0000"/>
                </a:solidFill>
                <a:latin typeface="Arial Unicode MS"/>
              </a:rPr>
              <a:t>fermion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-  How  do  we  handle  </a:t>
            </a:r>
            <a:r>
              <a:rPr b="0" lang="en-US" sz="2800" spc="-1" strike="noStrike">
                <a:solidFill>
                  <a:srgbClr val="cc0000"/>
                </a:solidFill>
                <a:latin typeface="Arial Unicode MS"/>
              </a:rPr>
              <a:t>non-Abelia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vector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-  What  is  the  effect  of  the  </a:t>
            </a:r>
            <a:r>
              <a:rPr b="0" lang="en-US" sz="2800" spc="-1" strike="noStrike">
                <a:solidFill>
                  <a:srgbClr val="cc0000"/>
                </a:solidFill>
                <a:latin typeface="Arial Unicode MS"/>
              </a:rPr>
              <a:t>instanto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angle  </a:t>
            </a:r>
            <a:r>
              <a:rPr b="0" lang="en-US" sz="2800" spc="-1" strike="noStrike">
                <a:solidFill>
                  <a:srgbClr val="cc0000"/>
                </a:solidFill>
                <a:latin typeface="Mathematica1"/>
                <a:ea typeface="Mathematica1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-  What  modifications  of  the  algebra  are 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y  the  </a:t>
            </a:r>
            <a:r>
              <a:rPr b="0" lang="en-US" sz="2800" spc="-1" strike="noStrike">
                <a:solidFill>
                  <a:srgbClr val="cc0000"/>
                </a:solidFill>
                <a:latin typeface="Arial Unicode MS"/>
              </a:rPr>
              <a:t>transverse  grav.  forc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oes  this  allow  for  a  representation  of 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lgebra  with  </a:t>
            </a:r>
            <a:r>
              <a:rPr b="0" lang="en-US" sz="2800" spc="-1" strike="noStrike">
                <a:solidFill>
                  <a:srgbClr val="cc0000"/>
                </a:solidFill>
                <a:latin typeface="Arial Unicode MS"/>
              </a:rPr>
              <a:t>discret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states,  as  suggested 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 entropy – area  la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16080" y="2060640"/>
            <a:ext cx="8577000" cy="43164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98440" y="2552760"/>
            <a:ext cx="8594640" cy="43164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276120" y="2971800"/>
            <a:ext cx="8577360" cy="43164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76120" y="3378240"/>
            <a:ext cx="8589960" cy="43164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89080" y="3789360"/>
            <a:ext cx="8589960" cy="43164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98440" y="4246560"/>
            <a:ext cx="8589960" cy="43164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298440" y="4640400"/>
            <a:ext cx="8589960" cy="43164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285840" y="5097600"/>
            <a:ext cx="8589960" cy="43164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1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6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1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6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4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0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5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500"/>
                            </p:stCondLst>
                            <p:childTnLst>
                              <p:par>
                                <p:cTn id="1458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9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3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228600" y="981000"/>
            <a:ext cx="853452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28600" y="2467080"/>
            <a:ext cx="8534520" cy="29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7960" y="228600"/>
            <a:ext cx="7943760" cy="947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  related  question  that  we  can  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hat  is  the  effect  of  </a:t>
            </a:r>
            <a:r>
              <a:rPr b="0" lang="en-US" sz="2800" spc="-1" strike="noStrike">
                <a:solidFill>
                  <a:srgbClr val="cc0000"/>
                </a:solidFill>
                <a:latin typeface="Arial Unicode MS"/>
              </a:rPr>
              <a:t>magnetic  monopol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9" name=""/>
          <p:cNvGraphicFramePr/>
          <p:nvPr/>
        </p:nvGraphicFramePr>
        <p:xfrm>
          <a:off x="700200" y="1716120"/>
          <a:ext cx="7508880" cy="332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0200" y="1716120"/>
                    <a:ext cx="7508880" cy="33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"/>
          <p:cNvSpPr/>
          <p:nvPr/>
        </p:nvSpPr>
        <p:spPr>
          <a:xfrm>
            <a:off x="1122480" y="5634000"/>
            <a:ext cx="71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has  a  Dirac  string - ambiguity   2 </a:t>
            </a:r>
            <a:r>
              <a:rPr b="0" lang="en-US" sz="28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2" name="" descr=""/>
          <p:cNvPicPr/>
          <p:nvPr/>
        </p:nvPicPr>
        <p:blipFill>
          <a:blip r:embed="rId4"/>
          <a:stretch/>
        </p:blipFill>
        <p:spPr>
          <a:xfrm>
            <a:off x="7162920" y="1219320"/>
            <a:ext cx="18288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313" name=""/>
          <p:cNvGrpSpPr/>
          <p:nvPr/>
        </p:nvGrpSpPr>
        <p:grpSpPr>
          <a:xfrm>
            <a:off x="5651640" y="1390680"/>
            <a:ext cx="1152360" cy="1174320"/>
            <a:chOff x="5651640" y="1390680"/>
            <a:chExt cx="1152360" cy="1174320"/>
          </a:xfrm>
        </p:grpSpPr>
        <p:sp>
          <p:nvSpPr>
            <p:cNvPr id="1314" name=""/>
            <p:cNvSpPr/>
            <p:nvPr/>
          </p:nvSpPr>
          <p:spPr>
            <a:xfrm>
              <a:off x="5651640" y="239868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5651640" y="1822320"/>
              <a:ext cx="35856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16" name=""/>
            <p:cNvGraphicFramePr/>
            <p:nvPr/>
          </p:nvGraphicFramePr>
          <p:xfrm>
            <a:off x="6478560" y="2109600"/>
            <a:ext cx="325440" cy="455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1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78560" y="2109600"/>
                      <a:ext cx="325440" cy="45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8" name=""/>
            <p:cNvGraphicFramePr/>
            <p:nvPr/>
          </p:nvGraphicFramePr>
          <p:xfrm>
            <a:off x="5892840" y="1390680"/>
            <a:ext cx="422280" cy="455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92840" y="1390680"/>
                      <a:ext cx="422280" cy="45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0" name=""/>
            <p:cNvSpPr/>
            <p:nvPr/>
          </p:nvSpPr>
          <p:spPr>
            <a:xfrm>
              <a:off x="5915160" y="1790640"/>
              <a:ext cx="144360" cy="144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372360" y="2325600"/>
              <a:ext cx="144360" cy="144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7620120" y="1689120"/>
            <a:ext cx="1066680" cy="720720"/>
            <a:chOff x="7620120" y="1689120"/>
            <a:chExt cx="1066680" cy="720720"/>
          </a:xfrm>
        </p:grpSpPr>
        <p:sp>
          <p:nvSpPr>
            <p:cNvPr id="1323" name=""/>
            <p:cNvSpPr/>
            <p:nvPr/>
          </p:nvSpPr>
          <p:spPr>
            <a:xfrm>
              <a:off x="7696080" y="1689120"/>
              <a:ext cx="914400" cy="673200"/>
            </a:xfrm>
            <a:custGeom>
              <a:avLst/>
              <a:gdLst/>
              <a:ahLst/>
              <a:rect l="l" t="t" r="r" b="b"/>
              <a:pathLst>
                <a:path w="576" h="424">
                  <a:moveTo>
                    <a:pt x="0" y="88"/>
                  </a:moveTo>
                  <a:cubicBezTo>
                    <a:pt x="44" y="44"/>
                    <a:pt x="88" y="0"/>
                    <a:pt x="144" y="40"/>
                  </a:cubicBezTo>
                  <a:cubicBezTo>
                    <a:pt x="200" y="80"/>
                    <a:pt x="264" y="264"/>
                    <a:pt x="336" y="328"/>
                  </a:cubicBezTo>
                  <a:cubicBezTo>
                    <a:pt x="408" y="392"/>
                    <a:pt x="492" y="408"/>
                    <a:pt x="576" y="42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620120" y="1752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534520" y="2257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6" name=""/>
          <p:cNvSpPr/>
          <p:nvPr/>
        </p:nvSpPr>
        <p:spPr>
          <a:xfrm>
            <a:off x="7395840" y="1838160"/>
            <a:ext cx="4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8289720" y="23432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71520" y="3081240"/>
            <a:ext cx="6983280" cy="68112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736560" y="3716280"/>
            <a:ext cx="7651800" cy="68112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84360" y="4414680"/>
            <a:ext cx="7651440" cy="68112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52360" y="2362320"/>
            <a:ext cx="6407280" cy="68076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6588000" y="5229360"/>
            <a:ext cx="2556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252360" y="1700280"/>
            <a:ext cx="6407280" cy="68112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486400" y="2073240"/>
            <a:ext cx="57420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92" y="482"/>
                </a:moveTo>
                <a:arcTo wR="10800" hR="10800" stAng="-4368665" swAng="4427069"/>
                <a:lnTo>
                  <a:pt x="10800" y="10800"/>
                </a:lnTo>
                <a:close/>
              </a:path>
              <a:path fill="none" w="21600" h="21600">
                <a:moveTo>
                  <a:pt x="13992" y="482"/>
                </a:moveTo>
                <a:arcTo wR="10800" hR="10800" stAng="-4368665" swAng="4427069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921280" y="1900080"/>
            <a:ext cx="5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508720" y="1452600"/>
            <a:ext cx="1224000" cy="10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0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5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48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500"/>
                            </p:stCondLst>
                            <p:childTnLst>
                              <p:par>
                                <p:cTn id="148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8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2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6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2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228600" y="692280"/>
            <a:ext cx="853452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" y="2178000"/>
            <a:ext cx="8534520" cy="294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228600" y="5121360"/>
            <a:ext cx="8534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0" name=""/>
          <p:cNvGraphicFramePr/>
          <p:nvPr/>
        </p:nvGraphicFramePr>
        <p:xfrm>
          <a:off x="700200" y="946080"/>
          <a:ext cx="7508880" cy="428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0200" y="946080"/>
                    <a:ext cx="7508880" cy="42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2" name=""/>
          <p:cNvSpPr/>
          <p:nvPr/>
        </p:nvSpPr>
        <p:spPr>
          <a:xfrm>
            <a:off x="1122480" y="5345280"/>
            <a:ext cx="71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has  a  Dirac  string - ambiguity   2 </a:t>
            </a:r>
            <a:r>
              <a:rPr b="0" lang="en-US" sz="28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71520" y="2314440"/>
            <a:ext cx="6983280" cy="68112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88000" y="4940280"/>
            <a:ext cx="2556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468360" y="3141720"/>
            <a:ext cx="7488360" cy="68112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39640" y="3860640"/>
            <a:ext cx="6983640" cy="68112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755640" y="4549680"/>
            <a:ext cx="6983280" cy="68112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044720" y="5268960"/>
            <a:ext cx="6983280" cy="68112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523" dur="indefinite" restart="never" nodeType="tmRoot">
          <p:childTnLst>
            <p:seq>
              <p:cTn id="1524" dur="indefinite" nodeType="mainSeq">
                <p:childTnLst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2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7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2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7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2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692280" y="3495600"/>
            <a:ext cx="2192040" cy="1498680"/>
            <a:chOff x="692280" y="3495600"/>
            <a:chExt cx="2192040" cy="149868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1911240" y="3495600"/>
              <a:ext cx="54000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flipH="1">
              <a:off x="692280" y="3950280"/>
              <a:ext cx="12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17f89"/>
                  </a:solidFill>
                  <a:latin typeface="Times New Roman"/>
                </a:rPr>
                <a:t>pho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3" name=""/>
            <p:cNvGraphicFramePr/>
            <p:nvPr/>
          </p:nvGraphicFramePr>
          <p:xfrm>
            <a:off x="2486160" y="3959280"/>
            <a:ext cx="398160" cy="530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86160" y="3959280"/>
                      <a:ext cx="398160" cy="5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5" name=""/>
          <p:cNvGrpSpPr/>
          <p:nvPr/>
        </p:nvGrpSpPr>
        <p:grpSpPr>
          <a:xfrm>
            <a:off x="5273280" y="3506760"/>
            <a:ext cx="2252880" cy="1484280"/>
            <a:chOff x="5273280" y="3506760"/>
            <a:chExt cx="2252880" cy="1484280"/>
          </a:xfrm>
        </p:grpSpPr>
        <p:pic>
          <p:nvPicPr>
            <p:cNvPr id="106" name="" descr=""/>
            <p:cNvPicPr/>
            <p:nvPr/>
          </p:nvPicPr>
          <p:blipFill>
            <a:blip r:embed="rId5"/>
            <a:stretch/>
          </p:blipFill>
          <p:spPr>
            <a:xfrm>
              <a:off x="6515280" y="3506760"/>
              <a:ext cx="55080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flipH="1">
              <a:off x="5272920" y="3954960"/>
              <a:ext cx="124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17f89"/>
                  </a:solidFill>
                  <a:latin typeface="Times New Roman"/>
                </a:rPr>
                <a:t>gravi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8" name=""/>
            <p:cNvGraphicFramePr/>
            <p:nvPr/>
          </p:nvGraphicFramePr>
          <p:xfrm>
            <a:off x="7086600" y="3965400"/>
            <a:ext cx="439560" cy="5256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86600" y="3965400"/>
                      <a:ext cx="43956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0" name=""/>
          <p:cNvSpPr/>
          <p:nvPr/>
        </p:nvSpPr>
        <p:spPr>
          <a:xfrm>
            <a:off x="0" y="152280"/>
            <a:ext cx="4419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The  Pho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1280" y="103176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5560" y="102384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60360" y="2590200"/>
            <a:ext cx="3678120" cy="923040"/>
            <a:chOff x="360360" y="2590200"/>
            <a:chExt cx="3678120" cy="923040"/>
          </a:xfrm>
        </p:grpSpPr>
        <p:sp>
          <p:nvSpPr>
            <p:cNvPr id="114" name=""/>
            <p:cNvSpPr/>
            <p:nvPr/>
          </p:nvSpPr>
          <p:spPr>
            <a:xfrm>
              <a:off x="934920" y="3076560"/>
              <a:ext cx="1255680" cy="43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74760" y="3058920"/>
              <a:ext cx="1258920" cy="453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360360" y="2590200"/>
              <a:ext cx="525600" cy="663480"/>
              <a:chOff x="360360" y="2590200"/>
              <a:chExt cx="525600" cy="6634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360360" y="2611080"/>
                <a:ext cx="525600" cy="642600"/>
                <a:chOff x="360360" y="2611080"/>
                <a:chExt cx="525600" cy="64260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0360" y="2652120"/>
                  <a:ext cx="525600" cy="55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374400" y="2611080"/>
                  <a:ext cx="459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36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382680" y="2590200"/>
                <a:ext cx="48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36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3513240" y="2590200"/>
              <a:ext cx="525240" cy="663480"/>
              <a:chOff x="3513240" y="2590200"/>
              <a:chExt cx="525240" cy="66348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3513240" y="2611080"/>
                <a:ext cx="525240" cy="642600"/>
                <a:chOff x="3513240" y="2611080"/>
                <a:chExt cx="525240" cy="642600"/>
              </a:xfrm>
            </p:grpSpPr>
            <p:pic>
              <p:nvPicPr>
                <p:cNvPr id="1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513240" y="2652120"/>
                  <a:ext cx="525240" cy="55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" name=""/>
                <p:cNvSpPr/>
                <p:nvPr/>
              </p:nvSpPr>
              <p:spPr>
                <a:xfrm>
                  <a:off x="3527280" y="2611080"/>
                  <a:ext cx="459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36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3535560" y="2590200"/>
                <a:ext cx="483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36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442800" y="4962600"/>
            <a:ext cx="3602160" cy="834120"/>
            <a:chOff x="442800" y="4962600"/>
            <a:chExt cx="3602160" cy="834120"/>
          </a:xfrm>
        </p:grpSpPr>
        <p:sp>
          <p:nvSpPr>
            <p:cNvPr id="127" name=""/>
            <p:cNvSpPr/>
            <p:nvPr/>
          </p:nvSpPr>
          <p:spPr>
            <a:xfrm flipV="1">
              <a:off x="1038240" y="4962600"/>
              <a:ext cx="1149480" cy="4190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82680" y="4962600"/>
              <a:ext cx="1251000" cy="407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519360" y="5128560"/>
              <a:ext cx="525600" cy="663480"/>
              <a:chOff x="3519360" y="5128560"/>
              <a:chExt cx="525600" cy="6634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3519360" y="5149440"/>
                <a:ext cx="525600" cy="642600"/>
                <a:chOff x="3519360" y="5149440"/>
                <a:chExt cx="525600" cy="642600"/>
              </a:xfrm>
            </p:grpSpPr>
            <p:pic>
              <p:nvPicPr>
                <p:cNvPr id="13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519360" y="5190480"/>
                  <a:ext cx="525600" cy="55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2" name=""/>
                <p:cNvSpPr/>
                <p:nvPr/>
              </p:nvSpPr>
              <p:spPr>
                <a:xfrm>
                  <a:off x="3533400" y="5149440"/>
                  <a:ext cx="459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36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3541680" y="5128560"/>
                <a:ext cx="48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36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42800" y="5133240"/>
              <a:ext cx="525600" cy="663480"/>
              <a:chOff x="442800" y="5133240"/>
              <a:chExt cx="525600" cy="66348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442800" y="5154120"/>
                <a:ext cx="525600" cy="642600"/>
                <a:chOff x="442800" y="5154120"/>
                <a:chExt cx="525600" cy="642600"/>
              </a:xfrm>
            </p:grpSpPr>
            <p:pic>
              <p:nvPicPr>
                <p:cNvPr id="13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42800" y="5195160"/>
                  <a:ext cx="525600" cy="55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"/>
                <p:cNvSpPr/>
                <p:nvPr/>
              </p:nvSpPr>
              <p:spPr>
                <a:xfrm>
                  <a:off x="456840" y="5154120"/>
                  <a:ext cx="459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36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465120" y="5133240"/>
                <a:ext cx="48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36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5057640" y="2590200"/>
            <a:ext cx="3597480" cy="932400"/>
            <a:chOff x="5057640" y="2590200"/>
            <a:chExt cx="3597480" cy="932400"/>
          </a:xfrm>
        </p:grpSpPr>
        <p:sp>
          <p:nvSpPr>
            <p:cNvPr id="140" name=""/>
            <p:cNvSpPr/>
            <p:nvPr/>
          </p:nvSpPr>
          <p:spPr>
            <a:xfrm>
              <a:off x="5638680" y="3124080"/>
              <a:ext cx="1160640" cy="398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783480" y="3073320"/>
              <a:ext cx="1287360" cy="449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8129520" y="2590200"/>
              <a:ext cx="525600" cy="663480"/>
              <a:chOff x="8129520" y="2590200"/>
              <a:chExt cx="525600" cy="66348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8129520" y="2611080"/>
                <a:ext cx="525600" cy="642600"/>
                <a:chOff x="8129520" y="2611080"/>
                <a:chExt cx="525600" cy="642600"/>
              </a:xfrm>
            </p:grpSpPr>
            <p:pic>
              <p:nvPicPr>
                <p:cNvPr id="14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29520" y="2652120"/>
                  <a:ext cx="525600" cy="55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>
                  <a:off x="8143560" y="2611080"/>
                  <a:ext cx="459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36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8151840" y="2590200"/>
                <a:ext cx="48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36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057640" y="2590200"/>
              <a:ext cx="525600" cy="663480"/>
              <a:chOff x="5057640" y="2590200"/>
              <a:chExt cx="525600" cy="66348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5057640" y="2611080"/>
                <a:ext cx="525600" cy="642600"/>
                <a:chOff x="5057640" y="2611080"/>
                <a:chExt cx="525600" cy="642600"/>
              </a:xfrm>
            </p:grpSpPr>
            <p:pic>
              <p:nvPicPr>
                <p:cNvPr id="14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057640" y="2652120"/>
                  <a:ext cx="525600" cy="55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" name=""/>
                <p:cNvSpPr/>
                <p:nvPr/>
              </p:nvSpPr>
              <p:spPr>
                <a:xfrm>
                  <a:off x="5071680" y="2611080"/>
                  <a:ext cx="459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36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5079960" y="2590200"/>
                <a:ext cx="48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36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" name=""/>
          <p:cNvGrpSpPr/>
          <p:nvPr/>
        </p:nvGrpSpPr>
        <p:grpSpPr>
          <a:xfrm>
            <a:off x="5037120" y="4959000"/>
            <a:ext cx="3627360" cy="880560"/>
            <a:chOff x="5037120" y="4959000"/>
            <a:chExt cx="3627360" cy="880560"/>
          </a:xfrm>
        </p:grpSpPr>
        <p:sp>
          <p:nvSpPr>
            <p:cNvPr id="153" name=""/>
            <p:cNvSpPr/>
            <p:nvPr/>
          </p:nvSpPr>
          <p:spPr>
            <a:xfrm flipV="1">
              <a:off x="5624640" y="4959000"/>
              <a:ext cx="1172880" cy="414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92840" y="4959360"/>
              <a:ext cx="1278000" cy="403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5037120" y="5137920"/>
              <a:ext cx="525600" cy="663480"/>
              <a:chOff x="5037120" y="5137920"/>
              <a:chExt cx="525600" cy="66348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5037120" y="5158800"/>
                <a:ext cx="525600" cy="642600"/>
                <a:chOff x="5037120" y="5158800"/>
                <a:chExt cx="525600" cy="642600"/>
              </a:xfrm>
            </p:grpSpPr>
            <p:pic>
              <p:nvPicPr>
                <p:cNvPr id="15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037120" y="5199840"/>
                  <a:ext cx="525600" cy="55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>
                  <a:off x="5051160" y="5158800"/>
                  <a:ext cx="459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36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5059440" y="5137920"/>
                <a:ext cx="48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36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8139240" y="5176080"/>
              <a:ext cx="525240" cy="663480"/>
              <a:chOff x="8139240" y="5176080"/>
              <a:chExt cx="525240" cy="66348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8139240" y="5196960"/>
                <a:ext cx="525240" cy="642600"/>
                <a:chOff x="8139240" y="5196960"/>
                <a:chExt cx="525240" cy="64260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139240" y="5238000"/>
                  <a:ext cx="525240" cy="55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3" name=""/>
                <p:cNvSpPr/>
                <p:nvPr/>
              </p:nvSpPr>
              <p:spPr>
                <a:xfrm>
                  <a:off x="8153280" y="5196960"/>
                  <a:ext cx="459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36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8161560" y="5176080"/>
                <a:ext cx="483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36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>
            <a:off x="707760" y="1641600"/>
            <a:ext cx="2893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  charges  repe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 another 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51480" y="1630440"/>
            <a:ext cx="2827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  masses  at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 another 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70160" y="152280"/>
            <a:ext cx="37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The  Gravi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6" action="ppaction://hlinksldjump"/>
          </p:cNvPr>
          <p:cNvSpPr/>
          <p:nvPr/>
        </p:nvSpPr>
        <p:spPr>
          <a:xfrm>
            <a:off x="8515080" y="616572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179280" y="533520"/>
            <a:ext cx="8534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79280" y="1338120"/>
            <a:ext cx="8534520" cy="11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79280" y="2514600"/>
            <a:ext cx="85345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79280" y="3733920"/>
            <a:ext cx="8534520" cy="286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156360" y="3141720"/>
            <a:ext cx="2519280" cy="1297080"/>
          </a:xfrm>
          <a:prstGeom prst="rect">
            <a:avLst/>
          </a:prstGeom>
          <a:solidFill>
            <a:srgbClr val="ffff00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4" name=""/>
          <p:cNvGraphicFramePr/>
          <p:nvPr/>
        </p:nvGraphicFramePr>
        <p:xfrm>
          <a:off x="6442200" y="3716280"/>
          <a:ext cx="1801800" cy="4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42200" y="3716280"/>
                    <a:ext cx="18018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6" name=""/>
          <p:cNvGraphicFramePr/>
          <p:nvPr/>
        </p:nvGraphicFramePr>
        <p:xfrm>
          <a:off x="438120" y="476280"/>
          <a:ext cx="8237520" cy="601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8120" y="476280"/>
                    <a:ext cx="8237520" cy="60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8" name=""/>
          <p:cNvGraphicFramePr/>
          <p:nvPr/>
        </p:nvGraphicFramePr>
        <p:xfrm>
          <a:off x="5724360" y="4897440"/>
          <a:ext cx="2162520" cy="12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24360" y="4897440"/>
                    <a:ext cx="216252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0" name=""/>
          <p:cNvSpPr/>
          <p:nvPr/>
        </p:nvSpPr>
        <p:spPr>
          <a:xfrm>
            <a:off x="324000" y="1125360"/>
            <a:ext cx="7489800" cy="89712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68360" y="1844640"/>
            <a:ext cx="7416720" cy="76680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50920" y="2421000"/>
            <a:ext cx="7399080" cy="79200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50920" y="3068640"/>
            <a:ext cx="6030720" cy="93672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50920" y="4076640"/>
            <a:ext cx="5905440" cy="100800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50920" y="4508640"/>
            <a:ext cx="5310000" cy="79200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50920" y="5229360"/>
            <a:ext cx="5310000" cy="129528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580000" y="4724280"/>
            <a:ext cx="2521080" cy="151308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908680" y="3068640"/>
            <a:ext cx="2808360" cy="144144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0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9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3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8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3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8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3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8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3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8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828720" y="2060640"/>
            <a:ext cx="7704000" cy="2226960"/>
          </a:xfrm>
          <a:prstGeom prst="rect">
            <a:avLst/>
          </a:prstGeom>
          <a:solidFill>
            <a:srgbClr val="f3f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A  non-Abelian  gauge  theory  may  now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  treated  in  its  Cartan  subalgebr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where  the  diagonal  components  of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lectric  and  magnetic  charges 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well-def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0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6" dur="3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0" name=""/>
          <p:cNvGrpSpPr/>
          <p:nvPr/>
        </p:nvGrpSpPr>
        <p:grpSpPr>
          <a:xfrm>
            <a:off x="-3332520" y="2826360"/>
            <a:ext cx="9234360" cy="9520200"/>
            <a:chOff x="-3332520" y="2826360"/>
            <a:chExt cx="9234360" cy="9520200"/>
          </a:xfrm>
        </p:grpSpPr>
        <p:sp>
          <p:nvSpPr>
            <p:cNvPr id="1371" name=""/>
            <p:cNvSpPr/>
            <p:nvPr/>
          </p:nvSpPr>
          <p:spPr>
            <a:xfrm rot="21008400">
              <a:off x="-2681280" y="3444840"/>
              <a:ext cx="7931880" cy="82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135" y="334"/>
                  </a:moveTo>
                  <a:arcTo wR="10800" hR="10800" stAng="-6257206" swAng="6257206"/>
                  <a:lnTo>
                    <a:pt x="10800" y="10800"/>
                  </a:lnTo>
                  <a:close/>
                </a:path>
                <a:path fill="none" w="21600" h="21600">
                  <a:moveTo>
                    <a:pt x="8135" y="334"/>
                  </a:moveTo>
                  <a:arcTo wR="10800" hR="10800" stAng="-6257206" swAng="6257206"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2" name="" descr=""/>
            <p:cNvPicPr/>
            <p:nvPr/>
          </p:nvPicPr>
          <p:blipFill>
            <a:blip r:embed="rId2"/>
            <a:stretch/>
          </p:blipFill>
          <p:spPr>
            <a:xfrm>
              <a:off x="4730760" y="5813280"/>
              <a:ext cx="46656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" descr=""/>
            <p:cNvPicPr/>
            <p:nvPr/>
          </p:nvPicPr>
          <p:blipFill>
            <a:blip r:embed="rId3"/>
            <a:stretch/>
          </p:blipFill>
          <p:spPr>
            <a:xfrm>
              <a:off x="3635280" y="4202280"/>
              <a:ext cx="46692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4"/>
            <a:stretch/>
          </p:blipFill>
          <p:spPr>
            <a:xfrm>
              <a:off x="2771640" y="3639960"/>
              <a:ext cx="4669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" descr=""/>
            <p:cNvPicPr/>
            <p:nvPr/>
          </p:nvPicPr>
          <p:blipFill>
            <a:blip r:embed="rId5"/>
            <a:stretch/>
          </p:blipFill>
          <p:spPr>
            <a:xfrm>
              <a:off x="2449440" y="3467160"/>
              <a:ext cx="46692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6" name="" descr=""/>
            <p:cNvPicPr/>
            <p:nvPr/>
          </p:nvPicPr>
          <p:blipFill>
            <a:blip r:embed="rId6"/>
            <a:stretch/>
          </p:blipFill>
          <p:spPr>
            <a:xfrm>
              <a:off x="2138400" y="3381480"/>
              <a:ext cx="4665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" descr=""/>
            <p:cNvPicPr/>
            <p:nvPr/>
          </p:nvPicPr>
          <p:blipFill>
            <a:blip r:embed="rId7"/>
            <a:stretch/>
          </p:blipFill>
          <p:spPr>
            <a:xfrm>
              <a:off x="971640" y="3262320"/>
              <a:ext cx="4665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8" name="" descr=""/>
            <p:cNvPicPr/>
            <p:nvPr/>
          </p:nvPicPr>
          <p:blipFill>
            <a:blip r:embed="rId8"/>
            <a:stretch/>
          </p:blipFill>
          <p:spPr>
            <a:xfrm>
              <a:off x="3376440" y="3965400"/>
              <a:ext cx="4669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9" name="" descr=""/>
            <p:cNvPicPr/>
            <p:nvPr/>
          </p:nvPicPr>
          <p:blipFill>
            <a:blip r:embed="rId9"/>
            <a:stretch/>
          </p:blipFill>
          <p:spPr>
            <a:xfrm>
              <a:off x="3132000" y="3827520"/>
              <a:ext cx="46692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0" name="" descr=""/>
            <p:cNvPicPr/>
            <p:nvPr/>
          </p:nvPicPr>
          <p:blipFill>
            <a:blip r:embed="rId10"/>
            <a:stretch/>
          </p:blipFill>
          <p:spPr>
            <a:xfrm>
              <a:off x="576360" y="3262320"/>
              <a:ext cx="4665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1" name="" descr=""/>
            <p:cNvPicPr/>
            <p:nvPr/>
          </p:nvPicPr>
          <p:blipFill>
            <a:blip r:embed="rId11"/>
            <a:stretch/>
          </p:blipFill>
          <p:spPr>
            <a:xfrm>
              <a:off x="250920" y="3262320"/>
              <a:ext cx="4665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2" name="" descr=""/>
            <p:cNvPicPr/>
            <p:nvPr/>
          </p:nvPicPr>
          <p:blipFill>
            <a:blip r:embed="rId12"/>
            <a:stretch/>
          </p:blipFill>
          <p:spPr>
            <a:xfrm>
              <a:off x="-108000" y="3305160"/>
              <a:ext cx="4669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3" name="" descr=""/>
            <p:cNvPicPr/>
            <p:nvPr/>
          </p:nvPicPr>
          <p:blipFill>
            <a:blip r:embed="rId13"/>
            <a:stretch/>
          </p:blipFill>
          <p:spPr>
            <a:xfrm>
              <a:off x="1763640" y="3262320"/>
              <a:ext cx="46692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4" name="" descr=""/>
            <p:cNvPicPr/>
            <p:nvPr/>
          </p:nvPicPr>
          <p:blipFill>
            <a:blip r:embed="rId14"/>
            <a:stretch/>
          </p:blipFill>
          <p:spPr>
            <a:xfrm>
              <a:off x="1403280" y="3262320"/>
              <a:ext cx="46692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5" name=""/>
            <p:cNvSpPr/>
            <p:nvPr/>
          </p:nvSpPr>
          <p:spPr>
            <a:xfrm>
              <a:off x="-36360" y="4432320"/>
              <a:ext cx="1368360" cy="249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6" name="" descr=""/>
            <p:cNvPicPr/>
            <p:nvPr/>
          </p:nvPicPr>
          <p:blipFill>
            <a:blip r:embed="rId15"/>
            <a:stretch/>
          </p:blipFill>
          <p:spPr>
            <a:xfrm>
              <a:off x="4629240" y="5511960"/>
              <a:ext cx="4665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7" name="" descr=""/>
            <p:cNvPicPr/>
            <p:nvPr/>
          </p:nvPicPr>
          <p:blipFill>
            <a:blip r:embed="rId16"/>
            <a:stretch/>
          </p:blipFill>
          <p:spPr>
            <a:xfrm>
              <a:off x="4514760" y="5253120"/>
              <a:ext cx="46692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8" name="" descr=""/>
            <p:cNvPicPr/>
            <p:nvPr/>
          </p:nvPicPr>
          <p:blipFill>
            <a:blip r:embed="rId17"/>
            <a:stretch/>
          </p:blipFill>
          <p:spPr>
            <a:xfrm>
              <a:off x="3894120" y="4444920"/>
              <a:ext cx="4669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9" name="" descr=""/>
            <p:cNvPicPr/>
            <p:nvPr/>
          </p:nvPicPr>
          <p:blipFill>
            <a:blip r:embed="rId18"/>
            <a:stretch/>
          </p:blipFill>
          <p:spPr>
            <a:xfrm>
              <a:off x="4338720" y="5008680"/>
              <a:ext cx="4665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0" name="" descr=""/>
            <p:cNvPicPr/>
            <p:nvPr/>
          </p:nvPicPr>
          <p:blipFill>
            <a:blip r:embed="rId19"/>
            <a:stretch/>
          </p:blipFill>
          <p:spPr>
            <a:xfrm>
              <a:off x="4148280" y="4705200"/>
              <a:ext cx="46656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1" name="" descr=""/>
            <p:cNvPicPr/>
            <p:nvPr/>
          </p:nvPicPr>
          <p:blipFill>
            <a:blip r:embed="rId20"/>
            <a:stretch/>
          </p:blipFill>
          <p:spPr>
            <a:xfrm>
              <a:off x="4932360" y="6515280"/>
              <a:ext cx="4665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21"/>
            <a:stretch/>
          </p:blipFill>
          <p:spPr>
            <a:xfrm>
              <a:off x="4859280" y="6145200"/>
              <a:ext cx="466920" cy="46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3" name="" descr=""/>
          <p:cNvPicPr/>
          <p:nvPr/>
        </p:nvPicPr>
        <p:blipFill>
          <a:blip r:embed="rId22"/>
          <a:stretch/>
        </p:blipFill>
        <p:spPr>
          <a:xfrm>
            <a:off x="1116000" y="1844640"/>
            <a:ext cx="466560" cy="466920"/>
          </a:xfrm>
          <a:prstGeom prst="rect">
            <a:avLst/>
          </a:prstGeom>
          <a:ln w="0">
            <a:noFill/>
          </a:ln>
        </p:spPr>
      </p:pic>
      <p:pic>
        <p:nvPicPr>
          <p:cNvPr id="1394" name="" descr=""/>
          <p:cNvPicPr/>
          <p:nvPr/>
        </p:nvPicPr>
        <p:blipFill>
          <a:blip r:embed="rId23"/>
          <a:stretch/>
        </p:blipFill>
        <p:spPr>
          <a:xfrm>
            <a:off x="8101080" y="2890800"/>
            <a:ext cx="466560" cy="466920"/>
          </a:xfrm>
          <a:prstGeom prst="rect">
            <a:avLst/>
          </a:prstGeom>
          <a:ln w="0">
            <a:noFill/>
          </a:ln>
        </p:spPr>
      </p:pic>
      <p:grpSp>
        <p:nvGrpSpPr>
          <p:cNvPr id="1395" name=""/>
          <p:cNvGrpSpPr/>
          <p:nvPr/>
        </p:nvGrpSpPr>
        <p:grpSpPr>
          <a:xfrm>
            <a:off x="6588000" y="3933720"/>
            <a:ext cx="835200" cy="761760"/>
            <a:chOff x="6588000" y="3933720"/>
            <a:chExt cx="835200" cy="761760"/>
          </a:xfrm>
        </p:grpSpPr>
        <p:pic>
          <p:nvPicPr>
            <p:cNvPr id="1396" name="" descr=""/>
            <p:cNvPicPr/>
            <p:nvPr/>
          </p:nvPicPr>
          <p:blipFill>
            <a:blip r:embed="rId24"/>
            <a:stretch/>
          </p:blipFill>
          <p:spPr>
            <a:xfrm>
              <a:off x="6811920" y="4228920"/>
              <a:ext cx="4665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7" name="" descr=""/>
            <p:cNvPicPr/>
            <p:nvPr/>
          </p:nvPicPr>
          <p:blipFill>
            <a:blip r:embed="rId25"/>
            <a:stretch/>
          </p:blipFill>
          <p:spPr>
            <a:xfrm>
              <a:off x="6588000" y="3933720"/>
              <a:ext cx="4665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" descr=""/>
            <p:cNvPicPr/>
            <p:nvPr/>
          </p:nvPicPr>
          <p:blipFill>
            <a:blip r:embed="rId26"/>
            <a:stretch/>
          </p:blipFill>
          <p:spPr>
            <a:xfrm>
              <a:off x="6956280" y="3974760"/>
              <a:ext cx="466920" cy="46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9" name=""/>
          <p:cNvGrpSpPr/>
          <p:nvPr/>
        </p:nvGrpSpPr>
        <p:grpSpPr>
          <a:xfrm>
            <a:off x="4572000" y="1595520"/>
            <a:ext cx="2195640" cy="2049480"/>
            <a:chOff x="4572000" y="1595520"/>
            <a:chExt cx="2195640" cy="2049480"/>
          </a:xfrm>
        </p:grpSpPr>
        <p:grpSp>
          <p:nvGrpSpPr>
            <p:cNvPr id="1400" name=""/>
            <p:cNvGrpSpPr/>
            <p:nvPr/>
          </p:nvGrpSpPr>
          <p:grpSpPr>
            <a:xfrm>
              <a:off x="4572000" y="1595520"/>
              <a:ext cx="2195640" cy="2049480"/>
              <a:chOff x="4572000" y="1595520"/>
              <a:chExt cx="2195640" cy="2049480"/>
            </a:xfrm>
          </p:grpSpPr>
          <p:sp>
            <p:nvSpPr>
              <p:cNvPr id="1401" name=""/>
              <p:cNvSpPr/>
              <p:nvPr/>
            </p:nvSpPr>
            <p:spPr>
              <a:xfrm>
                <a:off x="4788000" y="1811520"/>
                <a:ext cx="1728720" cy="165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02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10160" y="2198880"/>
                <a:ext cx="466920" cy="46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3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2603520"/>
                <a:ext cx="46692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4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5077080" y="16668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5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5580360" y="3178440"/>
                <a:ext cx="466560" cy="46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6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4716720" y="18828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7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4788000" y="2890800"/>
                <a:ext cx="46692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8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5164200" y="3078360"/>
                <a:ext cx="466920" cy="46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9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508720" y="1595520"/>
                <a:ext cx="46692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0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5797800" y="16668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1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6266160" y="220824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2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6156360" y="2819520"/>
                <a:ext cx="466920" cy="46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3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6301080" y="253044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14" name="" descr=""/>
            <p:cNvPicPr/>
            <p:nvPr/>
          </p:nvPicPr>
          <p:blipFill>
            <a:blip r:embed="rId39"/>
            <a:stretch/>
          </p:blipFill>
          <p:spPr>
            <a:xfrm>
              <a:off x="5904000" y="3108600"/>
              <a:ext cx="46692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" descr=""/>
            <p:cNvPicPr/>
            <p:nvPr/>
          </p:nvPicPr>
          <p:blipFill>
            <a:blip r:embed="rId40"/>
            <a:stretch/>
          </p:blipFill>
          <p:spPr>
            <a:xfrm>
              <a:off x="6156360" y="1920960"/>
              <a:ext cx="466920" cy="46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6" name=""/>
          <p:cNvSpPr/>
          <p:nvPr/>
        </p:nvSpPr>
        <p:spPr>
          <a:xfrm>
            <a:off x="440640" y="306360"/>
            <a:ext cx="74944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articles  and  horizons,  the  hybrid 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2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2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533520" y="223920"/>
            <a:ext cx="7967520" cy="5365800"/>
          </a:xfrm>
          <a:prstGeom prst="rect">
            <a:avLst/>
          </a:prstGeom>
          <a:gradFill rotWithShape="0">
            <a:gsLst>
              <a:gs pos="0">
                <a:srgbClr val="e9b2af"/>
              </a:gs>
              <a:gs pos="50000">
                <a:srgbClr val="fefefe"/>
              </a:gs>
              <a:gs pos="100000">
                <a:srgbClr val="e9b2a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e  intend  to  obtain  the  complete 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elating  the  in-operators  to  the  out-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rom  whatever  Standard  Model  Lagrang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nce  the  rules  are  clear,  we  should 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ble  once  again  to  add  (transversal)  grav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 representation  of  our  algebra  sho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n  respect  the  entropy / area 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 algebra  should  generate  the 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f  quantum  black  hole  dynam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17320" y="5013360"/>
            <a:ext cx="4702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The  black  Hole  Horizon  as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Dynamical  System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 Unicode MS"/>
              </a:rPr>
              <a:t>Int.J.Mod.Phys. </a:t>
            </a:r>
            <a:r>
              <a:rPr b="1" lang="en-US" sz="2400" spc="-1" strike="noStrike">
                <a:solidFill>
                  <a:srgbClr val="990033"/>
                </a:solidFill>
                <a:latin typeface="Arial Unicode MS"/>
              </a:rPr>
              <a:t>D15</a:t>
            </a:r>
            <a:r>
              <a:rPr b="0" lang="en-US" sz="2400" spc="-1" strike="noStrike">
                <a:solidFill>
                  <a:srgbClr val="990033"/>
                </a:solidFill>
                <a:latin typeface="Arial Unicode MS"/>
              </a:rPr>
              <a:t> (2006) 15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earlier  version:  gr-qc/0504120 </a:t>
            </a: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5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500"/>
                            </p:stCondLst>
                            <p:childTnLst>
                              <p:par>
                                <p:cTn id="1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9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 txBox="1"/>
          <p:nvPr/>
        </p:nvSpPr>
        <p:spPr>
          <a:xfrm>
            <a:off x="1258920" y="3105000"/>
            <a:ext cx="640728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ddf0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 END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ddf03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7477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788000" y="3600360"/>
            <a:ext cx="758880" cy="1139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7308720" y="2089080"/>
            <a:ext cx="75888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5651640" y="2881440"/>
            <a:ext cx="758520" cy="1141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4067280" y="4176720"/>
            <a:ext cx="1081080" cy="1065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84640" y="5710320"/>
            <a:ext cx="2881080" cy="1152360"/>
          </a:xfrm>
          <a:prstGeom prst="ellipse">
            <a:avLst/>
          </a:prstGeom>
          <a:solidFill>
            <a:srgbClr val="a9a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31600" y="246240"/>
            <a:ext cx="346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General  Rel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00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6381720"/>
            <a:ext cx="6804000" cy="47628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594240" y="2997360"/>
            <a:ext cx="4395600" cy="1297800"/>
            <a:chOff x="3594240" y="2997360"/>
            <a:chExt cx="4395600" cy="1297800"/>
          </a:xfrm>
        </p:grpSpPr>
        <p:sp>
          <p:nvSpPr>
            <p:cNvPr id="180" name=""/>
            <p:cNvSpPr/>
            <p:nvPr/>
          </p:nvSpPr>
          <p:spPr>
            <a:xfrm rot="10800000">
              <a:off x="3594240" y="2997360"/>
              <a:ext cx="2016000" cy="129528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975360" y="3371760"/>
              <a:ext cx="1014480" cy="923400"/>
              <a:chOff x="6975360" y="3371760"/>
              <a:chExt cx="1014480" cy="923400"/>
            </a:xfrm>
          </p:grpSpPr>
          <p:pic>
            <p:nvPicPr>
              <p:cNvPr id="1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286400" y="3371760"/>
                <a:ext cx="425520" cy="42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6975360" y="3835440"/>
                <a:ext cx="1014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Unicode MS"/>
                  </a:rPr>
                  <a:t>Mo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3564000" y="2971800"/>
            <a:ext cx="2016000" cy="129528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069920" y="3371760"/>
            <a:ext cx="1014480" cy="923400"/>
            <a:chOff x="1069920" y="3371760"/>
            <a:chExt cx="1014480" cy="923400"/>
          </a:xfrm>
        </p:grpSpPr>
        <p:pic>
          <p:nvPicPr>
            <p:cNvPr id="186" name="" descr=""/>
            <p:cNvPicPr/>
            <p:nvPr/>
          </p:nvPicPr>
          <p:blipFill>
            <a:blip r:embed="rId3"/>
            <a:stretch/>
          </p:blipFill>
          <p:spPr>
            <a:xfrm>
              <a:off x="1380960" y="3371760"/>
              <a:ext cx="42552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069920" y="3835440"/>
              <a:ext cx="10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</a:rPr>
                <a:t>Mo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933360" y="483480"/>
            <a:ext cx="1295640" cy="4156920"/>
            <a:chOff x="3933360" y="483480"/>
            <a:chExt cx="1295640" cy="4156920"/>
          </a:xfrm>
        </p:grpSpPr>
        <p:sp>
          <p:nvSpPr>
            <p:cNvPr id="189" name=""/>
            <p:cNvSpPr/>
            <p:nvPr/>
          </p:nvSpPr>
          <p:spPr>
            <a:xfrm rot="5400000">
              <a:off x="3573000" y="2984400"/>
              <a:ext cx="2016360" cy="1295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4094640" y="483480"/>
              <a:ext cx="1031400" cy="949320"/>
              <a:chOff x="4094640" y="483480"/>
              <a:chExt cx="1031400" cy="949320"/>
            </a:xfrm>
          </p:grpSpPr>
          <p:pic>
            <p:nvPicPr>
              <p:cNvPr id="191" name="" descr=""/>
              <p:cNvPicPr/>
              <p:nvPr/>
            </p:nvPicPr>
            <p:blipFill>
              <a:blip r:embed="rId4"/>
              <a:stretch/>
            </p:blipFill>
            <p:spPr>
              <a:xfrm rot="21469200">
                <a:off x="4397400" y="491400"/>
                <a:ext cx="425520" cy="42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 rot="21469200">
                <a:off x="4102920" y="953640"/>
                <a:ext cx="1014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Unicode MS"/>
                  </a:rPr>
                  <a:t>Mo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4133520" y="462744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3780000" y="2817720"/>
            <a:ext cx="1584000" cy="156204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4255560" y="5229360"/>
            <a:ext cx="805680" cy="1592280"/>
            <a:chOff x="4255560" y="5229360"/>
            <a:chExt cx="805680" cy="1592280"/>
          </a:xfrm>
        </p:grpSpPr>
        <p:sp>
          <p:nvSpPr>
            <p:cNvPr id="196" name=""/>
            <p:cNvSpPr/>
            <p:nvPr/>
          </p:nvSpPr>
          <p:spPr>
            <a:xfrm>
              <a:off x="4614840" y="5229360"/>
              <a:ext cx="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55560" y="5996160"/>
              <a:ext cx="80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</a:rPr>
                <a:t>Su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79280" y="5013360"/>
            <a:ext cx="3959280" cy="1511280"/>
            <a:chOff x="179280" y="5013360"/>
            <a:chExt cx="3959280" cy="1511280"/>
          </a:xfrm>
        </p:grpSpPr>
        <p:sp>
          <p:nvSpPr>
            <p:cNvPr id="199" name=""/>
            <p:cNvSpPr/>
            <p:nvPr/>
          </p:nvSpPr>
          <p:spPr>
            <a:xfrm>
              <a:off x="179280" y="5013360"/>
              <a:ext cx="3888000" cy="1440000"/>
            </a:xfrm>
            <a:prstGeom prst="rect">
              <a:avLst/>
            </a:prstGeom>
            <a:solidFill>
              <a:srgbClr val="ebc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682560" y="5156280"/>
              <a:ext cx="2881440" cy="647640"/>
              <a:chOff x="682560" y="5156280"/>
              <a:chExt cx="2881440" cy="647640"/>
            </a:xfrm>
          </p:grpSpPr>
          <p:sp>
            <p:nvSpPr>
              <p:cNvPr id="201" name=""/>
              <p:cNvSpPr/>
              <p:nvPr/>
            </p:nvSpPr>
            <p:spPr>
              <a:xfrm>
                <a:off x="682560" y="5803920"/>
                <a:ext cx="288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122560" y="515628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843280" y="515628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564000" y="515628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2560" y="515628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403280" y="515628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07" name=""/>
            <p:cNvGraphicFramePr/>
            <p:nvPr/>
          </p:nvGraphicFramePr>
          <p:xfrm>
            <a:off x="558720" y="5775480"/>
            <a:ext cx="3579840" cy="749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58720" y="5775480"/>
                      <a:ext cx="357984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9" name=""/>
          <p:cNvSpPr/>
          <p:nvPr/>
        </p:nvSpPr>
        <p:spPr>
          <a:xfrm>
            <a:off x="673200" y="5118120"/>
            <a:ext cx="2895480" cy="1300320"/>
          </a:xfrm>
          <a:custGeom>
            <a:avLst/>
            <a:gdLst/>
            <a:ahLst/>
            <a:rect l="l" t="t" r="r" b="b"/>
            <a:pathLst>
              <a:path w="1824" h="819">
                <a:moveTo>
                  <a:pt x="0" y="50"/>
                </a:moveTo>
                <a:cubicBezTo>
                  <a:pt x="20" y="73"/>
                  <a:pt x="41" y="65"/>
                  <a:pt x="120" y="189"/>
                </a:cubicBezTo>
                <a:cubicBezTo>
                  <a:pt x="199" y="313"/>
                  <a:pt x="344" y="819"/>
                  <a:pt x="475" y="794"/>
                </a:cubicBezTo>
                <a:cubicBezTo>
                  <a:pt x="606" y="769"/>
                  <a:pt x="753" y="40"/>
                  <a:pt x="907" y="40"/>
                </a:cubicBezTo>
                <a:cubicBezTo>
                  <a:pt x="1061" y="40"/>
                  <a:pt x="1259" y="780"/>
                  <a:pt x="1397" y="794"/>
                </a:cubicBezTo>
                <a:cubicBezTo>
                  <a:pt x="1535" y="808"/>
                  <a:pt x="1667" y="254"/>
                  <a:pt x="1738" y="127"/>
                </a:cubicBezTo>
                <a:cubicBezTo>
                  <a:pt x="1809" y="0"/>
                  <a:pt x="1806" y="54"/>
                  <a:pt x="1824" y="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4556160"/>
            <a:ext cx="3888000" cy="459720"/>
          </a:xfrm>
          <a:prstGeom prst="rect">
            <a:avLst/>
          </a:prstGeom>
          <a:solidFill>
            <a:srgbClr val="ebc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rength  of 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63560" y="4653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This  is  the  wave 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of  a  spin  2  p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0480" y="558972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Gravi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4640" y="1347840"/>
            <a:ext cx="35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Force  and  s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3141720"/>
            <a:ext cx="1368360" cy="122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ravity  becomes  more  importa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t  extremely  tiny  distance  scales !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144880" y="2781360"/>
          <a:ext cx="4852800" cy="249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4880" y="2781360"/>
                    <a:ext cx="485280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2090880" y="209556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However,  mass  is  energy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84240"/>
            <a:ext cx="5486400" cy="19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930320" y="312840"/>
          <a:ext cx="5308560" cy="13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30320" y="312840"/>
                    <a:ext cx="53085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u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10:43:45Z</dcterms:created>
  <dc:creator>'t Hooft</dc:creator>
  <dc:description/>
  <dc:language>en-US</dc:language>
  <cp:lastModifiedBy>Gerard 't Hooft</cp:lastModifiedBy>
  <dcterms:modified xsi:type="dcterms:W3CDTF">2008-07-17T10:43:57Z</dcterms:modified>
  <cp:revision>109</cp:revision>
  <dc:subject/>
  <dc:title>Geen diatitel</dc:title>
</cp:coreProperties>
</file>